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25184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© 2003 By Default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6320" y="6645240"/>
            <a:ext cx="487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A Free sample background from www.powerpointbackgrounds.co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" name="etched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076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58"/>
                </a:solidFill>
                <a:latin typeface="Arial"/>
              </a:rPr>
              <a:t>Slide </a:t>
            </a:r>
            <a:fld id="{698F704B-BE98-4518-BF3B-F5E8C1438526}" type="slidenum">
              <a:rPr b="0" lang="en-GB" sz="1400" spc="-1" strike="noStrike">
                <a:solidFill>
                  <a:srgbClr val="00005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90720" y="1981080"/>
            <a:ext cx="7238880" cy="1371600"/>
          </a:xfrm>
          <a:prstGeom prst="rect">
            <a:avLst/>
          </a:prstGeom>
          <a:gradFill rotWithShape="0">
            <a:gsLst>
              <a:gs pos="0">
                <a:srgbClr val="143c65"/>
              </a:gs>
              <a:gs pos="100000">
                <a:srgbClr val="339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133360"/>
            <a:ext cx="6934320" cy="106668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194c7f"/>
              </a:gs>
            </a:gsLst>
            <a:lin ang="13500000"/>
          </a:gradFill>
          <a:ln w="0">
            <a:noFill/>
          </a:ln>
        </p:spPr>
        <p:txBody>
          <a:bodyPr lIns="36000" rIns="36000" tIns="46800" bIns="46800" anchor="ctr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Etched01” Title Slide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lcome to this presentation fr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ww.powerpointbackgrounds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 hope you enjoy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Bullet Lis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use this template first save this presentation u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ile, Save A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n give it a new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n simply copy each page that you need before you edit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 if you need another bullet 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the “Insert” menu ab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“Duplicate Slid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same applies for the Bars, Pies e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Bar Graph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Line Graph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Pie Char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46440" y="1981080"/>
            <a:ext cx="0" cy="175284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28800" y="3048120"/>
            <a:ext cx="5562720" cy="761760"/>
          </a:xfrm>
          <a:custGeom>
            <a:avLst/>
            <a:gdLst/>
            <a:ahLst/>
            <a:rect l="l" t="t" r="r" b="b"/>
            <a:pathLst>
              <a:path w="3504" h="480">
                <a:moveTo>
                  <a:pt x="0" y="432"/>
                </a:moveTo>
                <a:lnTo>
                  <a:pt x="0" y="0"/>
                </a:lnTo>
                <a:lnTo>
                  <a:pt x="3504" y="0"/>
                </a:lnTo>
                <a:lnTo>
                  <a:pt x="3504" y="480"/>
                </a:lnTo>
              </a:path>
            </a:pathLst>
          </a:custGeom>
          <a:noFill/>
          <a:ln w="3816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Diagram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7040" y="1537560"/>
            <a:ext cx="281916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nager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h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8080" y="3442680"/>
            <a:ext cx="198144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ale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3440" y="3442680"/>
            <a:ext cx="228600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eting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eremia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48520" y="3442680"/>
            <a:ext cx="228600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ributio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usti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powerpointbackgrounds.com
Messages do not appear on the full product.</dc:description>
  <dc:language>en-US</dc:language>
  <cp:lastModifiedBy>TAJ Simmons</cp:lastModifiedBy>
  <dcterms:modified xsi:type="dcterms:W3CDTF">2003-01-31T12:58:41Z</dcterms:modified>
  <cp:revision>29</cp:revision>
  <dc:subject/>
  <dc:title>FREE Sample Awesome PowerPoint Background Template</dc:title>
</cp:coreProperties>
</file>