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11804"/>
        <c:axId val="84446743"/>
      </c:barChart>
      <c:catAx>
        <c:axId val="99911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46743"/>
        <c:crosses val="autoZero"/>
        <c:auto val="1"/>
        <c:lblAlgn val="ctr"/>
        <c:lblOffset val="100"/>
        <c:noMultiLvlLbl val="0"/>
      </c:catAx>
      <c:valAx>
        <c:axId val="84446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11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C14C-BED2-42F9-B399-6E68EFBE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0BB-4EB8-4CA1-B96A-D31C7FA8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6E5-447E-4A99-9C72-CC6976B4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CD1-2851-4B90-A283-4499165F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101-E5A7-41C7-98FA-512B070D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77A-0267-408E-A095-D4315EDD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391D-1227-4FB3-9421-6226414E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46E-666B-4EBC-863B-6010C020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E11-5447-4CF1-A662-F610D572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840-0662-49B1-B3C5-3882BDA0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7F3-8124-4C4B-9D28-6A128E16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7245-0660-4A7B-9A2C-7BFA5603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86266-79B3-4328-9F13-2527D59AE5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