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61338"/>
        <c:axId val="93745842"/>
      </c:barChart>
      <c:catAx>
        <c:axId val="8246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5842"/>
        <c:crosses val="autoZero"/>
        <c:auto val="1"/>
        <c:lblAlgn val="ctr"/>
        <c:lblOffset val="100"/>
        <c:noMultiLvlLbl val="0"/>
      </c:catAx>
      <c:valAx>
        <c:axId val="93745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9BB-EF91-4360-BA01-35EF239C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904-CED9-498A-9A83-ED4088A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38B-BFB9-480E-AE2D-7701E54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750-220B-4F43-9942-CAFE2264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C96-0A23-4D73-89C4-FE27CA1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B85-7DFA-4FF2-8CA3-C455C743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E7D-AC65-4C84-8146-7C80EFD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AA9-1C4F-4C71-B5A7-6E404CE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50B-6C39-4440-B1B4-A81AF664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805-AC7E-45E5-9F9B-B66B0C3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86D-64C8-40BA-B1EF-01F55F5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455-50C0-4CCC-AE3A-9BCD1E4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9CDD-CDDB-4FDA-974D-68982DB841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