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60172"/>
        <c:axId val="50819696"/>
      </c:barChart>
      <c:catAx>
        <c:axId val="82560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9696"/>
        <c:crosses val="autoZero"/>
        <c:auto val="1"/>
        <c:lblAlgn val="ctr"/>
        <c:lblOffset val="100"/>
        <c:noMultiLvlLbl val="0"/>
      </c:catAx>
      <c:valAx>
        <c:axId val="50819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0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830-F1EC-4906-BD0F-4F91BEC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18E-EBA1-4D32-9B71-6E23F96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4BB-ABCA-443D-9889-36359DED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6E3-7DD3-414E-9DD9-FBEFF1F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BD5-D8C8-4D70-8682-ED23240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4EA-208D-47E5-A707-B9E83FE4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B43-835C-433A-AAB5-20C78299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A0B-A64B-4D5F-A553-1F0EBB7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7F0-32DA-4352-B1F8-BC6E443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8BB-8AA7-4C83-A07B-AE3177D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713-D2DB-419D-B8E4-8B9D6A7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47A-0711-474C-80FE-F3511F1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3FCC4-648D-462C-BF22-1672DBF17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