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6750"/>
        <c:axId val="85647050"/>
      </c:barChart>
      <c:catAx>
        <c:axId val="27516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7050"/>
        <c:crosses val="autoZero"/>
        <c:auto val="1"/>
        <c:lblAlgn val="ctr"/>
        <c:lblOffset val="100"/>
        <c:noMultiLvlLbl val="0"/>
      </c:catAx>
      <c:valAx>
        <c:axId val="85647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6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A32-2C7C-45AC-B05B-3CB2F949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2FB-CDA7-4EE1-9FB4-CCE5751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EF5-862E-413D-A7C5-CA129F5C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532-C70D-4CB3-B25D-4DE67486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08D-BB4E-4D5B-AD13-00106BF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66C-9824-43E4-935E-9C0E57A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04A-1D70-4A75-8410-4A03EFAA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EF5-0260-40DE-9B8A-73F15BC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EAF-4647-4CA4-BC97-B37A980D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AA4-2CC7-4BC9-99CE-621532D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035-FEBA-4F86-8F06-8C58570C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134-412E-4AC3-B7AE-7E8A1AB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7020B-F057-4316-9020-8EE2CCCA69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