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8906469"/>
        <c:axId val="34371810"/>
      </c:barChart>
      <c:catAx>
        <c:axId val="7890646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371810"/>
        <c:crosses val="autoZero"/>
        <c:auto val="1"/>
        <c:lblAlgn val="ctr"/>
        <c:lblOffset val="100"/>
        <c:noMultiLvlLbl val="0"/>
      </c:catAx>
      <c:valAx>
        <c:axId val="3437181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90646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18AB-950F-4C61-8778-938968D77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C789-FA1E-4000-A6E0-5692491A1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E54B-81BE-472D-804D-0EE417FD7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87C2-C01C-4A4D-990B-34E0AE01A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FF4D-80AF-4E84-AB64-6353FA145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C83E-B300-4CBC-BF84-286237999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16EB-3BAB-4264-8B57-0DB53F34C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24B5-E2DF-40E9-88F0-947C9FC66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913C-9F46-4648-A4B6-151819384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C516-DE77-4435-8A4B-943C6E802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92E6-4B26-43BB-BA7A-4C8DA1898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2744-A8B1-45CB-9205-EF7AF718B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B0989D-66B7-4D68-B3D7-FCD2A3D5BB4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