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09664"/>
        <c:axId val="54371410"/>
      </c:barChart>
      <c:catAx>
        <c:axId val="90509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1410"/>
        <c:crosses val="autoZero"/>
        <c:auto val="1"/>
        <c:lblAlgn val="ctr"/>
        <c:lblOffset val="100"/>
        <c:noMultiLvlLbl val="0"/>
      </c:catAx>
      <c:valAx>
        <c:axId val="54371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09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0C5-0D71-4300-BA89-AC0EF849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CF-D87D-423C-AB63-151A4B4C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98D-14B7-40F6-B820-216297FF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FF9-EAE0-4E54-9E99-12A0D779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71D-F16B-4934-BB99-90462192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B16-B82D-4A82-A269-B38A8B9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282-C403-4C91-A4F7-D3A65628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B2B-EB55-4080-B97A-3EC4071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E0E-C9FE-4108-8AE4-B47BA4A9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FAC-7060-40D8-93AB-B993088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6A5-2113-4B4E-9761-64E6928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7F6-72A7-4489-A421-9B37450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1B62A-C658-4502-9CD4-2CA67DEC4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