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367357"/>
        <c:axId val="61339058"/>
      </c:barChart>
      <c:catAx>
        <c:axId val="173673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339058"/>
        <c:crosses val="autoZero"/>
        <c:auto val="1"/>
        <c:lblAlgn val="ctr"/>
        <c:lblOffset val="100"/>
        <c:noMultiLvlLbl val="0"/>
      </c:catAx>
      <c:valAx>
        <c:axId val="613390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3673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2EDF-125E-4C6A-BA24-AECD11D75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EA69-5C69-4D12-ACF9-0E905FEA1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BF8B-A904-4564-9F31-B981FF3CA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1AFF-0125-4E6A-94AB-A2B215806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A448-564B-4D3E-9660-0596BE087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F806-01B3-474F-BD10-7A4D46654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E723-E8C8-4AD4-9946-42CF6C7AE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D4AD-8ECE-4B02-8B4C-73DAD6FA1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0013-9D9F-4C2F-A803-2DB32F223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9418-C926-4BB8-A0C1-D39E2B0BB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BB0C-AB11-4186-861E-F7B8D894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9268-D847-4463-9B56-3F69AC0E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8AD9F6-E208-4981-9EAF-C7D137E957C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