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929D-A5A4-49FB-8285-F497E9AC9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E3CB-B6CD-42F3-B5AE-88B7FFA0A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70F3-BACE-49C1-B105-A9DB44579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74D4-B8FA-4062-9BA2-F5A64B780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BEE1-2C5F-4820-A1F6-BCC331837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4798-20A9-46FE-B527-A099A3807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E189-D4C4-4BCA-8BB9-AC7088424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0CB4-A40C-43B7-990E-E82E1FCD9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8D18-D31C-4D2A-A7CD-CA5A0D56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62F7-AACA-4363-B310-CBFB9E67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B20E-DA70-49C6-9C27-40CB1BAB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5125-AAA8-476C-B833-6D6E4147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53D73-9E6C-4355-9B02-410D6BF9E8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This is a ClamAV test file with embedded clam.e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5280" y="5300640"/>
            <a:ext cx="927000" cy="8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6:23:50Z</dcterms:created>
  <dc:creator>    </dc:creator>
  <dc:description/>
  <dc:language>en-US</dc:language>
  <cp:lastModifiedBy>    </cp:lastModifiedBy>
  <dcterms:modified xsi:type="dcterms:W3CDTF">2008-06-03T16:26:29Z</dcterms:modified>
  <cp:revision>1</cp:revision>
  <dc:subject/>
  <dc:title>This is a ClamAV test file with embedded clam.exe</dc:title>
</cp:coreProperties>
</file>