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C5A-DA99-4D89-9D2A-C31C6318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ADE-D3FD-43D5-A0F7-D758CA45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435-8034-4B85-8708-9CA706C7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CC9-3FF2-427B-A4BF-C1327FC0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39AC-B2AF-48A5-915D-F5BF8340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0EC4-83DE-464D-9CE8-C3BDCEA5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DCF8-AF85-4358-A4D3-1FEFBE7F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85E0-D14F-4C1F-B519-FD9FE46C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B9B5-3DF6-4AC9-9E06-D4DD5739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4918-3F58-4F63-819E-EE623386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4E2F-F0D6-4A50-9232-717B7F4D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230-D08D-4031-987C-3D1B36EB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D5B1-895B-4FDE-8BD3-473D19F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EB59-CEEE-46C6-A701-71A6EDFC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0DE1-71AD-489C-8FED-A1014E6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EF04-AADE-4662-973B-D629FA1E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1F71-1C08-4A58-A2FC-48792745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B7F-CA3C-416F-B95C-9DC2C732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EA3-D3FD-4018-A41E-44364DCA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932-572D-48E7-A5CA-1F3D8511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386-2145-4C4C-B876-60FB5EB1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D18-6DE1-4698-A2FE-E7C70031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0E3-0F96-448F-B603-55A4E83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4A5-2324-45CF-ADD4-9A7DD269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AB19-3700-445F-942C-EC17BB4BA687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F56F-6FB4-4115-8A10-8309DB4E7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7245-F3DC-4304-B6DA-6F61C6CC2F9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A4C1-4743-4B0A-9914-F1F455EB70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AD7E44-F5EC-40DE-A74F-11925DF05B1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1EFA4-B471-4FF0-9291-9A3338C5F39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3AC1C-81BE-4704-AD3A-B3FC8B45C6F5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75179-3BB0-4E4A-82BD-6AA674DA198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31374-5038-4FA5-A795-C333375400F3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A069F-3A29-4F25-A0C9-9709BA1556C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9161D-3F64-4ADF-8430-781D4792B35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DFDE2-9C58-4970-8458-E16A660E6A70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71303-97AD-492B-88E2-3CDA2A64CA6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8CD69-985E-4691-A3D2-3CB52CB3933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1FA27-370D-4BCA-8286-91787DC737E8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185D1-A92B-466A-B38F-B043C1C4EF34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4EF78-B60F-47D7-B8E9-3C26BCDFC3A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99CEC-2579-4082-9E2C-36B13BDB126F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4B486-F821-4F6B-9BF2-3B64549B6C4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0AE66-CFE3-4812-BEF1-1344BFFC665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0452B-7CF9-4859-89A6-4787F9799B5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299ED-1E9C-47E3-8927-41B9C2733BAC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37C92-0320-42B9-83C8-27DEA3CB3BB2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AD0BA-3137-4433-9EF2-A2133F0A4B91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5CF48-BFFD-4E12-8910-6E96A9042EA7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C3FE8-7929-4831-9A75-8419E124321E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4A23B-0116-4BAC-B0AB-4DEBB24760BB}" type="datetime1">
              <a:rPr lang="en-US"/>
              <a:t>07/29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8A3F2-C63F-4A89-BBE1-CFC736EA42D1}" type="datetime1">
              <a:rPr lang="en-US"/>
              <a:t>07/29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