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244C7-8A62-447A-87F7-76A8ADCD6D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E87C8-E49B-4B47-ADDA-1BC0C17A3C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51A96-9DCC-4989-9ED3-76436C4CF1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99D51-22A4-4458-9CAB-C97D4C7100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76221-6114-4316-9980-F37FA71238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CD462-7C5C-478C-A2A1-35C1375058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8E101-7A8C-42ED-A241-385DD0FB43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E8A8D-16D9-4932-A6C9-5C0E3AA140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2B82D-90DB-441F-A590-F2DFFAFFA6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F2FEF-9CAD-4CB7-A957-93AB7BF900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36270-E7D9-4745-8454-595E5C59A9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20F19-178B-4C0E-885B-F658B14105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256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700360" y="6549840"/>
            <a:ext cx="4176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430840" y="6289200"/>
            <a:ext cx="514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800" spc="-1" strike="noStrike">
                <a:solidFill>
                  <a:srgbClr val="0a2565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A31DE-918F-4A00-9CC7-1A1090A86AE1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5873F-10A8-46F2-AFFE-07362337CCE4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284640"/>
            <a:ext cx="6400800" cy="19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a2565"/>
                </a:solidFill>
                <a:latin typeface="Arial"/>
              </a:rPr>
              <a:t>Cookf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a2565"/>
                </a:solidFill>
                <a:latin typeface="Arial"/>
              </a:rPr>
              <a:t>Wojciech Kocjan, 2010-10-1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BC39C-4F54-4C85-BF9D-7765D508F79D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index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Keeps structure of an arch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dex stores a tree of all files and direc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tains information such as mtime for all e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ll information read when VFS is mounted and kept entirely 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revents illegal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ot possible to create a file/directory as child of a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peration such as changing a file to a directory are also blocked by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0BED5-12EE-4439-9E51-32A9C79765E9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index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Stores mapping of pages to fil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formation on each file has references to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eeps list of pages – page number, offset in page and data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ultiple files can reuse same page(s) if their contents is the same – automatically detected by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urrently written in C; work on pure Tcl implementation currently 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8361A-D80F-4EE3-A122-BBBA9D893B81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VFS layer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es pages and index to provide complete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vides handlers for VFS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index used for file information operations such asl isting files, getting and setting file 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rovides channels for reading mechanis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Handles seek and read operations – data retrieved directly from pages, not read entirely to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s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han creat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han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for channel cre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F8C29-E927-40A8-A964-B47756407BF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VFS layer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es memchan for writing to cookfs arch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itiated as empty or containing previous content of a file, depending on how file was op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hen memchan is closed closed, its contents is added to archive or queued for add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Files above specified size are added right a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mall files added in batches and grouped by file na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VFS layer is currently implemented in Tcl; uses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tclvfs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package for providing Tcl virtual file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C29C3-0119-4CAC-9540-9944837D79A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B6928-1237-496A-A515-FA5258697529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k4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oth Mk4 VFS and cookfs use zlib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 VFS compresses each file individu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s compresses smaller files in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offers multiple compression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urrently bzip2 also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LZMA support planned for future rele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F4654-AE83-49B5-84E9-5CD1F572D20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k4 VFS – continu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k4 VFS and cookfs implemented in C+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 VFS uses Mk4tcl for underlying stor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tcl written in C++ - requires additional libraries (libstdc++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fs uses C code for storage; pure Tcl version work in progress – C version will provide better perform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Both technologies depend on tcl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EF6AA-784F-4C35-8CC2-B008E3B4E89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ZIP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oth ZIP VFS and cookfs use zlib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ZIP VFS compresses each file individu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s compresses smaller files in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fs provides other compressiona algorith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IP VFS uses a known standard for arch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ultiple tools for managing ZIP archives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an be created from various tools such as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1BF58-D1B4-4F25-B994-27F7B561667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ther related projects and/or alternativ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ro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ure C solution for single file archives; designed for Tcl modules in mi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use compression, simply concatenates file contents and metadata on stored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depend on tcl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ar V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es tar archive format for storing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use compression by defau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923C5-D960-406C-B4AC-523DF65E9BCB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E0530-4C23-46E2-8F5B-46BFEBF6EF9F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BBFC8-A920-486D-B3EC-B37537EF6734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Tcl related s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httpd 3.5.1 – embedded web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ively small packag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, often used in Tcl applic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460k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llib 1.11.1 – set of commonly used Tcl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12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ctiveTcl 8.4 – sample of Tcl binaries and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Installation of ActiveTcl 8.4.19.0 for Linu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71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7" descr="D:\My Dropbox\TclConf2010\Images\sample_activetcl84_linux_1.png"/>
          <p:cNvPicPr/>
          <p:nvPr/>
        </p:nvPicPr>
        <p:blipFill>
          <a:blip r:embed="rId1"/>
          <a:stretch/>
        </p:blipFill>
        <p:spPr>
          <a:xfrm>
            <a:off x="6100920" y="4508640"/>
            <a:ext cx="2863800" cy="1620720"/>
          </a:xfrm>
          <a:prstGeom prst="rect">
            <a:avLst/>
          </a:prstGeom>
          <a:ln w="0">
            <a:noFill/>
          </a:ln>
        </p:spPr>
      </p:pic>
      <p:sp>
        <p:nvSpPr>
          <p:cNvPr id="10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CBDF3-5D4D-4546-86E5-C2BF891B01FD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pic>
        <p:nvPicPr>
          <p:cNvPr id="102" name="Picture 3" descr="D:\My Dropbox\TclConf2010\Images\sample_tcllib_size.png"/>
          <p:cNvPicPr/>
          <p:nvPr/>
        </p:nvPicPr>
        <p:blipFill>
          <a:blip r:embed="rId2"/>
          <a:stretch/>
        </p:blipFill>
        <p:spPr>
          <a:xfrm>
            <a:off x="233280" y="278136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D:\My Dropbox\TclConf2010\Images\sample_tclhttpd_size.png"/>
          <p:cNvPicPr/>
          <p:nvPr/>
        </p:nvPicPr>
        <p:blipFill>
          <a:blip r:embed="rId3"/>
          <a:stretch/>
        </p:blipFill>
        <p:spPr>
          <a:xfrm>
            <a:off x="233280" y="1052640"/>
            <a:ext cx="5684760" cy="1620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D:\My Dropbox\TclConf2010\Images\sample_tcllib_linux_1.png"/>
          <p:cNvPicPr/>
          <p:nvPr/>
        </p:nvPicPr>
        <p:blipFill>
          <a:blip r:embed="rId4"/>
          <a:stretch/>
        </p:blipFill>
        <p:spPr>
          <a:xfrm>
            <a:off x="6100920" y="2781360"/>
            <a:ext cx="2863800" cy="1619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D:\My Dropbox\TclConf2010\Images\sample_tclhttpd_linux_1.png"/>
          <p:cNvPicPr/>
          <p:nvPr/>
        </p:nvPicPr>
        <p:blipFill>
          <a:blip r:embed="rId5"/>
          <a:stretch/>
        </p:blipFill>
        <p:spPr>
          <a:xfrm>
            <a:off x="6100920" y="1052640"/>
            <a:ext cx="2863800" cy="1620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D:\My Dropbox\TclConf2010\Images\sample_activetcl84_size.png"/>
          <p:cNvPicPr/>
          <p:nvPr/>
        </p:nvPicPr>
        <p:blipFill>
          <a:blip r:embed="rId6"/>
          <a:stretch/>
        </p:blipFill>
        <p:spPr>
          <a:xfrm>
            <a:off x="233280" y="4508640"/>
            <a:ext cx="568476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ADBCC-E27D-4FDC-8DB7-BF9B28769C5F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Non-tcl s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ckaging Joomla and LAMP – BitNami Joomla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 of packaging non-Tcl content into an arch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oomla stack  for Linux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ache, MySQL and PH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224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ckaging Redmine – BitNami Redmine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dmine application with Ruby and all other artif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535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3B7CD-9095-4D36-8A31-8F00A4313924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pic>
        <p:nvPicPr>
          <p:cNvPr id="112" name="Picture 2" descr="D:\My Dropbox\TclConf2010\Images\sample_joomla_lamp_size.png"/>
          <p:cNvPicPr/>
          <p:nvPr/>
        </p:nvPicPr>
        <p:blipFill>
          <a:blip r:embed="rId1"/>
          <a:stretch/>
        </p:blipFill>
        <p:spPr>
          <a:xfrm>
            <a:off x="233280" y="187956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D:\My Dropbox\TclConf2010\Images\sample_joomla_lamp_linux_1.png"/>
          <p:cNvPicPr/>
          <p:nvPr/>
        </p:nvPicPr>
        <p:blipFill>
          <a:blip r:embed="rId2"/>
          <a:stretch/>
        </p:blipFill>
        <p:spPr>
          <a:xfrm>
            <a:off x="6102360" y="1879560"/>
            <a:ext cx="2862360" cy="1619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D:\My Dropbox\TclConf2010\Images\sample_redmine_rubystack_size.png"/>
          <p:cNvPicPr/>
          <p:nvPr/>
        </p:nvPicPr>
        <p:blipFill>
          <a:blip r:embed="rId3"/>
          <a:stretch/>
        </p:blipFill>
        <p:spPr>
          <a:xfrm>
            <a:off x="233280" y="361008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D:\My Dropbox\TclConf2010\Images\sample_redmine_rubystack_linux_1.png"/>
          <p:cNvPicPr/>
          <p:nvPr/>
        </p:nvPicPr>
        <p:blipFill>
          <a:blip r:embed="rId4"/>
          <a:stretch/>
        </p:blipFill>
        <p:spPr>
          <a:xfrm>
            <a:off x="6102360" y="3610080"/>
            <a:ext cx="286236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F502A-236D-425E-8774-D830C7CEA56F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69177-40F5-4E21-A960-1739C905BF22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is a tclkit-like binary that has Tcl, core libraries and VFS included in a singl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cludes Tcl (optionally Tk) and cookfs linked st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an be used in same ways as tclki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or running other scripts – Tcl scripts, cookfs and zip arch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or building standalone applications – by adding files to cookfs archive, including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.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s interactive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shell in a singl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83367-458E-4A9D-842D-0AA42A169B1F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and Tcl 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s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Main()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_AppInit()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as custom application 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ads initialization Tcl code from cook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Initializes tclvfs and Tcl libraries after mounting cook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.tcl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file is present in cookfs archive, cookit sources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Works as standalone appl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ther packages can be placed in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ib/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directory; they can be loaded using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comman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C18C0-F2A1-4AA6-9A2A-52725AB3DABB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build 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ngine for building packages and linking coo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s logic to handle dependencies, comparing ver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ultiple commands to build entire cookit or just pa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Has definitions for cookit parts – i.e. tcl, tk, vfs, 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Each part defines how it is configured and bui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s listing files to add to cookit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reate additional scripts for cookit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 adding static packages to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_AppInit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99AF1-C178-465C-8446-761369801F62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Building cook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ownload cookit build system from SourceForge:</a:t>
            </a:r>
            <a:br>
              <a:rPr sz="2400"/>
            </a:b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http://sourceforge.net/projects/cookit/files/cooki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etrieve Tcl, Tk, tclvfs and cookfs sources: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retrievesource tcl tk vfs cook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ilding default cookit (without Tk)</a:t>
            </a:r>
            <a:br>
              <a:rPr sz="20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uild-cook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ild with Tk embedded statically (i.e. for MS Windows)</a:t>
            </a:r>
            <a:r>
              <a:rPr b="0" lang="pl-PL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br>
              <a:rPr sz="26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–tk latest build-cook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CD33F-445D-4B70-8425-54F3135479E9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ook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.ex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-ui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a2565"/>
              </a:buClr>
              <a:buSzPct val="95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.ex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runs in command promp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a2565"/>
              </a:buClr>
              <a:buSzPct val="95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-ui.ex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ncludes Tk and only provides UI m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tforms currently buil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OS X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platforms can be built from source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31104-13E4-4E6F-AB42-5B0F80D252D4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Tcl one of first languages to ship applications as single execut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wrap – first Tcl solution for putting multiple files in single executable; uses ZIP based arch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reeWrap – one of first freely available solutions; uses Z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Kit – one of most popular solutions for bundling applications; uses Mk4-based VFS and uses Tcl 8.4 VFS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B22CD-9536-4091-8482-DB02B439392F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31B36-2F0F-415A-B10B-31DB29A22B43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 – cookf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e format stabilized – will not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lementation partially C and Tc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tclvfs to provide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ture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-only implementation – remove depend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ure Tcl version for easier ad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grouping and duplication detection – currently not detected well for small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C7FF0-D1A8-40CA-B565-6D0C98F9C26D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 – cookit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ized build system, support for multiple platforms (tested on 4 platforms, regularly built on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aries work fine – no major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for threaded Tcl not yet comp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ture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r platforms builds to be performed period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tform for building and managing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B18BB-31D5-448C-96CA-E908EA09FF26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ant to help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ate docu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tter test suite and/or add more test cover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lp with implementing new fea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tform support – build and submit bina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bmit bugs/problems on less common platf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BA79A-A42D-4F6F-9D60-0EDBAAF133F8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4C8CD-8249-4B63-BE94-0DE4664EF942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itRock, especially Daniel Lopez and Juan José Medina Godoy – for providing feedback to cookfs and paper for this 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iotr Beltowski – for reviews and comments on cookfs, cookit and documents for this 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a2565"/>
                </a:solidFill>
                <a:latin typeface="Arial"/>
              </a:rPr>
              <a:t>Questions?</a:t>
            </a:r>
            <a:endParaRPr b="0" lang="en-US" sz="40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B92B4-623C-4B86-AD71-686B0F85B5BC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Thank you!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pl-PL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AB959-4AFD-4366-8CBF-FFC5DF27E272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B731E-F657-44D3-BA86-00C4431989A8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hy cookf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ptimized for Tcl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Groups small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ptimized for Tcl files such as pkgIndex.tc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ultiple com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urrently zlib, bz2 – plans for including LZMA as op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an use multiple compressions in one arch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esigned for shipping all types of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s large number of small files and very large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rovides efficient memory management – VFS operations consume very little mem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AEE64-9559-4C1D-A070-58EC37D38179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ing cook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btaining and building 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Available from SourceForge - source code on SVN; cookfs source and cookit binaries as file downloa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ing TEA; uses standard configure &amp; make approa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ing cookfs from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imilar to any VFS –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fs::cookfs::Mount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fs::unm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mmands (i.e.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il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) work same as for any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irect write command for faster addition of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426B8-8A05-4732-A32F-B480C630202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D9773-9F16-48E8-A638-3A4D177B2878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fs major el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torage of parts of files, entire files or group of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ferenced by integer indexes, starting from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dex and directory hierar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Keeps information on files and directories in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aps hierarchy to cookfs p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es pages and index elements to provide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ffers access to archive from Tcl and Tcl C AP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6B7AE-5E00-4F51-A1BD-854447D66E8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pag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Generic solution for storing content of fi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ach page can store arbitrary amount of b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s are referenced by integer indexes, starting at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ages can only be added and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s are immutable – update or delete not a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 reading uses LRU cache; this speeds up retrieval of small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 cache is configurable – faster reads at a cost of larger memory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50519-4FA3-4D48-8BB7-1BDE8B2456D4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pag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etadata keeps track of page siz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eeps information on all pages’ s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vides space for storing cookfs inde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ffer write-aside fea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toring changes to cookfs archive in a separat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ful for read-only media (CD, DVD) or for storing updates to application in a separat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urrently written in C; work on pure Tcl implementation currently 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07:34:50Z</dcterms:created>
  <dc:creator>Bitrock SL</dc:creator>
  <dc:description/>
  <dc:language>en-US</dc:language>
  <cp:lastModifiedBy> </cp:lastModifiedBy>
  <dcterms:modified xsi:type="dcterms:W3CDTF">2010-10-13T17:45:02Z</dcterms:modified>
  <cp:revision>56</cp:revision>
  <dc:subject/>
  <dc:title>Diapositiva 1</dc:title>
</cp:coreProperties>
</file>