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8044-3DE1-48C0-940F-D37C64B47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490B-CF8B-4911-A757-6A79853B9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55CB-05FA-4EB9-9B09-0FE632E41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9DE9-1FCE-428C-9E41-16185B9AC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F71DAE-F6C0-4697-8D5B-1754062CFBD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F39367-C3A8-4499-AB84-0583DA68904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9BC421-E753-4DBE-B63E-AE4606ADC2C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FF676D-23B7-4A00-813D-0F483D7BE17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31823A-528B-4FD9-BB6F-9AD20DA5DDD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A51F75-21B7-4F30-AD88-A54FC44186D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C91E75-F8A7-4C0B-97DA-89E10F01AF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0642-6919-410D-8F58-F8719AE6D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CD925C-823E-4B1A-B7EF-B6E2A237929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36662A-AA06-4E3B-9540-7F202FB66FC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D7887C-53B1-404E-BA9D-794190FC4DA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008035-A294-4FB0-9F59-CCA3C88771F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69B72D-BF29-401D-BE19-8F49ACC87E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AD04-5A9D-41F6-872E-AEC801DB9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7E0C-191B-4A1E-9D54-C0C0B2F10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C5D5-7103-4D34-9AEE-21B5E5A8B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0102-3729-4E64-A0D8-16536D4FF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EC67-C3E9-417E-A8AA-261405440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D79C-3878-4655-B4AA-3F5F62C67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0F6C-5AFD-4987-9CD5-CE84CC40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AB754-35E3-46CF-BDD0-594E2CF136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275DF-E075-4A13-AF5B-C9EB016F31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iki.tcl.tk/3099.html" TargetMode="External"/><Relationship Id="rId2" Type="http://schemas.openxmlformats.org/officeDocument/2006/relationships/hyperlink" Target="http://wiki.tcl.tk/3099.html" TargetMode="External"/><Relationship Id="rId3" Type="http://schemas.openxmlformats.org/officeDocument/2006/relationships/hyperlink" Target="http://wiki.tcl.tk/3099.html" TargetMode="External"/><Relationship Id="rId4" Type="http://schemas.openxmlformats.org/officeDocument/2006/relationships/hyperlink" Target="http://wiki.tcl.tk/3099.html" TargetMode="External"/><Relationship Id="rId5" Type="http://schemas.openxmlformats.org/officeDocument/2006/relationships/hyperlink" Target="http://wiki.tcl.tk/3099.html" TargetMode="External"/><Relationship Id="rId6" Type="http://schemas.openxmlformats.org/officeDocument/2006/relationships/hyperlink" Target="http://wiki.tcl.tk/3099.html" TargetMode="External"/><Relationship Id="rId7" Type="http://schemas.openxmlformats.org/officeDocument/2006/relationships/hyperlink" Target="http://wiki.tcl.tk/3099.html" TargetMode="External"/><Relationship Id="rId8" Type="http://schemas.openxmlformats.org/officeDocument/2006/relationships/hyperlink" Target="http://www.tcl.tk/man/tcl8.4/" TargetMode="External"/><Relationship Id="rId9" Type="http://schemas.openxmlformats.org/officeDocument/2006/relationships/hyperlink" Target="http://www.tcl.tk/man/tcl8.4/" TargetMode="External"/><Relationship Id="rId10" Type="http://schemas.openxmlformats.org/officeDocument/2006/relationships/hyperlink" Target="http://www.tcl.tk/man/tcl8.4/" TargetMode="External"/><Relationship Id="rId11" Type="http://schemas.openxmlformats.org/officeDocument/2006/relationships/hyperlink" Target="http://www.tcl.tk/man/tcl8.4/" TargetMode="External"/><Relationship Id="rId12" Type="http://schemas.openxmlformats.org/officeDocument/2006/relationships/hyperlink" Target="http://www.tcl.tk/man/tcl8.4/" TargetMode="External"/><Relationship Id="rId1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iki.tcl.tk/1611.html" TargetMode="External"/><Relationship Id="rId2" Type="http://schemas.openxmlformats.org/officeDocument/2006/relationships/hyperlink" Target="http://wiki.tcl.tk/vfs" TargetMode="External"/><Relationship Id="rId3" Type="http://schemas.openxmlformats.org/officeDocument/2006/relationships/hyperlink" Target="http://wiki.tcl.tk/vfs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/Tk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izes on 32-bit operating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and rename | de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ion enter | leave | enterstep | leave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 array | read | write | un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d style trace command deprec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labelframe" descr=""/>
          <p:cNvPicPr/>
          <p:nvPr/>
        </p:nvPicPr>
        <p:blipFill>
          <a:blip r:embed="rId1"/>
          <a:stretch/>
        </p:blipFill>
        <p:spPr>
          <a:xfrm>
            <a:off x="1143000" y="5257800"/>
            <a:ext cx="1393920" cy="1303200"/>
          </a:xfrm>
          <a:prstGeom prst="rect">
            <a:avLst/>
          </a:prstGeom>
          <a:ln w="0">
            <a:noFill/>
          </a:ln>
        </p:spPr>
      </p:pic>
      <p:pic>
        <p:nvPicPr>
          <p:cNvPr id="227" name="panedwindow" descr=""/>
          <p:cNvPicPr/>
          <p:nvPr/>
        </p:nvPicPr>
        <p:blipFill>
          <a:blip r:embed="rId2"/>
          <a:srcRect l="2608" t="37648" r="3123" b="13154"/>
          <a:stretch/>
        </p:blipFill>
        <p:spPr>
          <a:xfrm>
            <a:off x="6718320" y="3200400"/>
            <a:ext cx="2295360" cy="1709640"/>
          </a:xfrm>
          <a:prstGeom prst="rect">
            <a:avLst/>
          </a:prstGeom>
          <a:ln w="0">
            <a:noFill/>
          </a:ln>
        </p:spPr>
      </p:pic>
      <p:pic>
        <p:nvPicPr>
          <p:cNvPr id="228" name="spinbox" descr=""/>
          <p:cNvPicPr/>
          <p:nvPr/>
        </p:nvPicPr>
        <p:blipFill>
          <a:blip r:embed="rId3"/>
          <a:stretch/>
        </p:blipFill>
        <p:spPr>
          <a:xfrm>
            <a:off x="5562720" y="1905120"/>
            <a:ext cx="949320" cy="63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windowing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o distinguish between Xlib and native Aq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Change Detail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iki Changes in Tcl/Tk 8.4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wik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/3099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cal mode wiki on the 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 ChangeLo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0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1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2"/>
              </a:rPr>
              <a:t>/man/tcl8.4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etails in BoF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Book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29415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ing soon to a store near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lch 4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lynt 2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bookcover" descr=""/>
          <p:cNvPicPr/>
          <p:nvPr/>
        </p:nvPicPr>
        <p:blipFill>
          <a:blip r:embed="rId1"/>
          <a:stretch/>
        </p:blipFill>
        <p:spPr>
          <a:xfrm>
            <a:off x="3627360" y="990720"/>
            <a:ext cx="4830840" cy="520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Tcl and Tclkit bin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848720" y="327672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99480" y="2052720"/>
            <a:ext cx="108252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79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059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88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3981600"/>
            <a:ext cx="762120" cy="320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153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77240" y="3505320"/>
            <a:ext cx="815760" cy="3492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ver 2 years in the ma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5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iki.tcl.tk/1611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http://wiki.tcl.tk/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v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ification of the C AP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 incompatible – with a compatability #def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ind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sear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ndreask</cp:lastModifiedBy>
  <cp:lastPrinted>1999-01-02T23:07:33Z</cp:lastPrinted>
  <dcterms:modified xsi:type="dcterms:W3CDTF">2002-09-11T16:00:26Z</dcterms:modified>
  <cp:revision>416</cp:revision>
  <dc:subject/>
  <dc:title>8.4 Tcl Overview</dc:title>
</cp:coreProperties>
</file>