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648450" cy="97853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5885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240" y="3664800"/>
            <a:ext cx="85885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29240" y="129492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240" y="366480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29240" y="366480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27651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32000" y="1294920"/>
            <a:ext cx="27651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35760" y="1294920"/>
            <a:ext cx="27651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240" y="3664800"/>
            <a:ext cx="27651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32000" y="3664800"/>
            <a:ext cx="27651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35760" y="3664800"/>
            <a:ext cx="27651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240" y="1294920"/>
            <a:ext cx="858852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58852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19112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29240" y="1294920"/>
            <a:ext cx="419112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3680" y="69840"/>
            <a:ext cx="7334280" cy="211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7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29240" y="1294920"/>
            <a:ext cx="419112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240" y="366480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19112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29240" y="129492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29240" y="366480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29240" y="129492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240" y="3664800"/>
            <a:ext cx="85885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228240" y="1294920"/>
            <a:ext cx="858852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97000"/>
              </a:lnSpc>
              <a:spcBef>
                <a:spcPts val="499"/>
              </a:spcBef>
              <a:buClr>
                <a:srgbClr val="ff0000"/>
              </a:buClr>
              <a:buSzPct val="130000"/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7000"/>
              </a:lnSpc>
              <a:spcBef>
                <a:spcPts val="499"/>
              </a:spcBef>
              <a:buClr>
                <a:srgbClr val="4d4d4d"/>
              </a:buClr>
              <a:buSzPct val="130000"/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7000"/>
              </a:lnSpc>
              <a:spcBef>
                <a:spcPts val="499"/>
              </a:spcBef>
              <a:buClr>
                <a:srgbClr val="4d4d4d"/>
              </a:buClr>
              <a:buFont typeface="Arial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7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7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7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7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 flipH="1">
            <a:off x="0" y="64008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 flipH="1">
            <a:off x="0" y="8380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228600" y="6432480"/>
            <a:ext cx="8915400" cy="48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81720" tIns="40680" bIns="4068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tkImg application examples 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Page </a:t>
            </a:r>
            <a:fld id="{14F4533F-45A9-4DA2-B36C-A616FCF3624A}" type="slidenum">
              <a:rPr b="0" lang="de-DE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Paul Obermeier, paul@poSoft.de</a:t>
            </a:r>
            <a:r>
              <a:rPr b="0" lang="en-GB" sz="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8153280" y="0"/>
            <a:ext cx="990720" cy="836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4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84040" y="-27000"/>
            <a:ext cx="73360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oSoft.de: Paul Obermeier's Portable Softw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71600" y="914400"/>
            <a:ext cx="6019920" cy="38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tkImg Application Examp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oImgview-ZoomRect" descr=""/>
          <p:cNvPicPr/>
          <p:nvPr/>
        </p:nvPicPr>
        <p:blipFill>
          <a:blip r:embed="rId1"/>
          <a:stretch/>
        </p:blipFill>
        <p:spPr>
          <a:xfrm>
            <a:off x="609480" y="1592280"/>
            <a:ext cx="2743200" cy="19461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598920" y="3625920"/>
            <a:ext cx="4267080" cy="5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poImgdif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 portable image comparison progra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598920" y="1568520"/>
            <a:ext cx="4495680" cy="5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poImg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 portable image view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oImgdiff-ZoomDiff" descr=""/>
          <p:cNvPicPr/>
          <p:nvPr/>
        </p:nvPicPr>
        <p:blipFill>
          <a:blip r:embed="rId2"/>
          <a:stretch/>
        </p:blipFill>
        <p:spPr>
          <a:xfrm>
            <a:off x="609480" y="3605040"/>
            <a:ext cx="2743200" cy="1455840"/>
          </a:xfrm>
          <a:prstGeom prst="rect">
            <a:avLst/>
          </a:prstGeom>
          <a:ln w="0">
            <a:noFill/>
          </a:ln>
        </p:spPr>
      </p:pic>
      <p:pic>
        <p:nvPicPr>
          <p:cNvPr id="48" name="testFrom" descr=""/>
          <p:cNvPicPr/>
          <p:nvPr/>
        </p:nvPicPr>
        <p:blipFill>
          <a:blip r:embed="rId3"/>
          <a:stretch/>
        </p:blipFill>
        <p:spPr>
          <a:xfrm>
            <a:off x="609480" y="5165640"/>
            <a:ext cx="2743200" cy="10065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598920" y="5226120"/>
            <a:ext cx="4267080" cy="5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tkImgTe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 series of new tkImg tes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84040" y="-27000"/>
            <a:ext cx="73360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oImgview: A portable image view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85800" y="914400"/>
            <a:ext cx="6095880" cy="80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in window containing the scrollable image window, the preview list of loaded images and the zoom rectangl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oImgview also supports batch format convers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oImgview-ZoomRect" descr=""/>
          <p:cNvPicPr/>
          <p:nvPr/>
        </p:nvPicPr>
        <p:blipFill>
          <a:blip r:embed="rId1"/>
          <a:stretch/>
        </p:blipFill>
        <p:spPr>
          <a:xfrm>
            <a:off x="685800" y="2133720"/>
            <a:ext cx="5788080" cy="41068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6553080" y="2133720"/>
            <a:ext cx="2514600" cy="163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84040" y="-27000"/>
            <a:ext cx="73360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oImgview: Tiling functionalit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981080" y="914400"/>
            <a:ext cx="5105520" cy="32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oImgview allows generation of tiled imag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oImgview-Tile" descr=""/>
          <p:cNvPicPr/>
          <p:nvPr/>
        </p:nvPicPr>
        <p:blipFill>
          <a:blip r:embed="rId1"/>
          <a:stretch/>
        </p:blipFill>
        <p:spPr>
          <a:xfrm>
            <a:off x="1143000" y="1447920"/>
            <a:ext cx="6477120" cy="460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84040" y="-27000"/>
            <a:ext cx="73360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oImgview: Image brows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066680" y="914400"/>
            <a:ext cx="670572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he image browser window contains a directory tree view, a preview window and a TkTable based browse window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dditional features via context menu: Fullscreen slideshow and reorganization (copy/move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oImgview-Browser" descr=""/>
          <p:cNvPicPr/>
          <p:nvPr/>
        </p:nvPicPr>
        <p:blipFill>
          <a:blip r:embed="rId1"/>
          <a:stretch/>
        </p:blipFill>
        <p:spPr>
          <a:xfrm>
            <a:off x="1143000" y="2133720"/>
            <a:ext cx="6477120" cy="4124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84040" y="-27000"/>
            <a:ext cx="73360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oImgview: Logo addi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752480" y="914400"/>
            <a:ext cx="5181840" cy="5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oImgview contains a batch mode function for adding logos to a series of imag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oImgview-LogoBefore" descr=""/>
          <p:cNvPicPr/>
          <p:nvPr/>
        </p:nvPicPr>
        <p:blipFill>
          <a:blip r:embed="rId1"/>
          <a:stretch/>
        </p:blipFill>
        <p:spPr>
          <a:xfrm>
            <a:off x="304920" y="1905120"/>
            <a:ext cx="4190760" cy="3716280"/>
          </a:xfrm>
          <a:prstGeom prst="rect">
            <a:avLst/>
          </a:prstGeom>
          <a:ln w="0">
            <a:noFill/>
          </a:ln>
        </p:spPr>
      </p:pic>
      <p:pic>
        <p:nvPicPr>
          <p:cNvPr id="63" name="poImgview-LogoAfter" descr=""/>
          <p:cNvPicPr/>
          <p:nvPr/>
        </p:nvPicPr>
        <p:blipFill>
          <a:blip r:embed="rId2"/>
          <a:stretch/>
        </p:blipFill>
        <p:spPr>
          <a:xfrm>
            <a:off x="4648320" y="1905120"/>
            <a:ext cx="4190760" cy="3717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84040" y="-27000"/>
            <a:ext cx="73360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oImgdiff: A portable image comparison progra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09480" y="914400"/>
            <a:ext cx="7086600" cy="5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in window allows a side-by-side view of two image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or detailled inspection two side-by-side zoom rectangles are availabl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oImgdiff-ZoomDiff" descr=""/>
          <p:cNvPicPr/>
          <p:nvPr/>
        </p:nvPicPr>
        <p:blipFill>
          <a:blip r:embed="rId1"/>
          <a:stretch/>
        </p:blipFill>
        <p:spPr>
          <a:xfrm>
            <a:off x="609480" y="1828800"/>
            <a:ext cx="7620120" cy="4043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oImgdiff-HistoUniform" descr=""/>
          <p:cNvPicPr/>
          <p:nvPr/>
        </p:nvPicPr>
        <p:blipFill>
          <a:blip r:embed="rId1"/>
          <a:stretch/>
        </p:blipFill>
        <p:spPr>
          <a:xfrm>
            <a:off x="1066680" y="2209680"/>
            <a:ext cx="3257640" cy="40118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84040" y="-27000"/>
            <a:ext cx="73360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oImgdiff: Histogram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914400"/>
            <a:ext cx="7467480" cy="5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istograms of the two images can be generated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he histograms can be scaled uniformly or logarithmi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oImgdiff-HistoLogarithmic" descr=""/>
          <p:cNvPicPr/>
          <p:nvPr/>
        </p:nvPicPr>
        <p:blipFill>
          <a:blip r:embed="rId2"/>
          <a:stretch/>
        </p:blipFill>
        <p:spPr>
          <a:xfrm>
            <a:off x="4648320" y="2209680"/>
            <a:ext cx="3257280" cy="4011840"/>
          </a:xfrm>
          <a:prstGeom prst="rect">
            <a:avLst/>
          </a:prstGeom>
          <a:ln w="0">
            <a:noFill/>
          </a:ln>
        </p:spPr>
      </p:pic>
      <p:pic>
        <p:nvPicPr>
          <p:cNvPr id="71" name="poImgdiff-ZoomDiff" descr=""/>
          <p:cNvPicPr/>
          <p:nvPr/>
        </p:nvPicPr>
        <p:blipFill>
          <a:blip r:embed="rId3"/>
          <a:stretch/>
        </p:blipFill>
        <p:spPr>
          <a:xfrm>
            <a:off x="5715000" y="884160"/>
            <a:ext cx="2209680" cy="1173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84040" y="-27000"/>
            <a:ext cx="73360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oImgdiff: Difference imag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33520" y="874800"/>
            <a:ext cx="6781680" cy="80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 difference image can be generated and adjusted interactivel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 histogram of the difference image gives an overview and detailed knowledge about the number of different pixel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oImgdiff-DiffImg" descr=""/>
          <p:cNvPicPr/>
          <p:nvPr/>
        </p:nvPicPr>
        <p:blipFill>
          <a:blip r:embed="rId1"/>
          <a:stretch/>
        </p:blipFill>
        <p:spPr>
          <a:xfrm>
            <a:off x="609480" y="1905120"/>
            <a:ext cx="4876920" cy="3170160"/>
          </a:xfrm>
          <a:prstGeom prst="rect">
            <a:avLst/>
          </a:prstGeom>
          <a:ln w="0">
            <a:noFill/>
          </a:ln>
        </p:spPr>
      </p:pic>
      <p:pic>
        <p:nvPicPr>
          <p:cNvPr id="75" name="poImgdiff-DiffImgAdjust" descr=""/>
          <p:cNvPicPr/>
          <p:nvPr/>
        </p:nvPicPr>
        <p:blipFill>
          <a:blip r:embed="rId2"/>
          <a:stretch/>
        </p:blipFill>
        <p:spPr>
          <a:xfrm>
            <a:off x="1074600" y="5181480"/>
            <a:ext cx="3878280" cy="1109880"/>
          </a:xfrm>
          <a:prstGeom prst="rect">
            <a:avLst/>
          </a:prstGeom>
          <a:ln w="0">
            <a:noFill/>
          </a:ln>
        </p:spPr>
      </p:pic>
      <p:pic>
        <p:nvPicPr>
          <p:cNvPr id="76" name="poImgdiff-DiffImgHisto" descr=""/>
          <p:cNvPicPr/>
          <p:nvPr/>
        </p:nvPicPr>
        <p:blipFill>
          <a:blip r:embed="rId3"/>
          <a:stretch/>
        </p:blipFill>
        <p:spPr>
          <a:xfrm>
            <a:off x="5819760" y="1905120"/>
            <a:ext cx="2181240" cy="4343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84040" y="-27000"/>
            <a:ext cx="73360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tkImgTest: A series of new tkImg test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0880" y="914400"/>
            <a:ext cx="7543800" cy="301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_imgio1.tcl: Read and write full im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_imgio2.tcl: Read and write images with option "-from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_imgio3.tcl: Read and write images with option "-to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_imgio4.tcl: Read and write images with sizes from 1x1 to 4x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he following ways to read image data are teste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Read from file 1:         image create photo -file $fileN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Read from file 2:         set ph [image create photo] ; $ph read $fileN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Read as binary 1:         image create photo -data $img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Read as binary 2:         set ph [image create photo] ; $ph put $img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Read as uuencoded string: set ph [image create photo] ; $ph put $img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he following ways to write image data are teste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Write to file:             $ph write $fileName -format $fm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Write to uuencoded string: $ph data -format $fm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testCanvas" descr=""/>
          <p:cNvPicPr/>
          <p:nvPr/>
        </p:nvPicPr>
        <p:blipFill>
          <a:blip r:embed="rId1"/>
          <a:stretch/>
        </p:blipFill>
        <p:spPr>
          <a:xfrm>
            <a:off x="6324480" y="4119480"/>
            <a:ext cx="2210040" cy="2141640"/>
          </a:xfrm>
          <a:prstGeom prst="rect">
            <a:avLst/>
          </a:prstGeom>
          <a:ln w="0">
            <a:noFill/>
          </a:ln>
        </p:spPr>
      </p:pic>
      <p:pic>
        <p:nvPicPr>
          <p:cNvPr id="80" name="testFrom" descr=""/>
          <p:cNvPicPr/>
          <p:nvPr/>
        </p:nvPicPr>
        <p:blipFill>
          <a:blip r:embed="rId2"/>
          <a:stretch/>
        </p:blipFill>
        <p:spPr>
          <a:xfrm>
            <a:off x="2971800" y="4187880"/>
            <a:ext cx="3124080" cy="1146240"/>
          </a:xfrm>
          <a:prstGeom prst="rect">
            <a:avLst/>
          </a:prstGeom>
          <a:ln w="0">
            <a:noFill/>
          </a:ln>
        </p:spPr>
      </p:pic>
      <p:pic>
        <p:nvPicPr>
          <p:cNvPr id="81" name="testFull" descr=""/>
          <p:cNvPicPr/>
          <p:nvPr/>
        </p:nvPicPr>
        <p:blipFill>
          <a:blip r:embed="rId3"/>
          <a:stretch/>
        </p:blipFill>
        <p:spPr>
          <a:xfrm>
            <a:off x="609480" y="3962520"/>
            <a:ext cx="1905120" cy="1407960"/>
          </a:xfrm>
          <a:prstGeom prst="rect">
            <a:avLst/>
          </a:prstGeom>
          <a:ln w="0">
            <a:noFill/>
          </a:ln>
        </p:spPr>
      </p:pic>
      <p:pic>
        <p:nvPicPr>
          <p:cNvPr id="82" name="testSizes" descr=""/>
          <p:cNvPicPr/>
          <p:nvPr/>
        </p:nvPicPr>
        <p:blipFill>
          <a:blip r:embed="rId4"/>
          <a:stretch/>
        </p:blipFill>
        <p:spPr>
          <a:xfrm>
            <a:off x="2971800" y="5380200"/>
            <a:ext cx="3124080" cy="944280"/>
          </a:xfrm>
          <a:prstGeom prst="rect">
            <a:avLst/>
          </a:prstGeom>
          <a:ln w="0">
            <a:noFill/>
          </a:ln>
        </p:spPr>
      </p:pic>
      <p:pic>
        <p:nvPicPr>
          <p:cNvPr id="83" name="testTo" descr=""/>
          <p:cNvPicPr/>
          <p:nvPr/>
        </p:nvPicPr>
        <p:blipFill>
          <a:blip r:embed="rId5"/>
          <a:stretch/>
        </p:blipFill>
        <p:spPr>
          <a:xfrm>
            <a:off x="609480" y="5410080"/>
            <a:ext cx="1981440" cy="909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Paul Obermeier</dc:creator>
  <dc:description/>
  <cp:keywords>EMIT Tcl Testing Wrapping</cp:keywords>
  <dc:language>en-US</dc:language>
  <cp:lastModifiedBy>Paul Obermeier</cp:lastModifiedBy>
  <cp:lastPrinted>2008-06-02T20:50:19Z</cp:lastPrinted>
  <dcterms:modified xsi:type="dcterms:W3CDTF">2008-06-02T21:13:14Z</dcterms:modified>
  <cp:revision>159</cp:revision>
  <dc:subject/>
  <dc:title>EMIT: Extensible Multispectral Image Generation Toolset</dc:title>
</cp:coreProperties>
</file>