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636A-8CB6-4762-BAA0-8D6AF325A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B5A7-126F-4ABA-9C16-662AE155B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5583-2A5F-4941-83DA-BFDD380D1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609D-EE28-49AB-944E-D5C7F894E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is in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to decide how to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03AD-4325-4AD5-B852-91E46113A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: how to synch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tool: similar too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DB5E-6553-4A2D-BBD0-BC62DAB65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1BDB-4DBA-40D6-87C7-016B055AD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8012-FA5E-4604-993D-84A85A195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3FA9-6196-45FE-9EA5-DCB705F77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so used in prima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06DF-E388-4849-BC56-37FF7CBAE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27D6-8B89-46AF-92B5-851DF4284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fferent toolsets for experi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 activities are stored in a 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file is split into files p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s are converted to a format suitable for M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pa is a special purpose program for processing and analysing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more about MEPA because it isn’t written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371B-185A-46AA-84ED-B12524745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s, not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8F30-BE17-4ECD-B223-C3222B5AF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4765-25CD-4D35-B820-FD1BD3C51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ynamic loading mak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velopment and bugfixe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 made http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platform is a wish, not a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E1A7-6F38-4986-B1F8-FB8D66605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clhttp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 is primary means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re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322040" y="6019920"/>
            <a:ext cx="148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7F1E-E47E-4911-9EE1-3167A4F607DB}" type="slidenum">
              <a:rPr b="0" lang="en-GB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/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2743200" y="53341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.g.m.jaspers@uu.n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599840"/>
            <a:ext cx="57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1760" y="230184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666880" y="3124080"/>
            <a:ext cx="52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Jos Jasp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Langeveld Research Centre Learning in Inte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Utrecht Univers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, persist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r 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YSIW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lusion of one c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i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 relations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s (to be develop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evaluate the participation of students in the ass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 algn="ctr">
              <a:lnSpc>
                <a:spcPct val="101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’s fu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 g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al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s for easier installation and mainte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619280"/>
            <a:ext cx="61736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is the time to 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000" spc="-1" strike="noStrike" u="sng">
                <a:solidFill>
                  <a:srgbClr val="3a66ae"/>
                </a:solidFill>
                <a:uFillTx/>
                <a:latin typeface="Verdana"/>
                <a:hlinkClick r:id="rId1"/>
              </a:rPr>
              <a:t>j.g.m.jaspers@uu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dugate.fss.uu.nl/~crocicl/vcri_eng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Collaborative Research Instit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ultiplatform groupwar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ages of students 15-17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group assignments over longer periods (e.g. 10-15 hou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oolbox with  20 tools to support 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CRI-program"/>
          <p:cNvPicPr/>
          <p:nvPr/>
        </p:nvPicPr>
        <p:blipFill>
          <a:blip r:embed="rId1"/>
          <a:stretch/>
        </p:blipFill>
        <p:spPr>
          <a:xfrm>
            <a:off x="2906640" y="1619280"/>
            <a:ext cx="5427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CRI as a research tool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toolsets in different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conversion of logs to MEP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Episode Protoco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exible program for the annotation of, coding of verbal or nonverbal observational data or protoco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velop a system for coding observationa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the coded verbal or non-verbal protocols with a variety of quantitative or qualitative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41760" y="1619280"/>
            <a:ext cx="57578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/serv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te sourcing/dynamic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via (secure) 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ever possible cross-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Htt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kit, Star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ncr Tcl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OG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 Broeken</dc:creator>
  <dc:description/>
  <cp:keywords>VCRI Tcl</cp:keywords>
  <dc:language>en-US</dc:language>
  <cp:lastModifiedBy>Auditorium</cp:lastModifiedBy>
  <dcterms:modified xsi:type="dcterms:W3CDTF">2008-06-06T08:49:28Z</dcterms:modified>
  <cp:revision>53</cp:revision>
  <dc:subject>VCRI</dc:subject>
  <dc:title>VCRI: Using shared visualisations for collab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