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7.wmf" ContentType="image/x-wmf"/>
  <Override PartName="/ppt/media/image8.wmf" ContentType="image/x-wmf"/>
  <Override PartName="/ppt/media/image9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852A-8BDA-40ED-81B1-079E65721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5404-F6CF-4BF8-A2A9-EDE850B29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3F79-FA07-4603-B69E-407CFA2DD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3591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13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969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3591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13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69D5-C090-4199-9A0C-AD812CB11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96600" y="233280"/>
            <a:ext cx="8196120" cy="28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783E-180A-4267-9038-6E7154A01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591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13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969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591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13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78F4-B2AD-4D19-AA3B-F1650DD07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696600" y="233280"/>
            <a:ext cx="8196120" cy="28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3591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13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6969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3591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13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FCE3-9B79-4C87-963F-A14713B77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F27A-012B-44A0-A197-6885E0F1B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96600" y="233280"/>
            <a:ext cx="8196120" cy="28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7427-ECC0-4673-9FF5-85945F71E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314F-E5B4-4CBB-A1AE-25A688DEF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9B8C-D982-4367-90AD-09EAA659E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812E-881D-41AD-932B-3CEDACA22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008bbf"/>
              </a:buClr>
              <a:buFont typeface="Arial"/>
              <a:buChar char="&gt;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008bb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008bb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3122280" y="6613200"/>
            <a:ext cx="143676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8b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8bbf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685800" y="6613200"/>
            <a:ext cx="244008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008bb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8bbf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4482720" y="6613200"/>
            <a:ext cx="46836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008b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059C0-F177-4377-83D2-FA2A4687DDA4}" type="slidenum">
              <a:rPr b="0" lang="nl-NL" sz="900" spc="-1" strike="noStrike">
                <a:solidFill>
                  <a:srgbClr val="008bb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-1440"/>
            <a:ext cx="9123480" cy="954000"/>
          </a:xfrm>
          <a:prstGeom prst="rect">
            <a:avLst/>
          </a:prstGeom>
          <a:solidFill>
            <a:srgbClr val="a6a6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655040" y="-1440"/>
            <a:ext cx="1488960" cy="95544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5792760" y="-22320"/>
            <a:ext cx="1585800" cy="9748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-14400" y="-27000"/>
            <a:ext cx="9123480" cy="318960"/>
          </a:xfrm>
          <a:prstGeom prst="rect">
            <a:avLst/>
          </a:pr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317520"/>
            <a:ext cx="9123480" cy="317520"/>
          </a:xfrm>
          <a:prstGeom prst="rect">
            <a:avLst/>
          </a:pr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35040"/>
            <a:ext cx="9123480" cy="31752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317520"/>
            <a:ext cx="9123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0" y="635040"/>
            <a:ext cx="9123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0" y="952560"/>
            <a:ext cx="9123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e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4" name="" descr=""/>
          <p:cNvPicPr/>
          <p:nvPr/>
        </p:nvPicPr>
        <p:blipFill>
          <a:blip r:embed="rId4"/>
          <a:stretch/>
        </p:blipFill>
        <p:spPr>
          <a:xfrm>
            <a:off x="7391520" y="6323040"/>
            <a:ext cx="1573200" cy="311040"/>
          </a:xfrm>
          <a:prstGeom prst="rect">
            <a:avLst/>
          </a:prstGeom>
          <a:ln w="0">
            <a:noFill/>
          </a:ln>
        </p:spPr>
      </p:pic>
      <p:sp>
        <p:nvSpPr>
          <p:cNvPr id="15" name=""/>
          <p:cNvSpPr/>
          <p:nvPr/>
        </p:nvSpPr>
        <p:spPr>
          <a:xfrm flipH="1">
            <a:off x="-360" y="6467400"/>
            <a:ext cx="703260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7400" y="3076200"/>
            <a:ext cx="6618240" cy="8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bb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8bb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0" y="4680"/>
            <a:ext cx="9144000" cy="2548080"/>
            <a:chOff x="0" y="4680"/>
            <a:chExt cx="9144000" cy="2548080"/>
          </a:xfrm>
        </p:grpSpPr>
        <p:pic>
          <p:nvPicPr>
            <p:cNvPr id="54" name="" descr=""/>
            <p:cNvPicPr/>
            <p:nvPr/>
          </p:nvPicPr>
          <p:blipFill>
            <a:blip r:embed="rId2"/>
            <a:stretch/>
          </p:blipFill>
          <p:spPr>
            <a:xfrm>
              <a:off x="0" y="4680"/>
              <a:ext cx="4146840" cy="254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" descr=""/>
            <p:cNvPicPr/>
            <p:nvPr/>
          </p:nvPicPr>
          <p:blipFill>
            <a:blip r:embed="rId3"/>
            <a:stretch/>
          </p:blipFill>
          <p:spPr>
            <a:xfrm>
              <a:off x="6152760" y="319320"/>
              <a:ext cx="2349000" cy="99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1595520"/>
              <a:ext cx="9144000" cy="317880"/>
            </a:xfrm>
            <a:prstGeom prst="rect">
              <a:avLst/>
            </a:prstGeom>
            <a:solidFill>
              <a:srgbClr val="7fa1b6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1913760"/>
              <a:ext cx="9144000" cy="318960"/>
            </a:xfrm>
            <a:prstGeom prst="rect">
              <a:avLst/>
            </a:prstGeom>
            <a:solidFill>
              <a:srgbClr val="7fa1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2233080"/>
              <a:ext cx="9144000" cy="319320"/>
            </a:xfrm>
            <a:prstGeom prst="rect">
              <a:avLst/>
            </a:prstGeom>
            <a:solidFill>
              <a:srgbClr val="7fa1b6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800" rIns="82800" tIns="41400" bIns="414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414360"/>
                  <a:tab algn="l" pos="828720"/>
                  <a:tab algn="l" pos="1243080"/>
                  <a:tab algn="l" pos="1657440"/>
                  <a:tab algn="l" pos="2071800"/>
                  <a:tab algn="l" pos="2486160"/>
                  <a:tab algn="l" pos="2900520"/>
                  <a:tab algn="l" pos="3314880"/>
                  <a:tab algn="l" pos="3728880"/>
                  <a:tab algn="l" pos="4143240"/>
                  <a:tab algn="l" pos="4557600"/>
                  <a:tab algn="l" pos="4971960"/>
                  <a:tab algn="l" pos="5386320"/>
                  <a:tab algn="l" pos="5800680"/>
                  <a:tab algn="l" pos="6215040"/>
                  <a:tab algn="l" pos="6629400"/>
                  <a:tab algn="l" pos="7043760"/>
                  <a:tab algn="l" pos="7458120"/>
                  <a:tab algn="l" pos="7872480"/>
                  <a:tab algn="l" pos="82868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1913760"/>
              <a:ext cx="91440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2233080"/>
              <a:ext cx="91440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1595520"/>
              <a:ext cx="91440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2057400" y="5803560"/>
            <a:ext cx="6618240" cy="3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8b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bbf"/>
                </a:solidFill>
                <a:latin typeface="Arial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bb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8bbf"/>
              </a:buClr>
              <a:buFont typeface="Arial"/>
              <a:buChar char="&gt;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8bb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8bb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-22320" y="0"/>
            <a:ext cx="9166320" cy="64533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rcRect l="0" t="0" r="0" b="9820"/>
          <a:stretch/>
        </p:blipFill>
        <p:spPr>
          <a:xfrm>
            <a:off x="0" y="5791320"/>
            <a:ext cx="9145440" cy="10666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-1440" y="0"/>
            <a:ext cx="9145440" cy="325440"/>
          </a:xfrm>
          <a:prstGeom prst="rect">
            <a:avLst/>
          </a:prstGeom>
          <a:solidFill>
            <a:srgbClr val="0000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-1440" y="325440"/>
            <a:ext cx="9145440" cy="322200"/>
          </a:xfrm>
          <a:prstGeom prst="rect">
            <a:avLst/>
          </a:pr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-1440" y="647640"/>
            <a:ext cx="9145440" cy="32544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-1440" y="325440"/>
            <a:ext cx="9140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-1440" y="647640"/>
            <a:ext cx="9140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-1440" y="973080"/>
            <a:ext cx="9140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7391520" y="6323040"/>
            <a:ext cx="1566720" cy="3096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31800" y="350532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11280" y="4149720"/>
            <a:ext cx="8208720" cy="5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0"/>
          </a:bodyPr>
          <a:p>
            <a:pPr marL="34200" indent="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2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3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4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5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6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057400" y="3076200"/>
            <a:ext cx="6618240" cy="8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8bbf"/>
                </a:solidFill>
                <a:latin typeface="Arial"/>
              </a:rPr>
              <a:t>Flood risk assessment</a:t>
            </a:r>
            <a:endParaRPr b="1" lang="en-US" sz="28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2057400" y="4113000"/>
            <a:ext cx="661824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8bbf"/>
                </a:solidFill>
                <a:latin typeface="Arial"/>
              </a:rPr>
              <a:t>Arjen Markus</a:t>
            </a: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8bbf"/>
                </a:solidFill>
                <a:latin typeface="Arial"/>
              </a:rPr>
              <a:t>Deltares</a:t>
            </a: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8bbf"/>
                </a:solidFill>
                <a:latin typeface="Arial"/>
              </a:rPr>
              <a:t>(previous name: WL | delft hydraulics)</a:t>
            </a:r>
            <a:endParaRPr b="0" lang="en-US" sz="1200" spc="-1" strike="noStrike">
              <a:solidFill>
                <a:srgbClr val="008bb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: Hydrodynamics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ine-grained terrain model (100 x 100 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lood simulated using “standard” curves – known for a range of maximum flood r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eriod to simulate: roughly two weeks to three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ach simulation takes several days or even weeks to compl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: Estimating victims, damage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ps of population density and land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ps of water levels and flow velocities from hydrodynamic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IS-based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sult for each indicated are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number of victi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mount of economic da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: Estimate the risk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Combine the results for all scenari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isk is expected number of victims or amount of damage – so multiply with probability of occur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istogram: what is the most likely number of casualti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2411280" y="3645000"/>
            <a:ext cx="381024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anaging the computations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ifferent programs run on different sites or comp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tting up, starting and checking the computations has to be automat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 set of 300 scena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putations take too l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cl turns out to be almost perfect for the jo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Preparing the hydrodynamic computation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pying the (fixed) input files for each computation to a separate direc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ading the XML file with flood parameters and dike strength parame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tting up the timeseries for the flood wave and adjusting various input fi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[clock], [string map], [file copy] are the tools he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Interlude: some code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constructTimeseries {begin series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sobekseries {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begintime [clock scan $begin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offset    [lindex $series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each {time rate} $series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seconds [expr {int(86400*($time-$offset))}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datetime [expr {$begintime+$seconds}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sobektime [clock format $datetime -format \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"'%Y/%m/%d;%H:%M:%S'"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append sobekseries "$sobektime $rate &lt;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# Trick: using a list suppresses an end-of-line at the end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[join $sobekseries \n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Running the hydrodynamic program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heduling the jobs on the Linux clu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ot too many at a time though (I am not the only us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gistering the statu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as the job started ye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s it finished? If so, successfull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as it been analysed ye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mall files with specific names flag that status (“running”, “done”, “analysed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ript runs via the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cron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utility – so I keep the system bu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Running the risk estimation program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Copying the result files from the various direc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dapting the input files for the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unning it in batch mode (it was originally a GUI on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xtracting the relevant inform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outfile [open "hisssm-samenvatting.txt" w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areas {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each file [glob -nocomplain "*-agg.txt"]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{ $areas == {} 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areas [extractAreaDescription $file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 write header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scenid  [extractScenarioId  $file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numbers [extractInformation $file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ts $outfile "$scenid\t[join $numbers \t]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Lessons learned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raceability and monitoring: being able to analyse what went 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utomate as much as possible: you may need to repeat the exerci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an you run the programs in batchmod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Formal view: tuplespace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ill a database with scenarios (here: the file syste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ach record (scenario) goes through various stag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   –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eps in the chain of individual comput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rdering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between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scenarios is irrelev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enarios contain status inform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e"/>
                </a:solidFill>
                <a:latin typeface="Arial"/>
              </a:rPr>
              <a:t>The problem: river floods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st rivers in the Netherlands surrounded by dik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ke breaches are a hazard to be dealt w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kes need to be heigh enough and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trong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ou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project: comprehensive approa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Formal view: tuplespaces (2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ach record (scenario) has the following inform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enario ID (directory name containing all the fil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atus (not started yet, running, finished, analys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scheduler program selects a scenario with the right status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arts the computational program that belongs to that stat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 terms of tuplespaces: a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read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operation – the record is taken ou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f the datab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hen the computational program finishes, a new record is writt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out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oper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Formal view: tuplespaces (3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 this case the stages of the computation a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reparation: from the XML file to a set of input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putation: flood wave and dike brea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nalysis: has the computation succeed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f success, estimate casualties and da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f not: identify why no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tuplespace apprach means the scheduler program needs to kn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othing of the stage of each scenario. It simply scans the director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Formal view: tuplespaces (4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pare this to approaches found in literatu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ormal specification of the computational steps (often via XM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description of the complete computation needs to be analysed and transform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oops (iterations) are expan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scheduler program keeps track of the stages of the comput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 loop in this set-up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imply write a record with the same status, until the stop criteriu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s fulfill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Spin-off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tting up a series of computations is useful (to me) in other projects to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or instance: optimising the location of a waste water discharge in a coastal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ork in progres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arious ways of dealing with a series of compu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ossibility of calibration, not just selecting an altern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lexibility in defining the variatio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Study area (1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881440" y="1482840"/>
            <a:ext cx="350496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Study area (2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urrounded by Rhine and M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pproximately 2 million peop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veral major c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griculture important asp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Study area (3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460520" y="1482840"/>
            <a:ext cx="634536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River system behaviour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ike breach can mean: lower water levels downstr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ut also: pressure from the land s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odelling approach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lect locations for possible brea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pute the water flow in the rivers and over 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stimate casualties and economic damag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Typical result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154160" y="1482840"/>
            <a:ext cx="695952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866960" y="1482840"/>
            <a:ext cx="553248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: Scenarios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onte Carlo simulation: Setting up the scen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loods have stochastic properties: maximum flow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ikes vary in strength – parameters known approximately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lec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raw parameters for each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lation flow rate – water levels kn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stimate: dike breach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sult: 3 x 100 scenarios (for different sets of potential breach loca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2T04:19:57Z</dcterms:created>
  <dc:creator>markus</dc:creator>
  <dc:description/>
  <dc:language>en-US</dc:language>
  <cp:lastModifiedBy>markus</cp:lastModifiedBy>
  <dcterms:modified xsi:type="dcterms:W3CDTF">2009-08-31T09:23:30Z</dcterms:modified>
  <cp:revision>14</cp:revision>
  <dc:subject/>
  <dc:title>Flood risk assessment</dc:title>
</cp:coreProperties>
</file>