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8F5F-1D6B-4F1D-9475-F64A7E32A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D8D7-2C89-4692-8857-7AF5EFCF8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D1FC-34B5-40AE-A1ED-FC663E545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2B79-6353-47C3-9623-968A15E74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FD9F-87D0-47FB-A590-75B1D291A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934A-4079-4CCD-B798-AD17DA875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826E-1DE8-400E-BE3D-48AA920A7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D8C5-D239-42B0-80DA-5EC118DA4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CEE1-DA4C-449F-ADAB-76A5C595D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1563-3BE5-4A68-8B0F-592354A9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16BE-112D-4233-95D5-4BD43E45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AC2F-92E7-47FE-AEC3-0AA5F365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357" r="0" b="0"/>
          <a:stretch/>
        </p:blipFill>
        <p:spPr>
          <a:xfrm>
            <a:off x="0" y="4564080"/>
            <a:ext cx="1658880" cy="2293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41628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ahoma"/>
              </a:rPr>
              <a:t>June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446200" y="6416280"/>
            <a:ext cx="41752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Tahoma"/>
              </a:rPr>
              <a:t>Tcl/Tk’s Contribution to Satellite Operations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43000"/>
            <a:ext cx="4572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1143000"/>
            <a:ext cx="685800" cy="763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732360" y="645300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FCD61-B23C-44B2-BC85-E9F430A10D87}" type="slidenum">
              <a:rPr b="0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553080" y="641664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7229520" y="5877000"/>
            <a:ext cx="1500120" cy="4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rcRect l="0" t="6946" r="0" b="0"/>
          <a:stretch/>
        </p:blipFill>
        <p:spPr>
          <a:xfrm>
            <a:off x="0" y="476280"/>
            <a:ext cx="4846680" cy="6381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6732720" y="5734080"/>
            <a:ext cx="2146320" cy="636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4042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Tcl/Tk’s Contribution to Satellite Operations 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411280" y="1699920"/>
            <a:ext cx="64008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7</a:t>
            </a:r>
            <a:r>
              <a:rPr b="0" lang="en-GB" sz="3200" spc="-1" strike="noStrike" baseline="30000">
                <a:solidFill>
                  <a:srgbClr val="333399"/>
                </a:solidFill>
                <a:latin typeface="Tahoma"/>
              </a:rPr>
              <a:t>th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European Tcl/Tk User Meet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6 June 200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artyn SMIT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oftware Engine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cl/Tk is used increasingly throughout the C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ools used through all phases of satellite production and oper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Agile programming helps to converge towards a functional too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SPACEBEL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55560" y="1203480"/>
            <a:ext cx="795672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nded in 198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Located in Brussels, Liege, Toulouse and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ietna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ain activities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pace industry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atellite Flight software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imulation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Ground Infrastructure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Environment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Environmental monitoring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Water resource management system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Disaster management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NES: French Space Agency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Large quantities of data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atellite Description Database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Telecommand, Telemetr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imulation output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ulti-Satellite Control Centr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Archive/Retrieva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Extrac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Visualis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Contro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Why Choose TCL for the CNES ?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CL already used for Simulato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perts often require small tools quickl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indows platform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mmand line inconvenient -&gt; GU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 this combined lead us to choose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The Snowball Effect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tarted out with small scrip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Demonstrated the possibilities of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ore and more interest by exper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Requests for complete tool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Production tools/environment create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wo complete operational CNES Produc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Plot</a:t>
            </a:r>
            <a:r>
              <a:rPr b="0" lang="en-US" sz="2000" spc="-1" strike="noStrike" baseline="30000">
                <a:solidFill>
                  <a:srgbClr val="333399"/>
                </a:solidFill>
                <a:latin typeface="Tahoma"/>
                <a:ea typeface="Tahoma"/>
              </a:rPr>
              <a:t>®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Decom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Decom: Packet Data Extracto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atellites generate binary packet da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Need to convert into Human readable for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ow Experts to extract sets of parameters on their ow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ecentralised access to paramet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268360" y="4653000"/>
            <a:ext cx="4681440" cy="1211760"/>
            <a:chOff x="2268360" y="4653000"/>
            <a:chExt cx="4681440" cy="1211760"/>
          </a:xfrm>
        </p:grpSpPr>
        <p:sp>
          <p:nvSpPr>
            <p:cNvPr id="99" name=""/>
            <p:cNvSpPr/>
            <p:nvPr/>
          </p:nvSpPr>
          <p:spPr>
            <a:xfrm>
              <a:off x="2268360" y="4653000"/>
              <a:ext cx="468144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36560" y="474516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341080" y="4797360"/>
              <a:ext cx="4608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Starpac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Widgets,  Tile,  Treectrl,  Hugelist, 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19280" y="536400"/>
            <a:ext cx="58561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Plot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ahoma"/>
              </a:rPr>
              <a:t>®</a:t>
            </a: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: 2-D Plotte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hy a new plotter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ulti-Axes date plots with synchronis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Labelled data displa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irect graph manipul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Over 200 users on multiple sit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195640" y="4653000"/>
            <a:ext cx="4824000" cy="1211760"/>
            <a:chOff x="2195640" y="4653000"/>
            <a:chExt cx="4824000" cy="1211760"/>
          </a:xfrm>
        </p:grpSpPr>
        <p:sp>
          <p:nvSpPr>
            <p:cNvPr id="106" name=""/>
            <p:cNvSpPr/>
            <p:nvPr/>
          </p:nvSpPr>
          <p:spPr>
            <a:xfrm>
              <a:off x="2195640" y="4653000"/>
              <a:ext cx="482400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75360" y="4745160"/>
              <a:ext cx="18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70520" y="4797360"/>
              <a:ext cx="4749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Freewra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LT, BWidgets,  mkWidgets, Tablelist,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404640"/>
            <a:ext cx="691344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3:15:33Z</dcterms:created>
  <dc:creator>Martyn Smith</dc:creator>
  <dc:description/>
  <cp:keywords>TCL Satellite Telemetry Simulation</cp:keywords>
  <dc:language>en-US</dc:language>
  <cp:lastModifiedBy>Martyn Smith</cp:lastModifiedBy>
  <dcterms:modified xsi:type="dcterms:W3CDTF">2008-06-04T20:57:42Z</dcterms:modified>
  <cp:revision>42</cp:revision>
  <dc:subject/>
  <dc:title>Tcl/Tk's Contribution to Satellite Operations</dc:title>
</cp:coreProperties>
</file>