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00166"/>
        <c:axId val="76936826"/>
      </c:barChart>
      <c:catAx>
        <c:axId val="44100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36826"/>
        <c:crosses val="autoZero"/>
        <c:auto val="1"/>
        <c:lblAlgn val="ctr"/>
        <c:lblOffset val="100"/>
        <c:noMultiLvlLbl val="0"/>
      </c:catAx>
      <c:valAx>
        <c:axId val="76936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00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544-1CDE-4A0E-A0FD-E316946C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012-9F2F-4D96-934C-ADCC3458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6C1-EFDD-453C-8734-DDD3A52F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D07-B5AC-4888-9326-0DF0ABA0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4B2-AC97-47D2-B7BD-A61C52AB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569-D171-4D55-83DA-A2E0D95B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E70-0675-47C4-9C48-7CACE226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088-0F33-469C-B40C-1D759516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518-9BA8-4618-8091-3A4BED94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251-1CE8-4AD3-8D86-8D936117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516-65DA-4540-A5D4-686B676F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09B-8225-48B2-A124-32E13A2C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F207B-2807-4CAE-83F1-10E02FFE66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