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44409"/>
        <c:axId val="12619219"/>
      </c:barChart>
      <c:catAx>
        <c:axId val="35644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19219"/>
        <c:crosses val="autoZero"/>
        <c:auto val="1"/>
        <c:lblAlgn val="ctr"/>
        <c:lblOffset val="100"/>
        <c:noMultiLvlLbl val="0"/>
      </c:catAx>
      <c:valAx>
        <c:axId val="12619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44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AC6-8DB1-4F82-B04B-4F91A2D4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8DF-74AA-4F4A-B461-2B2C1AA5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BFD-2D94-47C5-B8E7-F5662B01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4B3-F5A9-4E14-9D71-79F71087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1AC-3B6B-46CF-B4E4-84BFD0EF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9EA-9CB2-4DE3-950B-64364EBA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0D0-9C4F-4612-AA47-D455ED69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0EE-7B42-45F3-8815-BEA19868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69F-39CD-4029-81C3-869586E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5D3-FD90-48D4-82A5-03ECEA2A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8BB-DD28-4D14-A74B-A5BDB64E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3AE-1B8B-4EFD-B79D-C7B4ECF9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C090A-3C1B-4A57-B51B-41CE9DFAF6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