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967746"/>
        <c:axId val="76503756"/>
      </c:barChart>
      <c:catAx>
        <c:axId val="51967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03756"/>
        <c:crosses val="autoZero"/>
        <c:auto val="1"/>
        <c:lblAlgn val="ctr"/>
        <c:lblOffset val="100"/>
        <c:noMultiLvlLbl val="0"/>
      </c:catAx>
      <c:valAx>
        <c:axId val="765037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967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E730-ED6E-402D-801D-D816C7D6D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62C8-0F87-4C35-8077-928C7AF7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698A-A3EF-40B4-B1FC-E74371BB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0602-7B92-4414-82AE-DB4BA835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B328-E657-419D-BEB2-48F95202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8159-EC50-4EA6-975A-9CAC684D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E842-7FD4-4724-B811-6B72C98D0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A2F9-8039-44D0-A63F-C8493224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9FFF-B103-41CF-9201-3B276B8C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DE28-5333-4708-B560-CD56F508D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ED06-1294-4FAB-93FE-76D827E0C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3CA-74F8-4056-9C6C-B8B25444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D0EFA-C775-471C-993E-A26DEF1946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