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13505"/>
        <c:axId val="22264669"/>
      </c:barChart>
      <c:catAx>
        <c:axId val="14113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64669"/>
        <c:crosses val="autoZero"/>
        <c:auto val="1"/>
        <c:lblAlgn val="ctr"/>
        <c:lblOffset val="100"/>
        <c:noMultiLvlLbl val="0"/>
      </c:catAx>
      <c:valAx>
        <c:axId val="22264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13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602E-83BA-4E51-8ECB-676BF11CE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7A58-E4D6-40AB-B054-45CB9FC3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0794-F0AE-4AD7-B2D4-98CE1A29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C1C2-6001-4CDD-AE98-764E5074D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4DC-62D4-467C-85B8-2EB871AC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AC84-1CBD-401A-9174-F4AEEF92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A051-26CE-446C-98A2-1DA04A34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303-5929-425F-BB1C-D74E7A84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CF5-962D-4771-8F0D-045D6852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428-2CDC-42C6-B9DF-6934CCA6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187B-EB8B-4DE2-BEAE-F9E43041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7AAE-AE65-486C-AE1F-16ED54DD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7400F1-B644-4160-A714-E7AB75D062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