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9F996E-D5F0-4644-8C82-68BF722330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r change Makefile.in, make distclean,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37A-D6C5-48C9-AB9F-09ED1215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F2E-5A90-4F6C-85B2-33B42F64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BC9-8445-4BDD-9A71-A82B06FF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C1C-54BB-4B68-8D12-D690D15B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FA20-F3EB-4F62-8239-54FD5CAD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54CD-BA33-47B5-A1FD-CE7304FD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C93B-6E05-4FAD-B88F-F4085285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8027-C719-4035-835E-4C043DE4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82D2-EE88-4668-B3D6-78677437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7C49-3958-4F3A-B414-5D376DF6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D598-3400-499C-95DF-8CE36E7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D2F-EF66-4903-8880-E2B88E6A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D0CB-91D8-4B31-A459-79E3F5E0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9307-7E1E-4F6D-AE98-A24B1D5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0744-AF23-4DA2-8DA9-16FCDBA2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146E-87FE-4E10-811F-C3CE23A6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7700-E6E3-4CCC-B618-E32B4F03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528-5D84-4A4F-AEDE-6D8D99B3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56D-5DE5-4550-94A9-D9CB0D75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955-00A1-4A0B-BF8F-133DF97D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EE4-7257-4F57-BAD1-85D763FE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EF0-E9D8-4A19-A9B9-A020FF4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650-5C07-4B0E-9666-3726E6CF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377-9269-40E5-92B2-DD544877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710-B021-461B-8827-3E7CD8B1660A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25B2-0CFC-4D05-80E3-4A9AE0953CF4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5372-FEF1-4F34-A724-3AF39D418B4D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AB7C-1891-4393-BC54-5072A9C8B8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dmalloc.com/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I: Extending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3408-FB31-4A19-B267-81596FD009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 and trac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essage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446-7C6A-4BD1-8890-1C73C3E704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for {set i 0} {$i &lt; 6} {incr i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($i)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1) 128kb 5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4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5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2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3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0) $n(1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1) $n(0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E13-095C-496E-8E31-D713C5BC4B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acket loss produced by queue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proto D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BDD-8F18-4F86-8874-4B0ABB14D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oss traff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udp0 [new Agent/UD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2)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ull0 [new Agent/NUL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4)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udp0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xp0 [new Application/Traffic/Exponentia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set rate_ 128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attach-agent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$exp0 star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72F-4680-4034-B77E-B7C8E4761B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ssage ag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new Se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dr set packetSize_ 1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Receiv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rcvr set packetSize_ 4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3)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5)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sdr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rcvr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1 “$sdr send-nex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415-6FFD-48CE-9846-6FBEB1BDB3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9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2.0 finis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FDD-0BD5-459C-AC5D-91D215F159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Resul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outp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&gt; ./ns msg.tc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0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0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1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1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2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2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3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3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4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4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5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AF2-994B-425C-978D-BD1B176BD2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s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292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6224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2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93000" y="4533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7840" y="5257800"/>
            <a:ext cx="1228680" cy="401760"/>
          </a:xfrm>
          <a:prstGeom prst="wedgeRoundRectCallout">
            <a:avLst>
              <a:gd name="adj1" fmla="val 37078"/>
              <a:gd name="adj2" fmla="val -127074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65360" y="5259240"/>
            <a:ext cx="1639800" cy="403200"/>
          </a:xfrm>
          <a:prstGeom prst="wedgeRoundRectCallout">
            <a:avLst>
              <a:gd name="adj1" fmla="val 14861"/>
              <a:gd name="adj2" fmla="val -117717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6842880" y="32680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27800" y="54468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24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0" name=""/>
          <p:cNvCxnSpPr>
            <a:stCxn id="338" idx="2"/>
            <a:endCxn id="321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1" name=""/>
          <p:cNvCxnSpPr>
            <a:stCxn id="338" idx="2"/>
            <a:endCxn id="322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2" name=""/>
          <p:cNvCxnSpPr>
            <a:stCxn id="338" idx="2"/>
            <a:endCxn id="323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3" name=""/>
          <p:cNvCxnSpPr>
            <a:stCxn id="338" idx="2"/>
            <a:endCxn id="325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4" name=""/>
          <p:cNvCxnSpPr>
            <a:stCxn id="338" idx="2"/>
            <a:endCxn id="326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5" name=""/>
          <p:cNvCxnSpPr>
            <a:stCxn id="325" idx="2"/>
            <a:endCxn id="327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6" name=""/>
          <p:cNvCxnSpPr>
            <a:stCxn id="327" idx="2"/>
            <a:endCxn id="328" idx="0"/>
          </p:cNvCxnSpPr>
          <p:nvPr/>
        </p:nvCxnSpPr>
        <p:spPr>
          <a:xfrm flipH="1">
            <a:off x="1499760" y="4186080"/>
            <a:ext cx="306000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7" name=""/>
          <p:cNvCxnSpPr>
            <a:stCxn id="327" idx="2"/>
            <a:endCxn id="329" idx="0"/>
          </p:cNvCxnSpPr>
          <p:nvPr/>
        </p:nvCxnSpPr>
        <p:spPr>
          <a:xfrm flipH="1">
            <a:off x="2718720" y="4186080"/>
            <a:ext cx="184068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8" name=""/>
          <p:cNvCxnSpPr>
            <a:stCxn id="327" idx="2"/>
            <a:endCxn id="330" idx="0"/>
          </p:cNvCxnSpPr>
          <p:nvPr/>
        </p:nvCxnSpPr>
        <p:spPr>
          <a:xfrm>
            <a:off x="4559400" y="4185720"/>
            <a:ext cx="891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6296040" y="4514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27" idx="2"/>
            <a:endCxn id="349" idx="0"/>
          </p:cNvCxnSpPr>
          <p:nvPr/>
        </p:nvCxnSpPr>
        <p:spPr>
          <a:xfrm>
            <a:off x="4559400" y="4185720"/>
            <a:ext cx="2194560" cy="3290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3684600" y="4545000"/>
            <a:ext cx="995400" cy="4428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y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27" idx="2"/>
            <a:endCxn id="351" idx="0"/>
          </p:cNvCxnSpPr>
          <p:nvPr/>
        </p:nvCxnSpPr>
        <p:spPr>
          <a:xfrm flipH="1">
            <a:off x="4182480" y="4185720"/>
            <a:ext cx="37692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603600" y="5257800"/>
            <a:ext cx="1157400" cy="4572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sg.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3" idx="0"/>
          </p:cNvCxnSpPr>
          <p:nvPr/>
        </p:nvCxnSpPr>
        <p:spPr>
          <a:xfrm>
            <a:off x="4182840" y="4987800"/>
            <a:ext cx="1080" cy="270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07B-2233-45F2-AC60-FB1DA27874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lib/ns-lib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ass Simula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ource ../mysrc/msg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NS_TCL_LIB =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/mysrc/msg.tcl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: change Makefile.in,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ake distcle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n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/configure --enable-debu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C55-E204-463A-A519-486848ED7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compon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299-CBB6-4A28-996E-0952A00F8F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0B1-1E77-4255-BBD9-FB8C6D4D12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C++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ifying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ing code in new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ange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D2E-B9F7-4F40-A5D0-03FC52E05C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w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uideli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sty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agent based on existing packet head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new packet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317-B8BC-4A71-88B1-1297F7B831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del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8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de position in class hierarch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.e., which class to derive from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packet header (if necessa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C++ class, fill in metho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OTcl linkag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rite OTcl cod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ild (and debug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A9E-CE02-45C0-A7FF-F65FB8E224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Agent,  Old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 jump 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de-open transmission window at the begin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+= 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= MAXWIN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530-4233-46BB-A40B-927C905D48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832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4940280"/>
            <a:ext cx="757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70000" y="570564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60720" y="5705640"/>
            <a:ext cx="838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69" idx="2"/>
            <a:endCxn id="370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7" name=""/>
          <p:cNvCxnSpPr>
            <a:stCxn id="369" idx="2"/>
            <a:endCxn id="371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8" name=""/>
          <p:cNvCxnSpPr>
            <a:stCxn id="368" idx="2"/>
            <a:endCxn id="369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9" name=""/>
          <p:cNvCxnSpPr>
            <a:stCxn id="370" idx="2"/>
            <a:endCxn id="376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0" name=""/>
          <p:cNvCxnSpPr>
            <a:stCxn id="370" idx="2"/>
            <a:endCxn id="372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1" name=""/>
          <p:cNvCxnSpPr>
            <a:stCxn id="370" idx="2"/>
            <a:endCxn id="374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2" name=""/>
          <p:cNvCxnSpPr>
            <a:stCxn id="370" idx="2"/>
            <a:endCxn id="377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3" name=""/>
          <p:cNvCxnSpPr>
            <a:stCxn id="371" idx="2"/>
            <a:endCxn id="373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4" name=""/>
          <p:cNvCxnSpPr>
            <a:stCxn id="371" idx="2"/>
            <a:endCxn id="375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76" idx="2"/>
            <a:endCxn id="378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76" idx="2"/>
            <a:endCxn id="379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7" name=""/>
          <p:cNvCxnSpPr>
            <a:stCxn id="374" idx="2"/>
            <a:endCxn id="380" idx="0"/>
          </p:cNvCxnSpPr>
          <p:nvPr/>
        </p:nvCxnSpPr>
        <p:spPr>
          <a:xfrm flipH="1">
            <a:off x="3047400" y="4554360"/>
            <a:ext cx="146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8" name=""/>
          <p:cNvCxnSpPr>
            <a:stCxn id="380" idx="2"/>
            <a:endCxn id="384" idx="0"/>
          </p:cNvCxnSpPr>
          <p:nvPr/>
        </p:nvCxnSpPr>
        <p:spPr>
          <a:xfrm flipH="1">
            <a:off x="2450880" y="5397480"/>
            <a:ext cx="597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9" name=""/>
          <p:cNvCxnSpPr>
            <a:stCxn id="380" idx="2"/>
            <a:endCxn id="385" idx="0"/>
          </p:cNvCxnSpPr>
          <p:nvPr/>
        </p:nvCxnSpPr>
        <p:spPr>
          <a:xfrm>
            <a:off x="3047760" y="5397480"/>
            <a:ext cx="43236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0" name=""/>
          <p:cNvCxnSpPr>
            <a:stCxn id="377" idx="2"/>
            <a:endCxn id="381" idx="0"/>
          </p:cNvCxnSpPr>
          <p:nvPr/>
        </p:nvCxnSpPr>
        <p:spPr>
          <a:xfrm flipH="1">
            <a:off x="4190400" y="4554360"/>
            <a:ext cx="1371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1" name=""/>
          <p:cNvCxnSpPr>
            <a:stCxn id="377" idx="2"/>
            <a:endCxn id="382" idx="0"/>
          </p:cNvCxnSpPr>
          <p:nvPr/>
        </p:nvCxnSpPr>
        <p:spPr>
          <a:xfrm>
            <a:off x="4327200" y="4554360"/>
            <a:ext cx="62604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2" name=""/>
          <p:cNvCxnSpPr>
            <a:stCxn id="377" idx="2"/>
            <a:endCxn id="383" idx="0"/>
          </p:cNvCxnSpPr>
          <p:nvPr/>
        </p:nvCxnSpPr>
        <p:spPr>
          <a:xfrm>
            <a:off x="4327200" y="4554360"/>
            <a:ext cx="153900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4224240" y="569916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J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80" idx="2"/>
            <a:endCxn id="403" idx="0"/>
          </p:cNvCxnSpPr>
          <p:nvPr/>
        </p:nvCxnSpPr>
        <p:spPr>
          <a:xfrm>
            <a:off x="3048120" y="5397480"/>
            <a:ext cx="1519920" cy="302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F22-5E04-47CC-9BC7-2E795ED3C19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JSTCPAgent : public TcpAgent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virtual void set_initial_window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wnd_ =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nt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FA9-FDF3-4490-A34F-07201CCF33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c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JSTcpClass : public Tcl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Class() : TclClass("Agent/TCP/JS") {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Object* create(int, const char*const*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(new JSTcpAgent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Agent::JS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MAXWIN_”, MAXWIN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603-C10D-4D42-9C02-E9F237AF91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tracing support of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static class for OTcl linkage (packet.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new header in OTcl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his does not apply when you add a new field into an existing header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2DA-332C-4B91-A812-7CAF28B900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Packet Header Wor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1280160" y="165096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36600" y="2070000"/>
            <a:ext cx="1087200" cy="1239480"/>
            <a:chOff x="1236600" y="2070000"/>
            <a:chExt cx="1087200" cy="1239480"/>
          </a:xfrm>
        </p:grpSpPr>
        <p:sp>
          <p:nvSpPr>
            <p:cNvPr id="414" name=""/>
            <p:cNvSpPr/>
            <p:nvPr/>
          </p:nvSpPr>
          <p:spPr>
            <a:xfrm>
              <a:off x="1236600" y="2070000"/>
              <a:ext cx="1087200" cy="4147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nex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6600" y="248256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drlen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6600" y="289512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its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645000" y="2730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45000" y="3792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45000" y="4854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56520" y="5931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2743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74760" y="29732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cm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13400" y="3805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99960" y="4035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26360" y="4867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0760" y="50976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5600" y="3079800"/>
            <a:ext cx="13194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1200" y="3846600"/>
            <a:ext cx="2635200" cy="1584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rtup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(PacketHeaderManag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15" idx="1"/>
            <a:endCxn id="428" idx="0"/>
          </p:cNvCxnSpPr>
          <p:nvPr/>
        </p:nvCxnSpPr>
        <p:spPr>
          <a:xfrm flipH="1" flipV="1" rot="10800000">
            <a:off x="1235520" y="2689560"/>
            <a:ext cx="862920" cy="1156680"/>
          </a:xfrm>
          <a:prstGeom prst="bentConnector4">
            <a:avLst>
              <a:gd name="adj1" fmla="val -26502"/>
              <a:gd name="adj2" fmla="val 72633"/>
            </a:avLst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30" name=""/>
          <p:cNvGrpSpPr/>
          <p:nvPr/>
        </p:nvGrpSpPr>
        <p:grpSpPr>
          <a:xfrm>
            <a:off x="3416040" y="1816200"/>
            <a:ext cx="5137560" cy="3197160"/>
            <a:chOff x="3416040" y="1816200"/>
            <a:chExt cx="5137560" cy="3197160"/>
          </a:xfrm>
        </p:grpSpPr>
        <p:grpSp>
          <p:nvGrpSpPr>
            <p:cNvPr id="431" name=""/>
            <p:cNvGrpSpPr/>
            <p:nvPr/>
          </p:nvGrpSpPr>
          <p:grpSpPr>
            <a:xfrm>
              <a:off x="5459400" y="1816200"/>
              <a:ext cx="3094200" cy="3197160"/>
              <a:chOff x="5459400" y="1816200"/>
              <a:chExt cx="3094200" cy="31971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5459400" y="1816200"/>
                <a:ext cx="3094200" cy="873000"/>
                <a:chOff x="5459400" y="1816200"/>
                <a:chExt cx="3094200" cy="873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459400" y="1816200"/>
                  <a:ext cx="3094200" cy="873000"/>
                </a:xfrm>
                <a:prstGeom prst="cloudCallout">
                  <a:avLst>
                    <a:gd name="adj1" fmla="val -40509"/>
                    <a:gd name="adj2" fmla="val 80365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746320" y="2023920"/>
                  <a:ext cx="260100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Common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626080" y="3246480"/>
                <a:ext cx="2637000" cy="752400"/>
                <a:chOff x="5626080" y="3246480"/>
                <a:chExt cx="2637000" cy="752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626080" y="324648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29200" y="3454560"/>
                  <a:ext cx="18968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I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11760" y="4260960"/>
                <a:ext cx="2637000" cy="752400"/>
                <a:chOff x="5711760" y="4260960"/>
                <a:chExt cx="2637000" cy="752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760" y="426096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011640" y="4469040"/>
                  <a:ext cx="20642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TC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441" name=""/>
            <p:cNvCxnSpPr>
              <a:stCxn id="428" idx="3"/>
              <a:endCxn id="433" idx="0"/>
            </p:cNvCxnSpPr>
            <p:nvPr/>
          </p:nvCxnSpPr>
          <p:spPr>
            <a:xfrm flipV="1">
              <a:off x="3416040" y="2252160"/>
              <a:ext cx="2053080" cy="2386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28" idx="3"/>
              <a:endCxn id="436" idx="0"/>
            </p:cNvCxnSpPr>
            <p:nvPr/>
          </p:nvCxnSpPr>
          <p:spPr>
            <a:xfrm flipV="1">
              <a:off x="3416400" y="3622320"/>
              <a:ext cx="2218320" cy="1016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28" idx="3"/>
              <a:endCxn id="439" idx="0"/>
            </p:cNvCxnSpPr>
            <p:nvPr/>
          </p:nvCxnSpPr>
          <p:spPr>
            <a:xfrm flipV="1">
              <a:off x="3416400" y="4636800"/>
              <a:ext cx="230400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CC6-774A-4E00-8A9C-3D1387BA58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96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packet header for 64-byte 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transport agent to process this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D3B-E298-4D53-AC20-F2F52F9FA8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Directory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572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50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16280" y="45403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16800" y="45464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0640" y="5243400"/>
            <a:ext cx="1228680" cy="401760"/>
          </a:xfrm>
          <a:prstGeom prst="wedgeRoundRectCallout">
            <a:avLst>
              <a:gd name="adj1" fmla="val 40310"/>
              <a:gd name="adj2" fmla="val -124703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78160" y="5245200"/>
            <a:ext cx="1639800" cy="403200"/>
          </a:xfrm>
          <a:prstGeom prst="wedgeRoundRectCallout">
            <a:avLst>
              <a:gd name="adj1" fmla="val 14861"/>
              <a:gd name="adj2" fmla="val -13070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66680" y="32806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51600" y="54594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2"/>
            <a:endCxn id="235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1" name=""/>
          <p:cNvCxnSpPr>
            <a:stCxn id="249" idx="2"/>
            <a:endCxn id="232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2" name=""/>
          <p:cNvCxnSpPr>
            <a:stCxn id="249" idx="2"/>
            <a:endCxn id="233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3" name=""/>
          <p:cNvCxnSpPr>
            <a:stCxn id="249" idx="2"/>
            <a:endCxn id="234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4" name=""/>
          <p:cNvCxnSpPr>
            <a:stCxn id="249" idx="2"/>
            <a:endCxn id="236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5" name=""/>
          <p:cNvCxnSpPr>
            <a:stCxn id="249" idx="2"/>
            <a:endCxn id="237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6" name=""/>
          <p:cNvCxnSpPr>
            <a:stCxn id="236" idx="2"/>
            <a:endCxn id="238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7" name=""/>
          <p:cNvCxnSpPr>
            <a:stCxn id="238" idx="2"/>
            <a:endCxn id="239" idx="0"/>
          </p:cNvCxnSpPr>
          <p:nvPr/>
        </p:nvCxnSpPr>
        <p:spPr>
          <a:xfrm flipH="1">
            <a:off x="2212560" y="4185720"/>
            <a:ext cx="234720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8" name=""/>
          <p:cNvCxnSpPr>
            <a:stCxn id="238" idx="2"/>
            <a:endCxn id="240" idx="0"/>
          </p:cNvCxnSpPr>
          <p:nvPr/>
        </p:nvCxnSpPr>
        <p:spPr>
          <a:xfrm flipH="1">
            <a:off x="3431520" y="4185720"/>
            <a:ext cx="112788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9" name=""/>
          <p:cNvCxnSpPr>
            <a:stCxn id="238" idx="2"/>
            <a:endCxn id="241" idx="0"/>
          </p:cNvCxnSpPr>
          <p:nvPr/>
        </p:nvCxnSpPr>
        <p:spPr>
          <a:xfrm>
            <a:off x="4559400" y="4186080"/>
            <a:ext cx="514440" cy="3549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5919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38" idx="2"/>
            <a:endCxn id="260" idx="0"/>
          </p:cNvCxnSpPr>
          <p:nvPr/>
        </p:nvCxnSpPr>
        <p:spPr>
          <a:xfrm>
            <a:off x="4559040" y="4185720"/>
            <a:ext cx="1818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F92-7C52-41E5-AA92-E1E014A0AE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ruct hdr_msg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msg_[64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int offset_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line static int&amp; offset() { return offset_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inline static hdr_msg* access(Packet* p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return (hdr_msg*) p-&gt;access(offset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* per-field member functions */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* msg() { return (msg_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maxmsg() { return (sizeof(msg_)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2BD-1D29-438B-817A-3E9A056914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Header/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class MessageHeaderClass 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 PacketHeader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essageHeaderClass() : PacketHeaderClass("PacketHeader/Message"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izeof(hdr_msg)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_offset(&amp;hdr_msg::offset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class_msghd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310-A937-473F-9EED-4A27AE774B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cing (packet.h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enum packet_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TCP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MESSAGE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NTYPE // This MUST be the LAST 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p_info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MESSAGE] = “message”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NTYPE]= "undefined"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A0E-78A9-41D1-A389-3BAE9EEF0B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gister new header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each pair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Common off_cmn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Message off_msg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BDA-6740-40F8-BF73-B8A233C84A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Header: Ca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me old code, e.g.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tpAgent::Rt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off_rtp_”, &amp;off_rtp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hdr_rtp* rh = (hdr_rtp*)p-&gt;access(off_rtp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Don’t follow this example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BFF-767E-4F2F-9CC9-8F80139D0F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796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4820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1032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48400" y="4938840"/>
            <a:ext cx="757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90800" y="5705640"/>
            <a:ext cx="7617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81160" y="570564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58" idx="2"/>
            <a:endCxn id="459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6" name=""/>
          <p:cNvCxnSpPr>
            <a:stCxn id="458" idx="2"/>
            <a:endCxn id="460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7" name=""/>
          <p:cNvCxnSpPr>
            <a:stCxn id="457" idx="2"/>
            <a:endCxn id="458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8" name=""/>
          <p:cNvCxnSpPr>
            <a:stCxn id="459" idx="2"/>
            <a:endCxn id="465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9" name=""/>
          <p:cNvCxnSpPr>
            <a:stCxn id="459" idx="2"/>
            <a:endCxn id="461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0" name=""/>
          <p:cNvCxnSpPr>
            <a:stCxn id="459" idx="2"/>
            <a:endCxn id="463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1" name=""/>
          <p:cNvCxnSpPr>
            <a:stCxn id="459" idx="2"/>
            <a:endCxn id="466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2" name=""/>
          <p:cNvCxnSpPr>
            <a:stCxn id="460" idx="2"/>
            <a:endCxn id="462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3" name=""/>
          <p:cNvCxnSpPr>
            <a:stCxn id="460" idx="2"/>
            <a:endCxn id="464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4" name=""/>
          <p:cNvCxnSpPr>
            <a:stCxn id="465" idx="2"/>
            <a:endCxn id="467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5" name=""/>
          <p:cNvCxnSpPr>
            <a:stCxn id="465" idx="2"/>
            <a:endCxn id="468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63" idx="2"/>
            <a:endCxn id="469" idx="0"/>
          </p:cNvCxnSpPr>
          <p:nvPr/>
        </p:nvCxnSpPr>
        <p:spPr>
          <a:xfrm flipH="1">
            <a:off x="2860200" y="4554360"/>
            <a:ext cx="33408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69" idx="2"/>
            <a:endCxn id="473" idx="0"/>
          </p:cNvCxnSpPr>
          <p:nvPr/>
        </p:nvCxnSpPr>
        <p:spPr>
          <a:xfrm flipH="1">
            <a:off x="2371320" y="5397480"/>
            <a:ext cx="489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8" name=""/>
          <p:cNvCxnSpPr>
            <a:stCxn id="469" idx="2"/>
            <a:endCxn id="474" idx="0"/>
          </p:cNvCxnSpPr>
          <p:nvPr/>
        </p:nvCxnSpPr>
        <p:spPr>
          <a:xfrm>
            <a:off x="2860560" y="5397480"/>
            <a:ext cx="54072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9" name=""/>
          <p:cNvCxnSpPr>
            <a:stCxn id="466" idx="2"/>
            <a:endCxn id="470" idx="0"/>
          </p:cNvCxnSpPr>
          <p:nvPr/>
        </p:nvCxnSpPr>
        <p:spPr>
          <a:xfrm>
            <a:off x="4327200" y="4554360"/>
            <a:ext cx="92628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0" name=""/>
          <p:cNvCxnSpPr>
            <a:stCxn id="466" idx="2"/>
            <a:endCxn id="471" idx="0"/>
          </p:cNvCxnSpPr>
          <p:nvPr/>
        </p:nvCxnSpPr>
        <p:spPr>
          <a:xfrm>
            <a:off x="4327200" y="4554360"/>
            <a:ext cx="168804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66" idx="2"/>
            <a:endCxn id="472" idx="0"/>
          </p:cNvCxnSpPr>
          <p:nvPr/>
        </p:nvCxnSpPr>
        <p:spPr>
          <a:xfrm>
            <a:off x="4327200" y="4554360"/>
            <a:ext cx="260100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3363840" y="4940280"/>
            <a:ext cx="146376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63" idx="2"/>
            <a:endCxn id="492" idx="0"/>
          </p:cNvCxnSpPr>
          <p:nvPr/>
        </p:nvCxnSpPr>
        <p:spPr>
          <a:xfrm>
            <a:off x="3193560" y="4554360"/>
            <a:ext cx="902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49C-D3A1-462F-9B5B-AD9A85FD97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class defini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Standard split object declar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MessageAgent : public Agen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MessageAgent() : Agent(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PT_MESSAG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) {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void recv(Packet*, Handler*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A41-CB81-40D5-9C26-1F447F0806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s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nt MessageAgent::command(int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f (strcmp(argv[1], "send") == 0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Packet* pkt = allocpkt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// We ignore message size check..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trcpy(mh-&gt;msg(), argv[2]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end(pkt, 0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TCL_OK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Agent::command(argc, argv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980-9287-447C-8AF7-37A5AE3B7E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rece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oid MessageAgent::recv(Packet* pkt, Handler*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OTcl callbac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wrk[128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printf(wrk, "%s recv {%s}", name(), mh-&gt;msg()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.eval(wr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acket::free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E3A-28E7-498E-87BE-A14FC1840A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ugging: OTcl/C++, 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itfal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0AD-4F4A-40A2-8F1F-3E0EE9ECC3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you don’t want to comp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ourc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your changes in your sim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wi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ying code; 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ing new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nge Makefile (NS_TCL_LIB), 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DF8-B713-4734-A0F6-4CFD258857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C++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/OTcl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066-B5B9-444C-B05D-CDDBF0776D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ual techni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reak inside comma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not examine states inside OTcl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ecute tcl-debug inside gd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B29-7320-4458-BAAD-E0A0A9A5C2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all Tcl::instance().eval(“debug 1”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3&gt; 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*0: appli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4&gt; Simulator info instanc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_o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5&gt; _o1 no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6&gt; # and other fun stuff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7&gt;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whe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0 0x102218 in write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8AB-4D12-4CBC-9F18-A09BD774F2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Debugging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0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PURIFY macro in ns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lly, put -colloctor=&lt;ld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ay Watson’s dmalloc libr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www.dmalloc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istcle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dmalloc=&lt;dmalloc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yze results: dmalloc_summar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DC7-FADA-4C07-80E1-E13FA3CB48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malloc: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dmallo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ias dmalloc ’eval ‘\dmalloc –C \!*`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 -l log 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malloc_summarize ns &lt; logf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must be in current direc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emize how much memory is allocated in each fun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5C6-ECD1-4CB6-B9C8-D33A695447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vs flex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, how to write scalable simulat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conservation t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lea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42D-C4DB-442F-8497-594C6C9E8A7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alability vs Flexi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’s tempting to write all-OTcl sim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nefit: quick prototyp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: memory +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 the granularity of your split object by migrating methods from OTcl to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BFD-1B2D-454F-8BDA-81798492523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erit of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833400" y="2438280"/>
            <a:ext cx="7804080" cy="609840"/>
          </a:xfrm>
          <a:custGeom>
            <a:avLst/>
            <a:gdLst>
              <a:gd name="textAreaLeft" fmla="*/ 264240 w 7804080"/>
              <a:gd name="textAreaRight" fmla="*/ 7539840 w 7804080"/>
              <a:gd name="textAreaTop" fmla="*/ 108000 h 609840"/>
              <a:gd name="textAreaBottom" fmla="*/ 5018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3825"/>
                </a:moveTo>
                <a:lnTo>
                  <a:pt x="20467" y="3825"/>
                </a:lnTo>
                <a:lnTo>
                  <a:pt x="20467" y="0"/>
                </a:lnTo>
                <a:lnTo>
                  <a:pt x="21600" y="10800"/>
                </a:lnTo>
                <a:lnTo>
                  <a:pt x="20467" y="21600"/>
                </a:lnTo>
                <a:lnTo>
                  <a:pt x="20467" y="17775"/>
                </a:lnTo>
                <a:lnTo>
                  <a:pt x="0" y="17775"/>
                </a:lnTo>
                <a:lnTo>
                  <a:pt x="732" y="10800"/>
                </a:lnTo>
                <a:lnTo>
                  <a:pt x="0" y="382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29400" y="1795320"/>
            <a:ext cx="49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gram size, complex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40280" y="3652920"/>
            <a:ext cx="4548240" cy="140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3232080"/>
            <a:ext cx="441936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36800" y="319104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/C++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96440" y="315288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OTc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8440" y="4724280"/>
            <a:ext cx="797724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oothly adjust the granularity of scripting to balance extensibility and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th complete compatibility with existing simulation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569880" y="1959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80840" y="18972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13080" y="4351320"/>
            <a:ext cx="4548240" cy="144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21000" y="3767040"/>
            <a:ext cx="25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split objec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71B-02D2-4326-9637-8596E053ABC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 Granularity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ctiona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-packet processing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, frequently changing cod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ta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x/large data structur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-time configuration variabl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C55-F0FE-4967-8FD7-143FC31BF0D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Conservation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race-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arrays for a sequence of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$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say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($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OTcl temporary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dynamic bind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ay_bind()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bi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e object.{h,cc}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745-5004-4C2F-9731-CC543FEC34F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52760" y="3441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43400" y="34434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2240" y="4383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9708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97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5" idx="6"/>
            <a:endCxn id="266" idx="2"/>
          </p:cNvCxnSpPr>
          <p:nvPr/>
        </p:nvCxnSpPr>
        <p:spPr>
          <a:xfrm>
            <a:off x="3990600" y="3711600"/>
            <a:ext cx="12531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2" name=""/>
          <p:cNvCxnSpPr>
            <a:stCxn id="265" idx="2"/>
            <a:endCxn id="269" idx="5"/>
          </p:cNvCxnSpPr>
          <p:nvPr/>
        </p:nvCxnSpPr>
        <p:spPr>
          <a:xfrm flipH="1" flipV="1">
            <a:off x="2655360" y="3046320"/>
            <a:ext cx="797760" cy="665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3" name=""/>
          <p:cNvCxnSpPr>
            <a:stCxn id="265" idx="2"/>
            <a:endCxn id="270" idx="7"/>
          </p:cNvCxnSpPr>
          <p:nvPr/>
        </p:nvCxnSpPr>
        <p:spPr>
          <a:xfrm flipH="1">
            <a:off x="2655360" y="371124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4" name=""/>
          <p:cNvCxnSpPr>
            <a:stCxn id="266" idx="6"/>
            <a:endCxn id="267" idx="3"/>
          </p:cNvCxnSpPr>
          <p:nvPr/>
        </p:nvCxnSpPr>
        <p:spPr>
          <a:xfrm flipV="1">
            <a:off x="5781600" y="3045960"/>
            <a:ext cx="699120" cy="66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5" name=""/>
          <p:cNvCxnSpPr>
            <a:stCxn id="266" idx="6"/>
            <a:endCxn id="268" idx="1"/>
          </p:cNvCxnSpPr>
          <p:nvPr/>
        </p:nvCxnSpPr>
        <p:spPr>
          <a:xfrm>
            <a:off x="5781240" y="3713040"/>
            <a:ext cx="700920" cy="750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920760" y="332568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28Kb, 5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606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60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80920" y="2587680"/>
            <a:ext cx="7475760" cy="1196640"/>
            <a:chOff x="880920" y="2587680"/>
            <a:chExt cx="7475760" cy="1196640"/>
          </a:xfrm>
        </p:grpSpPr>
        <p:grpSp>
          <p:nvGrpSpPr>
            <p:cNvPr id="280" name=""/>
            <p:cNvGrpSpPr/>
            <p:nvPr/>
          </p:nvGrpSpPr>
          <p:grpSpPr>
            <a:xfrm>
              <a:off x="987480" y="2587680"/>
              <a:ext cx="7369200" cy="538200"/>
              <a:chOff x="987480" y="2587680"/>
              <a:chExt cx="7369200" cy="538200"/>
            </a:xfrm>
          </p:grpSpPr>
          <p:sp>
            <p:nvSpPr>
              <p:cNvPr id="281" name=""/>
              <p:cNvSpPr/>
              <p:nvPr/>
            </p:nvSpPr>
            <p:spPr>
              <a:xfrm>
                <a:off x="987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8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83" name=""/>
              <p:cNvCxnSpPr>
                <a:stCxn id="281" idx="6"/>
                <a:endCxn id="269" idx="2"/>
              </p:cNvCxnSpPr>
              <p:nvPr/>
            </p:nvCxnSpPr>
            <p:spPr>
              <a:xfrm>
                <a:off x="1525320" y="2857320"/>
                <a:ext cx="6721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84" name=""/>
              <p:cNvCxnSpPr>
                <a:stCxn id="282" idx="2"/>
                <a:endCxn id="267" idx="6"/>
              </p:cNvCxnSpPr>
              <p:nvPr/>
            </p:nvCxnSpPr>
            <p:spPr>
              <a:xfrm flipH="1">
                <a:off x="6938280" y="2857320"/>
                <a:ext cx="88020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85" name=""/>
            <p:cNvSpPr/>
            <p:nvPr/>
          </p:nvSpPr>
          <p:spPr>
            <a:xfrm>
              <a:off x="880920" y="3141720"/>
              <a:ext cx="81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os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traffi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35760" y="4349880"/>
            <a:ext cx="7734240" cy="963360"/>
            <a:chOff x="635760" y="4349880"/>
            <a:chExt cx="7734240" cy="963360"/>
          </a:xfrm>
        </p:grpSpPr>
        <p:grpSp>
          <p:nvGrpSpPr>
            <p:cNvPr id="287" name=""/>
            <p:cNvGrpSpPr/>
            <p:nvPr/>
          </p:nvGrpSpPr>
          <p:grpSpPr>
            <a:xfrm>
              <a:off x="1001520" y="4349880"/>
              <a:ext cx="7368480" cy="538200"/>
              <a:chOff x="1001520" y="4349880"/>
              <a:chExt cx="7368480" cy="538200"/>
            </a:xfrm>
          </p:grpSpPr>
          <p:sp>
            <p:nvSpPr>
              <p:cNvPr id="288" name=""/>
              <p:cNvSpPr/>
              <p:nvPr/>
            </p:nvSpPr>
            <p:spPr>
              <a:xfrm>
                <a:off x="100152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3216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90" name=""/>
              <p:cNvCxnSpPr>
                <a:stCxn id="288" idx="6"/>
              </p:cNvCxnSpPr>
              <p:nvPr/>
            </p:nvCxnSpPr>
            <p:spPr>
              <a:xfrm>
                <a:off x="1539360" y="4619520"/>
                <a:ext cx="671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91" name=""/>
              <p:cNvCxnSpPr>
                <a:stCxn id="289" idx="2"/>
              </p:cNvCxnSpPr>
              <p:nvPr/>
            </p:nvCxnSpPr>
            <p:spPr>
              <a:xfrm flipH="1">
                <a:off x="6952320" y="4619520"/>
                <a:ext cx="87984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92" name=""/>
            <p:cNvSpPr/>
            <p:nvPr/>
          </p:nvSpPr>
          <p:spPr>
            <a:xfrm>
              <a:off x="635760" y="494496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msg ag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AF4-B94E-4271-91BF-3832194184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Lea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 or dmalloc, but be careful about split object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 {set i 0} {$i &lt; 500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 [new RandomVariable/Constant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leaks memory, but can’t be detecte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icitly delete EVERY split object that was new-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322-98A3-4A72-9077-0E715F93297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al Wo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extended ns dumps OTcl scripts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d the last 10-20 lines of the dum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the error related to “_o*** cmd …”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eck your command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, check the otcl script pointed by the erro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4F6-C765-4EAF-ABC5-1C949C97853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F5F-59CF-4564-B00F-2AE49EC94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ne sen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Send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Message format: “Addr Op SeqNo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instproc send-next {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self instvar seq_ agent_addr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$self send “$agent_addr_ send $seq_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cr seq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global 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[expr [$ns now]+0.1] "$self send-nex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E55-E300-48D3-ABA7-E0ADBAA11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send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nd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Sender gets ack $seq from $sdr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BCC-0881-4DD2-83B0-123DA836F9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receiv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Receiv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ceiv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“Receiver gets seq $seq from $sd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self send “$addr_ ack $seq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EA8-18E4-4C75-AC28-F07F7BF163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40:44Z</dcterms:modified>
  <cp:revision>676</cp:revision>
  <dc:subject/>
  <dc:title>ns-2 tutorial for IEC'00 workshop</dc:title>
</cp:coreProperties>
</file>