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BB452E-2FDF-4A6B-BF68-15E96DDFB5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ed: LL (1 packet only, drop due to arp), IF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: collision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: Carier Sense threshold, Receive Threshold. Packets above CSThresh are able to cause a coll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Q: can be any queue, droptail or priorit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ay it’s GT-ITM transit-stub networ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ore abs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link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E46-D143-439B-AAFC-37531123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926-F6FA-4BEE-952B-91E4D9A7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834-A719-4111-A22E-AC18BE7B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7F0-3551-44CC-8FCF-B5D88253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3585-F52D-4E8D-B84B-4C564F78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DB28-A439-4F45-BE7D-0B5D890F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F4F9-BA08-472A-99EF-33DAC166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6B8D-8B2C-4A3B-B3B9-1BC0509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9487-30ED-43E3-99A9-2D199F08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994A-62CB-4C25-8855-CAF7A65F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7526-524D-417D-8234-177491D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D6C-FF86-47B1-9892-D9FB29FA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4029-2DCD-4368-9F0B-7AF76D48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F460-5938-421D-B3D2-F97EC19E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89BD-7A5A-4648-A88E-B58DD28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8B2A-89E8-4BC9-8450-A39BE668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78E0-F9F8-43C9-8579-2E23CA28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481-64F1-488F-8BF2-7E82A4D1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D4D-3FFE-4645-A77A-8D1CD02E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898-91C8-4852-94DF-590BB6AA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D75-2A94-4880-B745-FF72D507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7F5-0EEF-4554-B8F9-6CB2CB7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344-F95C-4D2E-8A37-085A4F1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332-AF7E-45D6-A3FC-5FED4477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CAD3-9FA5-4A37-8F98-CDB144E88F08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4A81-450F-44FB-A59B-606878CD8B74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E669-4604-488E-8219-AE8E56D608AD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E113-A475-4278-8B2C-1872368DBD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: 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39E2-7CC7-4D45-831F-DB20BCAA8E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 OTcl methods in C++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p point: OTcl method cmd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d all arguments after cmd{} call to TclObject::comma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E76-7F2E-4E8C-B9B2-9B21487DD0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61760"/>
            <a:ext cx="77724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TcpAgent::command(int argc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onst char*const* argv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argc == 3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strcmp(argv[1], 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) == 0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newseq = atoi(argv[2]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(TCL_O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 (Agent::command(argc,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B55-678B-420A-AA46-F1F11A2D3C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2400" y="1936800"/>
            <a:ext cx="10749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73400" y="1963800"/>
            <a:ext cx="24591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Object::unknown{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1963800"/>
            <a:ext cx="17067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cmd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2" idx="3"/>
            <a:endCxn id="313" idx="1"/>
          </p:cNvCxnSpPr>
          <p:nvPr/>
        </p:nvCxnSpPr>
        <p:spPr>
          <a:xfrm>
            <a:off x="1827000" y="2185920"/>
            <a:ext cx="134640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1734480" y="182736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su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d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3"/>
            <a:endCxn id="314" idx="1"/>
          </p:cNvCxnSpPr>
          <p:nvPr/>
        </p:nvCxnSpPr>
        <p:spPr>
          <a:xfrm>
            <a:off x="5632560" y="2193480"/>
            <a:ext cx="67680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201840" y="3240000"/>
            <a:ext cx="24447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2"/>
            <a:endCxn id="318" idx="0"/>
          </p:cNvCxnSpPr>
          <p:nvPr/>
        </p:nvCxnSpPr>
        <p:spPr>
          <a:xfrm rot="5400000">
            <a:off x="5384160" y="1461600"/>
            <a:ext cx="818280" cy="2739240"/>
          </a:xfrm>
          <a:prstGeom prst="bentConnector3">
            <a:avLst>
              <a:gd name="adj1" fmla="val 498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562200" y="4102200"/>
            <a:ext cx="1721160" cy="83340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tch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”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  <a:endCxn id="320" idx="0"/>
          </p:cNvCxnSpPr>
          <p:nvPr/>
        </p:nvCxnSpPr>
        <p:spPr>
          <a:xfrm flipH="1">
            <a:off x="4421880" y="3738600"/>
            <a:ext cx="2520" cy="364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5315040" y="5388120"/>
            <a:ext cx="2820960" cy="674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 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4240" y="5415120"/>
            <a:ext cx="2109600" cy="49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cess and retur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1"/>
            <a:endCxn id="323" idx="0"/>
          </p:cNvCxnSpPr>
          <p:nvPr/>
        </p:nvCxnSpPr>
        <p:spPr>
          <a:xfrm flipV="1" rot="10800000">
            <a:off x="2309040" y="4519080"/>
            <a:ext cx="1253160" cy="896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3"/>
            <a:endCxn id="322" idx="0"/>
          </p:cNvCxnSpPr>
          <p:nvPr/>
        </p:nvCxnSpPr>
        <p:spPr>
          <a:xfrm>
            <a:off x="5283360" y="4519080"/>
            <a:ext cx="1443600" cy="869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3088440" y="4184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76440" y="4186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8800" y="1654200"/>
            <a:ext cx="8082000" cy="981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2640" y="15955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400" y="2946240"/>
            <a:ext cx="8080560" cy="338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12040" y="2981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152-C06C-4446-858D-10812EAFF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 procedures: new{}, delete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ete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368-AC6E-4E91-BF6C-75E495F90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159040" y="399888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00000" y="34448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3939840"/>
            <a:ext cx="8082000" cy="1260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968400" y="2406600"/>
            <a:ext cx="1519200" cy="604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846000" y="1716120"/>
            <a:ext cx="1774800" cy="2020680"/>
            <a:chOff x="846000" y="1716120"/>
            <a:chExt cx="1774800" cy="2020680"/>
          </a:xfrm>
        </p:grpSpPr>
        <p:sp>
          <p:nvSpPr>
            <p:cNvPr id="340" name=""/>
            <p:cNvSpPr/>
            <p:nvPr/>
          </p:nvSpPr>
          <p:spPr>
            <a:xfrm>
              <a:off x="846000" y="1720800"/>
              <a:ext cx="1774800" cy="2016000"/>
            </a:xfrm>
            <a:custGeom>
              <a:avLst/>
              <a:gdLst>
                <a:gd name="textAreaLeft" fmla="*/ 86400 w 1774800"/>
                <a:gd name="textAreaRight" fmla="*/ 1688400 w 1774800"/>
                <a:gd name="textAreaTop" fmla="*/ 86400 h 2016000"/>
                <a:gd name="textAreaBottom" fmla="*/ 1929600 h 2016000"/>
              </a:gdLst>
              <a:ahLst/>
              <a:rect l="textAreaLeft" t="textAreaTop" r="textAreaRight" b="textAreaBottom"/>
              <a:pathLst>
                <a:path w="21600" h="24535">
                  <a:moveTo>
                    <a:pt x="3600" y="0"/>
                  </a:moveTo>
                  <a:arcTo wR="3600" hR="3600" stAng="16200000" swAng="-5400000"/>
                  <a:lnTo>
                    <a:pt x="0" y="20935"/>
                  </a:lnTo>
                  <a:arcTo wR="3600" hR="3600" stAng="10800000" swAng="-5400000"/>
                  <a:lnTo>
                    <a:pt x="18000" y="245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8720" y="171612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gent/TC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87240" y="1706400"/>
            <a:ext cx="2777040" cy="2021040"/>
            <a:chOff x="2487240" y="1706400"/>
            <a:chExt cx="2777040" cy="2021040"/>
          </a:xfrm>
        </p:grpSpPr>
        <p:grpSp>
          <p:nvGrpSpPr>
            <p:cNvPr id="343" name=""/>
            <p:cNvGrpSpPr/>
            <p:nvPr/>
          </p:nvGrpSpPr>
          <p:grpSpPr>
            <a:xfrm>
              <a:off x="3489480" y="1706400"/>
              <a:ext cx="1774800" cy="2021040"/>
              <a:chOff x="3489480" y="1706400"/>
              <a:chExt cx="1774800" cy="202104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948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5220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87240" y="2409840"/>
              <a:ext cx="2653200" cy="604800"/>
              <a:chOff x="2487240" y="2409840"/>
              <a:chExt cx="2653200" cy="604800"/>
            </a:xfrm>
          </p:grpSpPr>
          <p:sp>
            <p:nvSpPr>
              <p:cNvPr id="347" name=""/>
              <p:cNvSpPr/>
              <p:nvPr/>
            </p:nvSpPr>
            <p:spPr>
              <a:xfrm>
                <a:off x="3621240" y="240984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8" name=""/>
              <p:cNvCxnSpPr>
                <a:stCxn id="338" idx="3"/>
                <a:endCxn id="347" idx="1"/>
              </p:cNvCxnSpPr>
              <p:nvPr/>
            </p:nvCxnSpPr>
            <p:spPr>
              <a:xfrm>
                <a:off x="2487240" y="2709360"/>
                <a:ext cx="113436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9" name=""/>
          <p:cNvGrpSpPr/>
          <p:nvPr/>
        </p:nvGrpSpPr>
        <p:grpSpPr>
          <a:xfrm>
            <a:off x="5140440" y="1706400"/>
            <a:ext cx="3046320" cy="2021040"/>
            <a:chOff x="5140440" y="1706400"/>
            <a:chExt cx="3046320" cy="2021040"/>
          </a:xfrm>
        </p:grpSpPr>
        <p:grpSp>
          <p:nvGrpSpPr>
            <p:cNvPr id="350" name=""/>
            <p:cNvGrpSpPr/>
            <p:nvPr/>
          </p:nvGrpSpPr>
          <p:grpSpPr>
            <a:xfrm>
              <a:off x="6411960" y="1706400"/>
              <a:ext cx="1774800" cy="2021040"/>
              <a:chOff x="6411960" y="1706400"/>
              <a:chExt cx="1774800" cy="2021040"/>
            </a:xfrm>
          </p:grpSpPr>
          <p:sp>
            <p:nvSpPr>
              <p:cNvPr id="351" name=""/>
              <p:cNvSpPr/>
              <p:nvPr/>
            </p:nvSpPr>
            <p:spPr>
              <a:xfrm>
                <a:off x="641196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7432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140440" y="2413080"/>
              <a:ext cx="2923920" cy="604800"/>
              <a:chOff x="5140440" y="2413080"/>
              <a:chExt cx="2923920" cy="604800"/>
            </a:xfrm>
          </p:grpSpPr>
          <p:sp>
            <p:nvSpPr>
              <p:cNvPr id="354" name=""/>
              <p:cNvSpPr/>
              <p:nvPr/>
            </p:nvSpPr>
            <p:spPr>
              <a:xfrm>
                <a:off x="6545160" y="241308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reate C++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7" idx="3"/>
                <a:endCxn id="354" idx="1"/>
              </p:cNvCxnSpPr>
              <p:nvPr/>
            </p:nvCxnSpPr>
            <p:spPr>
              <a:xfrm>
                <a:off x="5140440" y="2712600"/>
                <a:ext cx="140544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6480000" y="2715840"/>
            <a:ext cx="1872000" cy="3548160"/>
            <a:chOff x="6480000" y="2715840"/>
            <a:chExt cx="1872000" cy="3548160"/>
          </a:xfrm>
        </p:grpSpPr>
        <p:grpSp>
          <p:nvGrpSpPr>
            <p:cNvPr id="357" name=""/>
            <p:cNvGrpSpPr/>
            <p:nvPr/>
          </p:nvGrpSpPr>
          <p:grpSpPr>
            <a:xfrm>
              <a:off x="6480000" y="4243320"/>
              <a:ext cx="1774800" cy="2020680"/>
              <a:chOff x="6480000" y="4243320"/>
              <a:chExt cx="1774800" cy="2020680"/>
            </a:xfrm>
          </p:grpSpPr>
          <p:sp>
            <p:nvSpPr>
              <p:cNvPr id="358" name=""/>
              <p:cNvSpPr/>
              <p:nvPr/>
            </p:nvSpPr>
            <p:spPr>
              <a:xfrm>
                <a:off x="6480000" y="424800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2720" y="424332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gentTCP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602400" y="2715840"/>
              <a:ext cx="1749600" cy="2848320"/>
              <a:chOff x="6602400" y="2715840"/>
              <a:chExt cx="1749600" cy="2848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602400" y="4940280"/>
                <a:ext cx="1519200" cy="62388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62" name=""/>
              <p:cNvCxnSpPr>
                <a:stCxn id="354" idx="3"/>
                <a:endCxn id="361" idx="3"/>
              </p:cNvCxnSpPr>
              <p:nvPr/>
            </p:nvCxnSpPr>
            <p:spPr>
              <a:xfrm>
                <a:off x="8064000" y="2715840"/>
                <a:ext cx="57960" cy="2537640"/>
              </a:xfrm>
              <a:prstGeom prst="bentConnector3">
                <a:avLst>
                  <a:gd name="adj1" fmla="val 50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3514680" y="4259160"/>
            <a:ext cx="3087720" cy="2020680"/>
            <a:chOff x="3514680" y="4259160"/>
            <a:chExt cx="3087720" cy="2020680"/>
          </a:xfrm>
        </p:grpSpPr>
        <p:sp>
          <p:nvSpPr>
            <p:cNvPr id="364" name=""/>
            <p:cNvSpPr/>
            <p:nvPr/>
          </p:nvSpPr>
          <p:spPr>
            <a:xfrm>
              <a:off x="3648240" y="4944960"/>
              <a:ext cx="1519200" cy="611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voke par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514680" y="4259160"/>
              <a:ext cx="1774800" cy="2020680"/>
              <a:chOff x="3514680" y="4259160"/>
              <a:chExt cx="1774800" cy="2020680"/>
            </a:xfrm>
          </p:grpSpPr>
          <p:sp>
            <p:nvSpPr>
              <p:cNvPr id="366" name=""/>
              <p:cNvSpPr/>
              <p:nvPr/>
            </p:nvSpPr>
            <p:spPr>
              <a:xfrm>
                <a:off x="3514680" y="42638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3320" y="4259160"/>
                <a:ext cx="173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 (Agent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68" name=""/>
            <p:cNvCxnSpPr>
              <a:stCxn id="361" idx="1"/>
              <a:endCxn id="364" idx="3"/>
            </p:cNvCxnSpPr>
            <p:nvPr/>
          </p:nvCxnSpPr>
          <p:spPr>
            <a:xfrm flipH="1" flipV="1">
              <a:off x="5167440" y="5250600"/>
              <a:ext cx="1435320" cy="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855360" y="4255920"/>
            <a:ext cx="2792880" cy="2016360"/>
            <a:chOff x="855360" y="4255920"/>
            <a:chExt cx="2792880" cy="2016360"/>
          </a:xfrm>
        </p:grpSpPr>
        <p:sp>
          <p:nvSpPr>
            <p:cNvPr id="370" name=""/>
            <p:cNvSpPr/>
            <p:nvPr/>
          </p:nvSpPr>
          <p:spPr>
            <a:xfrm>
              <a:off x="976320" y="5102280"/>
              <a:ext cx="1519200" cy="9144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o nothing,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855360" y="4255920"/>
              <a:ext cx="1793880" cy="2016360"/>
              <a:chOff x="855360" y="4255920"/>
              <a:chExt cx="1793880" cy="2016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55360" y="4255920"/>
                <a:ext cx="1774440" cy="2016360"/>
              </a:xfrm>
              <a:custGeom>
                <a:avLst/>
                <a:gdLst>
                  <a:gd name="textAreaLeft" fmla="*/ 86400 w 1774440"/>
                  <a:gd name="textAreaRight" fmla="*/ 1688040 w 1774440"/>
                  <a:gd name="textAreaTop" fmla="*/ 86400 h 2016360"/>
                  <a:gd name="textAreaBottom" fmla="*/ 1929960 h 2016360"/>
                </a:gdLst>
                <a:ahLst/>
                <a:rect l="textAreaLeft" t="textAreaTop" r="textAreaRight" b="textAreaBottom"/>
                <a:pathLst>
                  <a:path w="21600" h="24544">
                    <a:moveTo>
                      <a:pt x="3600" y="0"/>
                    </a:moveTo>
                    <a:arcTo wR="3600" hR="3600" stAng="16200000" swAng="-5400000"/>
                    <a:lnTo>
                      <a:pt x="0" y="20944"/>
                    </a:lnTo>
                    <a:arcTo wR="3600" hR="3600" stAng="10800000" swAng="-5400000"/>
                    <a:lnTo>
                      <a:pt x="18000" y="2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69760" y="4317840"/>
                <a:ext cx="177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 (C++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74" name=""/>
            <p:cNvCxnSpPr>
              <a:stCxn id="364" idx="1"/>
              <a:endCxn id="370" idx="3"/>
            </p:cNvCxnSpPr>
            <p:nvPr/>
          </p:nvCxnSpPr>
          <p:spPr>
            <a:xfrm flipV="1" rot="10800000">
              <a:off x="2494800" y="5250960"/>
              <a:ext cx="1153440" cy="30888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2495520" y="5556240"/>
            <a:ext cx="2671920" cy="604800"/>
            <a:chOff x="2495520" y="5556240"/>
            <a:chExt cx="2671920" cy="604800"/>
          </a:xfrm>
        </p:grpSpPr>
        <p:sp>
          <p:nvSpPr>
            <p:cNvPr id="376" name=""/>
            <p:cNvSpPr/>
            <p:nvPr/>
          </p:nvSpPr>
          <p:spPr>
            <a:xfrm>
              <a:off x="3648240" y="55562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0" idx="3"/>
              <a:endCxn id="376" idx="1"/>
            </p:cNvCxnSpPr>
            <p:nvPr/>
          </p:nvCxnSpPr>
          <p:spPr>
            <a:xfrm>
              <a:off x="2495520" y="5559120"/>
              <a:ext cx="1153440" cy="30060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5167440" y="5564160"/>
            <a:ext cx="2954160" cy="592200"/>
            <a:chOff x="5167440" y="5564160"/>
            <a:chExt cx="2954160" cy="592200"/>
          </a:xfrm>
        </p:grpSpPr>
        <p:sp>
          <p:nvSpPr>
            <p:cNvPr id="379" name=""/>
            <p:cNvSpPr/>
            <p:nvPr/>
          </p:nvSpPr>
          <p:spPr>
            <a:xfrm>
              <a:off x="6602400" y="5564160"/>
              <a:ext cx="1519200" cy="592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6" idx="3"/>
              <a:endCxn id="379" idx="1"/>
            </p:cNvCxnSpPr>
            <p:nvPr/>
          </p:nvCxnSpPr>
          <p:spPr>
            <a:xfrm>
              <a:off x="5167440" y="5859000"/>
              <a:ext cx="1435320" cy="252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6545160" y="3017880"/>
            <a:ext cx="1995120" cy="2843280"/>
            <a:chOff x="6545160" y="3017880"/>
            <a:chExt cx="1995120" cy="2843280"/>
          </a:xfrm>
        </p:grpSpPr>
        <p:sp>
          <p:nvSpPr>
            <p:cNvPr id="382" name=""/>
            <p:cNvSpPr/>
            <p:nvPr/>
          </p:nvSpPr>
          <p:spPr>
            <a:xfrm>
              <a:off x="6545160" y="301788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eate OTc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hadow objec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9" idx="3"/>
              <a:endCxn id="382" idx="3"/>
            </p:cNvCxnSpPr>
            <p:nvPr/>
          </p:nvCxnSpPr>
          <p:spPr>
            <a:xfrm flipH="1" flipV="1">
              <a:off x="8063640" y="3320640"/>
              <a:ext cx="57960" cy="2540880"/>
            </a:xfrm>
            <a:prstGeom prst="bentConnector3">
              <a:avLst>
                <a:gd name="adj1" fmla="val -727500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3621240" y="3014640"/>
            <a:ext cx="2923920" cy="604800"/>
            <a:chOff x="3621240" y="3014640"/>
            <a:chExt cx="2923920" cy="604800"/>
          </a:xfrm>
        </p:grpSpPr>
        <p:sp>
          <p:nvSpPr>
            <p:cNvPr id="385" name=""/>
            <p:cNvSpPr/>
            <p:nvPr/>
          </p:nvSpPr>
          <p:spPr>
            <a:xfrm>
              <a:off x="3621240" y="30146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2" idx="1"/>
              <a:endCxn id="385" idx="3"/>
            </p:cNvCxnSpPr>
            <p:nvPr/>
          </p:nvCxnSpPr>
          <p:spPr>
            <a:xfrm flipH="1" flipV="1">
              <a:off x="5140080" y="3317040"/>
              <a:ext cx="140544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968400" y="3011400"/>
            <a:ext cx="2652480" cy="617760"/>
            <a:chOff x="968400" y="3011400"/>
            <a:chExt cx="2652480" cy="617760"/>
          </a:xfrm>
        </p:grpSpPr>
        <p:sp>
          <p:nvSpPr>
            <p:cNvPr id="388" name=""/>
            <p:cNvSpPr/>
            <p:nvPr/>
          </p:nvSpPr>
          <p:spPr>
            <a:xfrm>
              <a:off x="968400" y="3011400"/>
              <a:ext cx="1519200" cy="617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5" idx="1"/>
              <a:endCxn id="388" idx="3"/>
            </p:cNvCxnSpPr>
            <p:nvPr/>
          </p:nvCxnSpPr>
          <p:spPr>
            <a:xfrm flipH="1">
              <a:off x="2486880" y="3317400"/>
              <a:ext cx="113436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3294000" y="2568600"/>
            <a:ext cx="2903400" cy="1976400"/>
            <a:chOff x="3294000" y="2568600"/>
            <a:chExt cx="2903400" cy="1976400"/>
          </a:xfrm>
        </p:grpSpPr>
        <p:sp>
          <p:nvSpPr>
            <p:cNvPr id="391" name=""/>
            <p:cNvSpPr/>
            <p:nvPr/>
          </p:nvSpPr>
          <p:spPr>
            <a:xfrm>
              <a:off x="3294000" y="2568600"/>
              <a:ext cx="2849400" cy="1976400"/>
            </a:xfrm>
            <a:prstGeom prst="cloudCallout">
              <a:avLst>
                <a:gd name="adj1" fmla="val 58800"/>
                <a:gd name="adj2" fmla="val -34416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5160" y="2936880"/>
              <a:ext cx="26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hich C++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 to create?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– </a:t>
              </a:r>
              <a:r>
                <a:rPr b="0" lang="en-US" sz="2400" spc="-1" strike="noStrike">
                  <a:solidFill>
                    <a:srgbClr val="ff5050"/>
                  </a:solidFill>
                  <a:latin typeface="Tahoma"/>
                </a:rPr>
                <a:t>TclCla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169-204A-4AB9-906F-5761C51EE9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744560"/>
            <a:ext cx="4648320" cy="4046760"/>
            <a:chOff x="685800" y="1744560"/>
            <a:chExt cx="4648320" cy="4046760"/>
          </a:xfrm>
        </p:grpSpPr>
        <p:grpSp>
          <p:nvGrpSpPr>
            <p:cNvPr id="395" name=""/>
            <p:cNvGrpSpPr/>
            <p:nvPr/>
          </p:nvGrpSpPr>
          <p:grpSpPr>
            <a:xfrm>
              <a:off x="3810240" y="2438280"/>
              <a:ext cx="1523880" cy="3353040"/>
              <a:chOff x="3810240" y="2438280"/>
              <a:chExt cx="1523880" cy="3353040"/>
            </a:xfrm>
          </p:grpSpPr>
          <p:sp>
            <p:nvSpPr>
              <p:cNvPr id="396" name=""/>
              <p:cNvSpPr/>
              <p:nvPr/>
            </p:nvSpPr>
            <p:spPr>
              <a:xfrm>
                <a:off x="381024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1024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10240" y="52578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800" y="2438280"/>
              <a:ext cx="1371600" cy="3353040"/>
              <a:chOff x="685800" y="2438280"/>
              <a:chExt cx="1371600" cy="335304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80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52578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p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800" y="33526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Ns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286000" y="27432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0" y="3657600"/>
              <a:ext cx="76212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0" y="449568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0040" y="54864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21920" y="33861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?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29718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71600" y="38862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7160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96040" y="2971800"/>
              <a:ext cx="0" cy="12952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604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051200" y="1744560"/>
              <a:ext cx="4282920" cy="509040"/>
              <a:chOff x="1051200" y="1744560"/>
              <a:chExt cx="4282920" cy="509040"/>
            </a:xfrm>
          </p:grpSpPr>
          <p:sp>
            <p:nvSpPr>
              <p:cNvPr id="415" name=""/>
              <p:cNvSpPr/>
              <p:nvPr/>
            </p:nvSpPr>
            <p:spPr>
              <a:xfrm>
                <a:off x="4163400" y="1785960"/>
                <a:ext cx="81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Tc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51200" y="1793880"/>
                <a:ext cx="42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++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9680" y="174456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irroring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2271600" y="1805040"/>
            <a:ext cx="64929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tatic class TcpClass : public TclClass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pClass() : TclClass(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gent/TCP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”) {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lObject* create(int, const char*const*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turn (new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cpAgen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 class_tcp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AA1-CC54-4A36-A202-AE537F8C60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: Mechan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at runtime star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5479920" y="3800520"/>
            <a:ext cx="2797200" cy="890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litObject::register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eate and regist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lass Agent/TC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97000" y="3470400"/>
            <a:ext cx="2016000" cy="13208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init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ach staticall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ed TclCla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83200" y="2716200"/>
            <a:ext cx="1789200" cy="446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Class::bi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2" idx="3"/>
            <a:endCxn id="423" idx="1"/>
          </p:cNvCxnSpPr>
          <p:nvPr/>
        </p:nvCxnSpPr>
        <p:spPr>
          <a:xfrm flipV="1">
            <a:off x="3212640" y="2939400"/>
            <a:ext cx="2770920" cy="1191240"/>
          </a:xfrm>
          <a:prstGeom prst="bentConnector3">
            <a:avLst>
              <a:gd name="adj1" fmla="val 4996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469320" y="36417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2200" y="5214960"/>
            <a:ext cx="3213000" cy="72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gent/TCP::create-shadow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create_shadow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21" idx="0"/>
          </p:cNvCxnSpPr>
          <p:nvPr/>
        </p:nvCxnSpPr>
        <p:spPr>
          <a:xfrm>
            <a:off x="6878160" y="3161880"/>
            <a:ext cx="1080" cy="6390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2"/>
            <a:endCxn id="426" idx="0"/>
          </p:cNvCxnSpPr>
          <p:nvPr/>
        </p:nvCxnSpPr>
        <p:spPr>
          <a:xfrm>
            <a:off x="6878160" y="4690800"/>
            <a:ext cx="1080" cy="524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1"/>
            <a:endCxn id="422" idx="3"/>
          </p:cNvCxnSpPr>
          <p:nvPr/>
        </p:nvCxnSpPr>
        <p:spPr>
          <a:xfrm rot="10800000">
            <a:off x="3212280" y="4129920"/>
            <a:ext cx="2059920" cy="1450080"/>
          </a:xfrm>
          <a:prstGeom prst="bentConnector3">
            <a:avLst>
              <a:gd name="adj1" fmla="val 4995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6FF-9355-4813-A6D8-8CE6AF0C8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gleton class with a handle to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voke OTcl proced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OTcl evaluation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 result string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success/failure code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2BB-EF0F-439E-BC55-8D4DD2EB25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&amp; tcl =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::inst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argc == 2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strcmp(argv[1], “now”) == 0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%g”, clock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rr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command not found”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ERRO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else if (argc == 3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va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argv[2]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ck_ = atof(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85C-D565-424B-903E-72B56C2EBF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Comma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5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 implementation of global O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RandomCommand : public TclCommand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RandomCommand() : TclCommand("ns-random") {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nt RandomCommand::command(int argc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f (argc == 1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printf(tcl.buffer(), "%u", Random::random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.result(tcl.buff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B1B-A794-4741-B74C-88741256B1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object: C++/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784-CC33-4333-B21C-07842CCF5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-load OTcl scripts at ns runtime star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ursively load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~ns/tcl/lib/ns-lib.tc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utoconf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ddress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node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everything into a single C++ st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ecute this string at runtime start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::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tclcl/tcl-objec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_App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EC9-AE1D-4F1D-B0E2-068007BD36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i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2c++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provided by TclCL, converts tcl scripts into a C++ static character arr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.i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sh8.0 bin/tcl-expand.tcl tcl/lib/ns-lib.tcl | tcl2c++ et_ns_lib &gt; gen/ns_tcl.c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46B-E249-480A-A87D-A15B2360C3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interpreted (OTcl) and compiled (C++) class hierarch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access (procedure call and variable access) between OTcl and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mechanism that makes TclObject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: primitives to access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09F-8AC9-4E63-9062-8D130D8513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9F0-2FEB-4764-A060-CB6C3182B2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l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38A-A6F0-4CC2-862F-4BB95E259D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crete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97080" y="2639880"/>
            <a:ext cx="533520" cy="1143000"/>
            <a:chOff x="2197080" y="2639880"/>
            <a:chExt cx="533520" cy="1143000"/>
          </a:xfrm>
        </p:grpSpPr>
        <p:sp>
          <p:nvSpPr>
            <p:cNvPr id="448" name=""/>
            <p:cNvSpPr/>
            <p:nvPr/>
          </p:nvSpPr>
          <p:spPr>
            <a:xfrm>
              <a:off x="2197080" y="26398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97080" y="28684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7080" y="30970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97080" y="33256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7080" y="3554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925800" y="1793880"/>
            <a:ext cx="4056120" cy="459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96480" y="2300400"/>
            <a:ext cx="1734120" cy="398880"/>
            <a:chOff x="996480" y="2300400"/>
            <a:chExt cx="1734120" cy="398880"/>
          </a:xfrm>
        </p:grpSpPr>
        <p:sp>
          <p:nvSpPr>
            <p:cNvPr id="455" name=""/>
            <p:cNvSpPr/>
            <p:nvPr/>
          </p:nvSpPr>
          <p:spPr>
            <a:xfrm>
              <a:off x="2197080" y="2411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6480" y="23004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197080" y="309708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6480" y="2529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ad_ -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97080" y="3782880"/>
            <a:ext cx="533520" cy="2286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4541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types of schedul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: simple linked list, order-preserving, O(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ap: O(log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endar: hash-based, fastest, O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439520" y="2260440"/>
            <a:ext cx="3030480" cy="893160"/>
            <a:chOff x="4439520" y="2260440"/>
            <a:chExt cx="3030480" cy="893160"/>
          </a:xfrm>
        </p:grpSpPr>
        <p:sp>
          <p:nvSpPr>
            <p:cNvPr id="462" name=""/>
            <p:cNvSpPr/>
            <p:nvPr/>
          </p:nvSpPr>
          <p:spPr>
            <a:xfrm>
              <a:off x="4439520" y="269388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3" idx="2"/>
              <a:endCxn id="462" idx="0"/>
            </p:cNvCxnSpPr>
            <p:nvPr/>
          </p:nvCxnSpPr>
          <p:spPr>
            <a:xfrm>
              <a:off x="5954400" y="2260440"/>
              <a:ext cx="1080" cy="434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925800" y="3151080"/>
            <a:ext cx="4056120" cy="1007640"/>
            <a:chOff x="3925800" y="3151080"/>
            <a:chExt cx="4056120" cy="1007640"/>
          </a:xfrm>
        </p:grpSpPr>
        <p:sp>
          <p:nvSpPr>
            <p:cNvPr id="465" name=""/>
            <p:cNvSpPr/>
            <p:nvPr/>
          </p:nvSpPr>
          <p:spPr>
            <a:xfrm>
              <a:off x="3925800" y="369900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3040" y="32097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schedu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954400" y="3151080"/>
              <a:ext cx="1080" cy="54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5" idx="3"/>
            <a:endCxn id="453" idx="1"/>
          </p:cNvCxnSpPr>
          <p:nvPr/>
        </p:nvCxnSpPr>
        <p:spPr>
          <a:xfrm flipV="1">
            <a:off x="2730600" y="2026440"/>
            <a:ext cx="1219680" cy="49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730240" y="3211200"/>
            <a:ext cx="1219320" cy="859680"/>
            <a:chOff x="2730240" y="3211200"/>
            <a:chExt cx="1219320" cy="859680"/>
          </a:xfrm>
        </p:grpSpPr>
        <p:sp>
          <p:nvSpPr>
            <p:cNvPr id="470" name=""/>
            <p:cNvSpPr/>
            <p:nvPr/>
          </p:nvSpPr>
          <p:spPr>
            <a:xfrm>
              <a:off x="2778120" y="36720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inser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7" idx="3"/>
            </p:cNvCxnSpPr>
            <p:nvPr/>
          </p:nvCxnSpPr>
          <p:spPr>
            <a:xfrm flipH="1" flipV="1">
              <a:off x="2730240" y="3211200"/>
              <a:ext cx="1219680" cy="72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EEC-6F23-4F11-9E2F-ACC73D1B1E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59092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33720" y="2133720"/>
            <a:ext cx="5638320" cy="914400"/>
            <a:chOff x="2133720" y="2133720"/>
            <a:chExt cx="5638320" cy="914400"/>
          </a:xfrm>
        </p:grpSpPr>
        <p:sp>
          <p:nvSpPr>
            <p:cNvPr id="475" name=""/>
            <p:cNvSpPr/>
            <p:nvPr/>
          </p:nvSpPr>
          <p:spPr>
            <a:xfrm>
              <a:off x="213372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460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8292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9320" y="2514600"/>
            <a:ext cx="3691800" cy="3352320"/>
            <a:chOff x="499320" y="2514600"/>
            <a:chExt cx="3691800" cy="3352320"/>
          </a:xfrm>
        </p:grpSpPr>
        <p:sp>
          <p:nvSpPr>
            <p:cNvPr id="480" name=""/>
            <p:cNvSpPr/>
            <p:nvPr/>
          </p:nvSpPr>
          <p:spPr>
            <a:xfrm>
              <a:off x="2133720" y="4190760"/>
              <a:ext cx="30492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5840" y="3657240"/>
              <a:ext cx="30456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4240" y="3276360"/>
              <a:ext cx="2666880" cy="25905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1600" y="380988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57400" y="327636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1600" y="4495680"/>
              <a:ext cx="30492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440" y="464796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46479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438640" y="4114440"/>
              <a:ext cx="4572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3280" y="5024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02000" y="441468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7200" y="4719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320" y="4262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600200" y="2514600"/>
              <a:ext cx="533520" cy="15998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440" y="2514600"/>
              <a:ext cx="838080" cy="129528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809880" y="32767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 N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253840" y="2475000"/>
            <a:ext cx="3691800" cy="3441600"/>
            <a:chOff x="5253840" y="2475000"/>
            <a:chExt cx="3691800" cy="3441600"/>
          </a:xfrm>
        </p:grpSpPr>
        <p:sp>
          <p:nvSpPr>
            <p:cNvPr id="497" name=""/>
            <p:cNvSpPr/>
            <p:nvPr/>
          </p:nvSpPr>
          <p:spPr>
            <a:xfrm flipH="1">
              <a:off x="6306840" y="2527200"/>
              <a:ext cx="469800" cy="1828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253840" y="3249720"/>
              <a:ext cx="3691800" cy="2666880"/>
              <a:chOff x="5253840" y="3249720"/>
              <a:chExt cx="3691800" cy="2666880"/>
            </a:xfrm>
          </p:grpSpPr>
          <p:sp>
            <p:nvSpPr>
              <p:cNvPr id="499" name=""/>
              <p:cNvSpPr/>
              <p:nvPr/>
            </p:nvSpPr>
            <p:spPr>
              <a:xfrm>
                <a:off x="7269120" y="370692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31240" y="347832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8400" y="3326040"/>
                <a:ext cx="2667240" cy="2590560"/>
              </a:xfrm>
              <a:prstGeom prst="ellipse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21400" y="4849920"/>
                <a:ext cx="115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ast Classifier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26120" y="45450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92600" y="4697640"/>
                <a:ext cx="533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7574040" y="3858840"/>
                <a:ext cx="45720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37440" y="3854520"/>
                <a:ext cx="98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08800" y="3397320"/>
                <a:ext cx="740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dmux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1720" y="476892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entry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53840" y="4311720"/>
                <a:ext cx="111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Node entry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8040" y="3249720"/>
                <a:ext cx="138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ulticast Node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59640" y="424044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69120" y="477360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64200" y="4240080"/>
                <a:ext cx="30492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64200" y="4926240"/>
                <a:ext cx="30492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02360" y="560700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31040" y="4697640"/>
                <a:ext cx="2286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759800" y="2475000"/>
              <a:ext cx="952560" cy="1423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717-DFF6-4AE9-A573-A22D216748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Lin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787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797120" y="1828800"/>
            <a:ext cx="5638320" cy="914400"/>
            <a:chOff x="1797120" y="1828800"/>
            <a:chExt cx="5638320" cy="914400"/>
          </a:xfrm>
        </p:grpSpPr>
        <p:sp>
          <p:nvSpPr>
            <p:cNvPr id="521" name=""/>
            <p:cNvSpPr/>
            <p:nvPr/>
          </p:nvSpPr>
          <p:spPr>
            <a:xfrm>
              <a:off x="1797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45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98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6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70640" y="3352680"/>
            <a:ext cx="8811360" cy="2743200"/>
            <a:chOff x="170640" y="3352680"/>
            <a:chExt cx="8811360" cy="2743200"/>
          </a:xfrm>
        </p:grpSpPr>
        <p:sp>
          <p:nvSpPr>
            <p:cNvPr id="526" name=""/>
            <p:cNvSpPr/>
            <p:nvPr/>
          </p:nvSpPr>
          <p:spPr>
            <a:xfrm>
              <a:off x="14749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65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81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5800" y="5410080"/>
              <a:ext cx="139860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3720" y="5424480"/>
              <a:ext cx="7984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97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13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17720" y="3809880"/>
              <a:ext cx="7162560" cy="22860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1400" y="4724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93680" y="4800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416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32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48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564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28000" y="480060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8480" y="407520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0640" y="433404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79800" y="50292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68800" y="5665680"/>
              <a:ext cx="290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17360" y="3352680"/>
              <a:ext cx="60948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51680" y="3352680"/>
              <a:ext cx="22860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9680" y="4370400"/>
              <a:ext cx="4127400" cy="162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6400" y="554184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trac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42840" y="563580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sim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36560" y="2286000"/>
            <a:ext cx="6324480" cy="1066680"/>
            <a:chOff x="1636560" y="2286000"/>
            <a:chExt cx="6324480" cy="1066680"/>
          </a:xfrm>
        </p:grpSpPr>
        <p:grpSp>
          <p:nvGrpSpPr>
            <p:cNvPr id="552" name=""/>
            <p:cNvGrpSpPr/>
            <p:nvPr/>
          </p:nvGrpSpPr>
          <p:grpSpPr>
            <a:xfrm>
              <a:off x="1636560" y="2286000"/>
              <a:ext cx="6324480" cy="1066680"/>
              <a:chOff x="1636560" y="2286000"/>
              <a:chExt cx="6324480" cy="106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1636560" y="335268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36560" y="320040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712520" y="2286000"/>
                <a:ext cx="10666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37160" y="2286000"/>
                <a:ext cx="15238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803040" y="275760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u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37C-875E-4B33-B32C-20FDCEA06D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561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89720" y="2209680"/>
            <a:ext cx="3691800" cy="3353040"/>
            <a:chOff x="189720" y="2209680"/>
            <a:chExt cx="3691800" cy="3353040"/>
          </a:xfrm>
        </p:grpSpPr>
        <p:sp>
          <p:nvSpPr>
            <p:cNvPr id="566" name=""/>
            <p:cNvSpPr/>
            <p:nvPr/>
          </p:nvSpPr>
          <p:spPr>
            <a:xfrm>
              <a:off x="182412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8624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464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2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47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884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12904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7368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9240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9720" y="395748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1484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58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128680" y="3848040"/>
            <a:ext cx="7010280" cy="1333440"/>
            <a:chOff x="2128680" y="3848040"/>
            <a:chExt cx="7010280" cy="1333440"/>
          </a:xfrm>
        </p:grpSpPr>
        <p:sp>
          <p:nvSpPr>
            <p:cNvPr id="586" name=""/>
            <p:cNvSpPr/>
            <p:nvPr/>
          </p:nvSpPr>
          <p:spPr>
            <a:xfrm>
              <a:off x="4443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976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640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3680" y="4781520"/>
              <a:ext cx="83664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56080" y="478152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304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91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63760" y="3848040"/>
              <a:ext cx="4370400" cy="1333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7680" y="4381560"/>
              <a:ext cx="9216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9840" y="4425840"/>
              <a:ext cx="233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9400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064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28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03920" y="4425840"/>
              <a:ext cx="18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2000" y="4425840"/>
              <a:ext cx="231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720" y="3892680"/>
              <a:ext cx="66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3600" y="40338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3040" y="4559400"/>
              <a:ext cx="0" cy="22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70320" y="491508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128680" y="4419360"/>
              <a:ext cx="198108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D68-D5DA-476A-9496-5A65978EDD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609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3520" y="2209680"/>
            <a:ext cx="3352680" cy="3353040"/>
            <a:chOff x="533520" y="2209680"/>
            <a:chExt cx="3352680" cy="3353040"/>
          </a:xfrm>
        </p:grpSpPr>
        <p:sp>
          <p:nvSpPr>
            <p:cNvPr id="614" name=""/>
            <p:cNvSpPr/>
            <p:nvPr/>
          </p:nvSpPr>
          <p:spPr>
            <a:xfrm>
              <a:off x="182880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092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932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248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52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160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13372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36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708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228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29528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952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826640" y="3954600"/>
            <a:ext cx="326880" cy="779760"/>
            <a:chOff x="1826640" y="3954600"/>
            <a:chExt cx="326880" cy="779760"/>
          </a:xfrm>
        </p:grpSpPr>
        <p:sp>
          <p:nvSpPr>
            <p:cNvPr id="630" name=""/>
            <p:cNvSpPr/>
            <p:nvPr/>
          </p:nvSpPr>
          <p:spPr>
            <a:xfrm>
              <a:off x="182664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664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33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15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632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4504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0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648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65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38480" y="563868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 n1-n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3F9-49B5-46E7-919E-FB81E3E303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79A-A64A-4A69-A488-393103E8A4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661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674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95480" y="3505320"/>
            <a:ext cx="1447920" cy="606960"/>
            <a:chOff x="2895480" y="3505320"/>
            <a:chExt cx="1447920" cy="606960"/>
          </a:xfrm>
        </p:grpSpPr>
        <p:grpSp>
          <p:nvGrpSpPr>
            <p:cNvPr id="686" name=""/>
            <p:cNvGrpSpPr/>
            <p:nvPr/>
          </p:nvGrpSpPr>
          <p:grpSpPr>
            <a:xfrm>
              <a:off x="2895480" y="3505320"/>
              <a:ext cx="1447920" cy="313200"/>
              <a:chOff x="2895480" y="3505320"/>
              <a:chExt cx="1447920" cy="31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3124080" y="3505320"/>
                <a:ext cx="12193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35680" y="35114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2895480" y="3657600"/>
                <a:ext cx="228600" cy="763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58480" y="380520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gents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9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0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1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543800" y="3505320"/>
            <a:ext cx="1600200" cy="606960"/>
            <a:chOff x="7543800" y="3505320"/>
            <a:chExt cx="1600200" cy="606960"/>
          </a:xfrm>
        </p:grpSpPr>
        <p:sp>
          <p:nvSpPr>
            <p:cNvPr id="720" name=""/>
            <p:cNvSpPr/>
            <p:nvPr/>
          </p:nvSpPr>
          <p:spPr>
            <a:xfrm flipV="1">
              <a:off x="7543800" y="3657600"/>
              <a:ext cx="22860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606800" y="3505320"/>
              <a:ext cx="1537200" cy="606960"/>
              <a:chOff x="7606800" y="3505320"/>
              <a:chExt cx="1537200" cy="606960"/>
            </a:xfrm>
          </p:grpSpPr>
          <p:sp>
            <p:nvSpPr>
              <p:cNvPr id="722" name=""/>
              <p:cNvSpPr/>
              <p:nvPr/>
            </p:nvSpPr>
            <p:spPr>
              <a:xfrm>
                <a:off x="7772400" y="3505320"/>
                <a:ext cx="1371600" cy="38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00840" y="3527280"/>
                <a:ext cx="1343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Sink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06800" y="380520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s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26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29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740-99F6-423F-B7BC-7DFAFCB639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: Traffic Genera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73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74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5848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76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7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8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0680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94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97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920760" y="2960640"/>
            <a:ext cx="1486800" cy="620640"/>
            <a:chOff x="3920760" y="2960640"/>
            <a:chExt cx="1486800" cy="620640"/>
          </a:xfrm>
        </p:grpSpPr>
        <p:sp>
          <p:nvSpPr>
            <p:cNvPr id="800" name=""/>
            <p:cNvSpPr/>
            <p:nvPr/>
          </p:nvSpPr>
          <p:spPr>
            <a:xfrm>
              <a:off x="3978360" y="2960640"/>
              <a:ext cx="1355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20760" y="2967120"/>
              <a:ext cx="14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pplication/FT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66720" y="3276720"/>
              <a:ext cx="381240" cy="3045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7F8-69CA-4E43-A874-5109249EBD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umbing: Packet 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805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81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834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844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852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860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863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978360" y="2960640"/>
            <a:ext cx="13557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20760" y="2967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66720" y="3276720"/>
            <a:ext cx="381240" cy="30456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3526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26668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259092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144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34290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39625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41148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09680" y="43434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42670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1911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5680" y="4038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0" y="36576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48720" y="33526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2960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7240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15200" y="26668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58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3868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62720" y="35053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4952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10280" y="43434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3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199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81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524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8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4800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3828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200400" y="3124080"/>
            <a:ext cx="304920" cy="381240"/>
            <a:chOff x="3200400" y="3124080"/>
            <a:chExt cx="304920" cy="381240"/>
          </a:xfrm>
        </p:grpSpPr>
        <p:sp>
          <p:nvSpPr>
            <p:cNvPr id="915" name=""/>
            <p:cNvSpPr/>
            <p:nvPr/>
          </p:nvSpPr>
          <p:spPr>
            <a:xfrm>
              <a:off x="3200400" y="3124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00400" y="33526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BB5-4DA5-429A-84CC-5A68AA429F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1058760" y="26528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58760" y="33386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797200" y="2251080"/>
            <a:ext cx="766800" cy="38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22400" y="3338640"/>
            <a:ext cx="741600" cy="275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562200" y="2209680"/>
            <a:ext cx="2143080" cy="3888720"/>
            <a:chOff x="3562200" y="2209680"/>
            <a:chExt cx="2143080" cy="3888720"/>
          </a:xfrm>
        </p:grpSpPr>
        <p:sp>
          <p:nvSpPr>
            <p:cNvPr id="923" name=""/>
            <p:cNvSpPr/>
            <p:nvPr/>
          </p:nvSpPr>
          <p:spPr>
            <a:xfrm>
              <a:off x="3562200" y="28954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62200" y="35812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c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62200" y="42670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rt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62200" y="49528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race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62200" y="22096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cmn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62200" y="5638680"/>
              <a:ext cx="2143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705640" y="1980720"/>
            <a:ext cx="2666520" cy="3353400"/>
            <a:chOff x="5705640" y="1980720"/>
            <a:chExt cx="2666520" cy="3353400"/>
          </a:xfrm>
        </p:grpSpPr>
        <p:sp>
          <p:nvSpPr>
            <p:cNvPr id="930" name=""/>
            <p:cNvSpPr/>
            <p:nvPr/>
          </p:nvSpPr>
          <p:spPr>
            <a:xfrm>
              <a:off x="6619680" y="198108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9680" y="25909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19680" y="32767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19680" y="39625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9680" y="46483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705640" y="1980720"/>
              <a:ext cx="91404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705640" y="2895480"/>
              <a:ext cx="91404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30D-D955-4746-8F65-16456E24D3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5A3-5D26-4D9A-93B5-A7410AE243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tract the Real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hea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n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less chann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warding and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F45-307A-4701-8C9F-87857A1CFC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ireless 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1238400" y="22050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38400" y="28908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990880" y="1824120"/>
            <a:ext cx="60948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02040" y="2889360"/>
            <a:ext cx="598320" cy="3278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89440" y="1593360"/>
            <a:ext cx="2667240" cy="3353400"/>
            <a:chOff x="5689440" y="1593360"/>
            <a:chExt cx="2667240" cy="3353400"/>
          </a:xfrm>
        </p:grpSpPr>
        <p:sp>
          <p:nvSpPr>
            <p:cNvPr id="947" name=""/>
            <p:cNvSpPr/>
            <p:nvPr/>
          </p:nvSpPr>
          <p:spPr>
            <a:xfrm>
              <a:off x="6603840" y="159372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03840" y="22035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03840" y="28893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3840" y="35751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03840" y="42609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89440" y="1593360"/>
              <a:ext cx="9144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89440" y="2508120"/>
              <a:ext cx="91440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00360" y="1822320"/>
            <a:ext cx="2088360" cy="4345560"/>
            <a:chOff x="3600360" y="1822320"/>
            <a:chExt cx="2088360" cy="4345560"/>
          </a:xfrm>
        </p:grpSpPr>
        <p:grpSp>
          <p:nvGrpSpPr>
            <p:cNvPr id="955" name=""/>
            <p:cNvGrpSpPr/>
            <p:nvPr/>
          </p:nvGrpSpPr>
          <p:grpSpPr>
            <a:xfrm>
              <a:off x="3600360" y="1822320"/>
              <a:ext cx="2088360" cy="1828800"/>
              <a:chOff x="3600360" y="1822320"/>
              <a:chExt cx="2088360" cy="1828800"/>
            </a:xfrm>
          </p:grpSpPr>
          <p:sp>
            <p:nvSpPr>
              <p:cNvPr id="956" name=""/>
              <p:cNvSpPr/>
              <p:nvPr/>
            </p:nvSpPr>
            <p:spPr>
              <a:xfrm>
                <a:off x="3600360" y="25081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IP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00360" y="3193920"/>
                <a:ext cx="20883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00360" y="18223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cmn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600360" y="3651120"/>
              <a:ext cx="2088360" cy="2516760"/>
              <a:chOff x="3600360" y="3651120"/>
              <a:chExt cx="2088360" cy="251676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0360" y="365112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L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00360" y="43365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MAC 802_1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00360" y="5708160"/>
                <a:ext cx="2088360" cy="4597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0360" y="50223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AR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715000" y="3657600"/>
            <a:ext cx="1710720" cy="2502000"/>
            <a:chOff x="5715000" y="3657600"/>
            <a:chExt cx="1710720" cy="2502000"/>
          </a:xfrm>
        </p:grpSpPr>
        <p:sp>
          <p:nvSpPr>
            <p:cNvPr id="965" name=""/>
            <p:cNvSpPr/>
            <p:nvPr/>
          </p:nvSpPr>
          <p:spPr>
            <a:xfrm>
              <a:off x="5715000" y="3657600"/>
              <a:ext cx="295200" cy="25020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04440" y="4454640"/>
              <a:ext cx="142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ireless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eader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ED9-AD15-43C2-BB06-7875100221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ordinates (x,y,z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ed, direction, starting/ending location, time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CD0-E415-44AF-A25A-28F43D7C97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rait of A Mobile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1084320" y="1757520"/>
            <a:ext cx="3124080" cy="17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8000" y="269064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6640" y="1765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c1eb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48000" y="3649680"/>
            <a:ext cx="838080" cy="398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7400" y="5162400"/>
            <a:ext cx="120636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pagation and antenna model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8240" y="1609560"/>
            <a:ext cx="3706920" cy="436428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99840" y="56498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c1eb"/>
                </a:solidFill>
                <a:latin typeface="Tahoma"/>
              </a:rPr>
              <a:t>MobileN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4818240"/>
            <a:ext cx="10666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5342040"/>
            <a:ext cx="106668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133720" y="4178160"/>
            <a:ext cx="457200" cy="457200"/>
            <a:chOff x="2133720" y="417816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2133720" y="417816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33720" y="433044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3720" y="448272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5400" y="6095880"/>
            <a:ext cx="3276720" cy="276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HANN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22800" y="2654280"/>
            <a:ext cx="533520" cy="304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13240" y="326376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56040" y="3832200"/>
            <a:ext cx="106704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160960" y="4357800"/>
            <a:ext cx="457200" cy="457200"/>
            <a:chOff x="5160960" y="4357800"/>
            <a:chExt cx="457200" cy="457200"/>
          </a:xfrm>
        </p:grpSpPr>
        <p:sp>
          <p:nvSpPr>
            <p:cNvPr id="990" name=""/>
            <p:cNvSpPr/>
            <p:nvPr/>
          </p:nvSpPr>
          <p:spPr>
            <a:xfrm>
              <a:off x="5160960" y="435780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60960" y="451008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60960" y="46623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56040" y="5016600"/>
            <a:ext cx="10670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56040" y="5549760"/>
            <a:ext cx="106704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10200" y="1863720"/>
            <a:ext cx="3133800" cy="4034160"/>
            <a:chOff x="6010200" y="1863720"/>
            <a:chExt cx="3133800" cy="4034160"/>
          </a:xfrm>
        </p:grpSpPr>
        <p:sp>
          <p:nvSpPr>
            <p:cNvPr id="996" name=""/>
            <p:cNvSpPr/>
            <p:nvPr/>
          </p:nvSpPr>
          <p:spPr>
            <a:xfrm>
              <a:off x="6010200" y="1863720"/>
              <a:ext cx="287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Classifier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Forwarding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10200" y="2549520"/>
              <a:ext cx="290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Agent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Protocol Entit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0200" y="3159000"/>
              <a:ext cx="25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0200" y="37465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LL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Link layer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0200" y="4356000"/>
              <a:ext cx="31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IFQ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Interface que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0200" y="496584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MAC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Mac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10200" y="5499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PHY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Net interfa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1003" name=""/>
          <p:cNvCxnSpPr>
            <a:stCxn id="984" idx="1"/>
            <a:endCxn id="971" idx="2"/>
          </p:cNvCxnSpPr>
          <p:nvPr/>
        </p:nvCxnSpPr>
        <p:spPr>
          <a:xfrm rot="10800000">
            <a:off x="1007280" y="2766960"/>
            <a:ext cx="821520" cy="1078200"/>
          </a:xfrm>
          <a:prstGeom prst="bentConnector3">
            <a:avLst>
              <a:gd name="adj1" fmla="val 119508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79" idx="2"/>
            <a:endCxn id="985" idx="0"/>
          </p:cNvCxnSpPr>
          <p:nvPr/>
        </p:nvCxnSpPr>
        <p:spPr>
          <a:xfrm>
            <a:off x="2362320" y="5625720"/>
            <a:ext cx="2160" cy="470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5" name=""/>
          <p:cNvCxnSpPr>
            <a:stCxn id="979" idx="3"/>
            <a:endCxn id="974" idx="1"/>
          </p:cNvCxnSpPr>
          <p:nvPr/>
        </p:nvCxnSpPr>
        <p:spPr>
          <a:xfrm>
            <a:off x="2895480" y="5484960"/>
            <a:ext cx="332640" cy="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978" idx="2"/>
            <a:endCxn id="979" idx="0"/>
          </p:cNvCxnSpPr>
          <p:nvPr/>
        </p:nvCxnSpPr>
        <p:spPr>
          <a:xfrm>
            <a:off x="2361960" y="5102280"/>
            <a:ext cx="1080" cy="24048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7" name=""/>
          <p:cNvCxnSpPr>
            <a:stCxn id="981" idx="2"/>
            <a:endCxn id="978" idx="0"/>
          </p:cNvCxnSpPr>
          <p:nvPr/>
        </p:nvCxnSpPr>
        <p:spPr>
          <a:xfrm>
            <a:off x="2361960" y="4635360"/>
            <a:ext cx="1080" cy="18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84" idx="2"/>
            <a:endCxn id="981" idx="0"/>
          </p:cNvCxnSpPr>
          <p:nvPr/>
        </p:nvCxnSpPr>
        <p:spPr>
          <a:xfrm>
            <a:off x="2361960" y="3985920"/>
            <a:ext cx="1080" cy="192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 rot="5400000">
            <a:off x="1155600" y="26636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5400000">
            <a:off x="1733400" y="22874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971" idx="6"/>
            <a:endCxn id="1009" idx="1"/>
          </p:cNvCxnSpPr>
          <p:nvPr/>
        </p:nvCxnSpPr>
        <p:spPr>
          <a:xfrm flipV="1">
            <a:off x="1160640" y="2765160"/>
            <a:ext cx="25920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2" name=""/>
          <p:cNvSpPr/>
          <p:nvPr/>
        </p:nvSpPr>
        <p:spPr>
          <a:xfrm rot="5400000">
            <a:off x="5075640" y="1971000"/>
            <a:ext cx="577800" cy="160200"/>
          </a:xfrm>
          <a:custGeom>
            <a:avLst/>
            <a:gdLst>
              <a:gd name="textAreaLeft" fmla="*/ 133200 w 577800"/>
              <a:gd name="textAreaRight" fmla="*/ 444600 w 577800"/>
              <a:gd name="textAreaTop" fmla="*/ 36720 h 160200"/>
              <a:gd name="textAreaBottom" fmla="*/ 12348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3" name=""/>
          <p:cNvCxnSpPr>
            <a:stCxn id="984" idx="3"/>
            <a:endCxn id="973" idx="1"/>
          </p:cNvCxnSpPr>
          <p:nvPr/>
        </p:nvCxnSpPr>
        <p:spPr>
          <a:xfrm>
            <a:off x="2895120" y="3844800"/>
            <a:ext cx="45324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4" name=""/>
          <p:cNvSpPr/>
          <p:nvPr/>
        </p:nvSpPr>
        <p:spPr>
          <a:xfrm>
            <a:off x="2903400" y="1895400"/>
            <a:ext cx="8604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toco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30400" y="2905200"/>
            <a:ext cx="8748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34000" y="29606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21600" y="16160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8" name=""/>
          <p:cNvCxnSpPr>
            <a:stCxn id="1009" idx="3"/>
            <a:endCxn id="1010" idx="1"/>
          </p:cNvCxnSpPr>
          <p:nvPr/>
        </p:nvCxnSpPr>
        <p:spPr>
          <a:xfrm flipV="1">
            <a:off x="1649160" y="2388600"/>
            <a:ext cx="347760" cy="376920"/>
          </a:xfrm>
          <a:prstGeom prst="bentConnector3">
            <a:avLst>
              <a:gd name="adj1" fmla="val 4932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09" idx="3"/>
            <a:endCxn id="1015" idx="1"/>
          </p:cNvCxnSpPr>
          <p:nvPr/>
        </p:nvCxnSpPr>
        <p:spPr>
          <a:xfrm>
            <a:off x="1649520" y="2765520"/>
            <a:ext cx="1281600" cy="356400"/>
          </a:xfrm>
          <a:prstGeom prst="bentConnector3">
            <a:avLst>
              <a:gd name="adj1" fmla="val 1362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1010" idx="3"/>
            <a:endCxn id="1015" idx="1"/>
          </p:cNvCxnSpPr>
          <p:nvPr/>
        </p:nvCxnSpPr>
        <p:spPr>
          <a:xfrm>
            <a:off x="2226960" y="2388960"/>
            <a:ext cx="703800" cy="732600"/>
          </a:xfrm>
          <a:prstGeom prst="bentConnector3">
            <a:avLst>
              <a:gd name="adj1" fmla="val 4872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10" idx="3"/>
            <a:endCxn id="1014" idx="1"/>
          </p:cNvCxnSpPr>
          <p:nvPr/>
        </p:nvCxnSpPr>
        <p:spPr>
          <a:xfrm flipV="1">
            <a:off x="2227320" y="2111400"/>
            <a:ext cx="676800" cy="278280"/>
          </a:xfrm>
          <a:prstGeom prst="bentConnector3">
            <a:avLst>
              <a:gd name="adj1" fmla="val 504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2" name=""/>
          <p:cNvSpPr/>
          <p:nvPr/>
        </p:nvSpPr>
        <p:spPr>
          <a:xfrm>
            <a:off x="2511360" y="25606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5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45240" y="4254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72840" y="4430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14760" y="3979800"/>
            <a:ext cx="0" cy="8334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4" idx="0"/>
            <a:endCxn id="971" idx="2"/>
          </p:cNvCxnSpPr>
          <p:nvPr/>
        </p:nvCxnSpPr>
        <p:spPr>
          <a:xfrm rot="5400000">
            <a:off x="1734480" y="1167480"/>
            <a:ext cx="872280" cy="2326320"/>
          </a:xfrm>
          <a:prstGeom prst="bentConnector4">
            <a:avLst>
              <a:gd name="adj1" fmla="val -26218"/>
              <a:gd name="adj2" fmla="val 10681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1015" idx="2"/>
            <a:endCxn id="984" idx="0"/>
          </p:cNvCxnSpPr>
          <p:nvPr/>
        </p:nvCxnSpPr>
        <p:spPr>
          <a:xfrm rot="5400000">
            <a:off x="2681280" y="3015360"/>
            <a:ext cx="367200" cy="1006920"/>
          </a:xfrm>
          <a:prstGeom prst="bentConnector3">
            <a:avLst>
              <a:gd name="adj1" fmla="val 4975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8" name=""/>
          <p:cNvSpPr/>
          <p:nvPr/>
        </p:nvSpPr>
        <p:spPr>
          <a:xfrm>
            <a:off x="1751400" y="306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defaulttarget_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A4E-A50A-40D8-91DB-B00A525B71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me as LAN, but with a separate ARP mod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face que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ve priority to routing protocol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EEE 802.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TS/CTS/DATA/ACK for all uni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for all broad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3EA-536F-43D9-A896-9DBD997192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Link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58960" y="1649520"/>
          <a:ext cx="791532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649520"/>
                    <a:ext cx="7915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CBF-2C46-400C-866B-64F5DE682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twork interface (P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based on Direct Sequence Spread Spectrum (WaveLa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with: antenna and propagation mode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pdate energy: transmission and rece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ne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-ray Ground 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f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ni-directional, unity-ga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E90-D5B2-4ED6-A8E9-D3AB34DCD4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reless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plicate packets to all mobile nodes attached to the channel except the sen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 is the receiver’s responsibility to decide if it will accept the pack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ision is handled at individual recei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 messag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rid kee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399-596D-4ED8-A97E-D8ADA686373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-keeper: An Optimizatio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95280" y="1981080"/>
            <a:ext cx="6782040" cy="4267440"/>
            <a:chOff x="1295280" y="1981080"/>
            <a:chExt cx="6782040" cy="4267440"/>
          </a:xfrm>
        </p:grpSpPr>
        <p:sp>
          <p:nvSpPr>
            <p:cNvPr id="1037" name=""/>
            <p:cNvSpPr/>
            <p:nvPr/>
          </p:nvSpPr>
          <p:spPr>
            <a:xfrm>
              <a:off x="1981080" y="2514600"/>
              <a:ext cx="3581640" cy="32767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95280" y="1981080"/>
              <a:ext cx="6782040" cy="4267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5280" y="41148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1814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95280" y="5791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47920" y="5181480"/>
              <a:ext cx="6629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483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8195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4008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19810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6576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5627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2388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95280" y="30481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95280" y="35812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2819520"/>
              <a:ext cx="2895840" cy="2666880"/>
            </a:xfrm>
            <a:prstGeom prst="ellipse">
              <a:avLst/>
            </a:prstGeom>
            <a:noFill/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09880" y="41148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48769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0988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240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67080" y="44956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098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3657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0040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3400" y="51055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06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920" y="4800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1120" y="358128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29000" y="51814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004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62520" y="50292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67080" y="32767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52680" y="38098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828800" y="4419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1280" y="53341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05320" y="44197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9625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19920" y="6172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86600" y="52578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57400" y="22860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0120" y="3886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6728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00800" y="48006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62920" y="4724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29400" y="26668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09680" y="5562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67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49528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48120" y="59436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24280" y="6019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752480" y="27432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05720" y="5867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0020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9920" y="4876920"/>
              <a:ext cx="7596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62320" y="22096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43800" y="5867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8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9920" y="22860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10280" y="3276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91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67480" y="4876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96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2819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20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438280" y="5486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76920" y="5105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29200" y="5715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81480" y="5410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81080" y="2514600"/>
              <a:ext cx="838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81080" y="5181480"/>
              <a:ext cx="83844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5280" y="4648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F88-679F-4366-AD0D-0F0F125AF0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F77-158A-4D1F-B04B-9290FA17357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Sca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s to simulation s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tuning (next sess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2C0-FCBB-4DD1-BCE2-8190FCBBEB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828720" y="1623960"/>
            <a:ext cx="7324560" cy="4386240"/>
          </a:xfrm>
          <a:prstGeom prst="rect">
            <a:avLst/>
          </a:prstGeom>
          <a:ln w="0">
            <a:noFill/>
          </a:ln>
        </p:spPr>
      </p:pic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2779200" y="326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2101680" y="1716120"/>
            <a:ext cx="6340680" cy="3421080"/>
            <a:chOff x="2101680" y="1716120"/>
            <a:chExt cx="6340680" cy="3421080"/>
          </a:xfrm>
        </p:grpSpPr>
        <p:sp>
          <p:nvSpPr>
            <p:cNvPr id="1119" name=""/>
            <p:cNvSpPr/>
            <p:nvPr/>
          </p:nvSpPr>
          <p:spPr>
            <a:xfrm>
              <a:off x="2101680" y="2887560"/>
              <a:ext cx="5589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67280" y="27241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128M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1870200"/>
              <a:ext cx="0" cy="326700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37280" y="1716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43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BC9-C4E3-4995-BBFD-DB16BC9A19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3" name=""/>
          <p:cNvGraphicFramePr/>
          <p:nvPr/>
        </p:nvGraphicFramePr>
        <p:xfrm>
          <a:off x="844560" y="1649520"/>
          <a:ext cx="780876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49520"/>
                    <a:ext cx="78087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3236400" y="1976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2F7-84A7-4C74-9EBB-A9F9898225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lprit: Details,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nse mode tries to capture packet-level behavi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es, Joi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abstract it 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67F-D61D-45B3-AA4B-344A7322C2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 flipH="1" flipV="1">
            <a:off x="6045120" y="3865320"/>
            <a:ext cx="976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45120" y="3865320"/>
            <a:ext cx="2308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80240" y="3665520"/>
            <a:ext cx="1295280" cy="15271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13560" y="4254480"/>
            <a:ext cx="5968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91440" y="3684600"/>
            <a:ext cx="1249200" cy="150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6070320" y="3870360"/>
            <a:ext cx="1571400" cy="38736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21440" y="3297240"/>
            <a:ext cx="3938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210440" y="4254480"/>
            <a:ext cx="5284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8720" y="4041720"/>
            <a:ext cx="392040" cy="40644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45320" y="4049640"/>
            <a:ext cx="37476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912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31160" y="5006880"/>
            <a:ext cx="3744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534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2520000">
            <a:off x="6900480" y="363024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2520000">
            <a:off x="6733800" y="383040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8990000">
            <a:off x="7443720" y="361440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9197600">
            <a:off x="7604280" y="383976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9768800">
            <a:off x="6675480" y="457488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9523400">
            <a:off x="6833880" y="481464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056280" y="3878280"/>
            <a:ext cx="385920" cy="27288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879880" y="3892680"/>
            <a:ext cx="168120" cy="108720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043680" y="3557520"/>
            <a:ext cx="968400" cy="311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91240" y="5624640"/>
            <a:ext cx="318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04480" y="1752480"/>
            <a:ext cx="33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32800" y="2731320"/>
            <a:ext cx="1121040" cy="11919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57520" y="2454120"/>
            <a:ext cx="39204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43000" y="3198960"/>
            <a:ext cx="39240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79600" y="3208320"/>
            <a:ext cx="374760" cy="3888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3273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65440" y="4164120"/>
            <a:ext cx="376200" cy="3902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743800">
            <a:off x="2572560" y="282024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733600">
            <a:off x="2392920" y="29818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2520000">
            <a:off x="1882440" y="3619080"/>
            <a:ext cx="842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2580000">
            <a:off x="1671480" y="3838680"/>
            <a:ext cx="860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8798000">
            <a:off x="3060000" y="2817000"/>
            <a:ext cx="871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8840000">
            <a:off x="3264120" y="29905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9005600">
            <a:off x="3736440" y="36223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8934800">
            <a:off x="3935520" y="3828600"/>
            <a:ext cx="8892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8902400">
            <a:off x="2733480" y="38304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2556600">
            <a:off x="2080800" y="383652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2564400">
            <a:off x="1882800" y="405396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8889200">
            <a:off x="3539880" y="3806640"/>
            <a:ext cx="8424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8840000">
            <a:off x="3782880" y="4024440"/>
            <a:ext cx="84240" cy="19512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8925800">
            <a:off x="2522160" y="362556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957320" y="3924360"/>
            <a:ext cx="333360" cy="406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434400" y="3925080"/>
            <a:ext cx="384480" cy="3571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391760" y="2676240"/>
            <a:ext cx="1062360" cy="11354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8920" y="3557160"/>
            <a:ext cx="365400" cy="3754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877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79" name=""/>
          <p:cNvCxnSpPr>
            <a:stCxn id="1157" idx="4"/>
            <a:endCxn id="1159" idx="0"/>
          </p:cNvCxnSpPr>
          <p:nvPr/>
        </p:nvCxnSpPr>
        <p:spPr>
          <a:xfrm flipH="1">
            <a:off x="2854080" y="3596760"/>
            <a:ext cx="613440" cy="567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0" name=""/>
          <p:cNvCxnSpPr>
            <a:stCxn id="1157" idx="4"/>
            <a:endCxn id="1178" idx="1"/>
          </p:cNvCxnSpPr>
          <p:nvPr/>
        </p:nvCxnSpPr>
        <p:spPr>
          <a:xfrm>
            <a:off x="3466800" y="359712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1" name=""/>
          <p:cNvCxnSpPr>
            <a:stCxn id="1155" idx="4"/>
            <a:endCxn id="1157" idx="1"/>
          </p:cNvCxnSpPr>
          <p:nvPr/>
        </p:nvCxnSpPr>
        <p:spPr>
          <a:xfrm>
            <a:off x="2854440" y="28623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2" name=""/>
          <p:cNvCxnSpPr>
            <a:stCxn id="1155" idx="4"/>
            <a:endCxn id="1156" idx="7"/>
          </p:cNvCxnSpPr>
          <p:nvPr/>
        </p:nvCxnSpPr>
        <p:spPr>
          <a:xfrm flipH="1">
            <a:off x="2377440" y="2862360"/>
            <a:ext cx="477000" cy="39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3" name=""/>
          <p:cNvCxnSpPr>
            <a:stCxn id="1156" idx="4"/>
            <a:endCxn id="1158" idx="7"/>
          </p:cNvCxnSpPr>
          <p:nvPr/>
        </p:nvCxnSpPr>
        <p:spPr>
          <a:xfrm flipH="1">
            <a:off x="1661400" y="3606480"/>
            <a:ext cx="578520" cy="610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4" name=""/>
          <p:cNvCxnSpPr>
            <a:stCxn id="1156" idx="4"/>
            <a:endCxn id="1159" idx="0"/>
          </p:cNvCxnSpPr>
          <p:nvPr/>
        </p:nvCxnSpPr>
        <p:spPr>
          <a:xfrm>
            <a:off x="2239560" y="3606840"/>
            <a:ext cx="61524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4919760" y="3370320"/>
            <a:ext cx="1369800" cy="7282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Comput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Unit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90400" y="4888080"/>
            <a:ext cx="1506960" cy="1390320"/>
            <a:chOff x="590400" y="4888080"/>
            <a:chExt cx="1506960" cy="1390320"/>
          </a:xfrm>
        </p:grpSpPr>
        <p:sp>
          <p:nvSpPr>
            <p:cNvPr id="1187" name=""/>
            <p:cNvSpPr/>
            <p:nvPr/>
          </p:nvSpPr>
          <p:spPr>
            <a:xfrm>
              <a:off x="603360" y="538632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5340000">
              <a:off x="682920" y="6013800"/>
              <a:ext cx="88920" cy="18900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140000">
              <a:off x="681480" y="575352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0400" y="495288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4080" y="5229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69200" y="55706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54440" y="59101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pru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54440" y="48880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8E8-922A-41E3-B33B-2FD6285CDE4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$ns mrtproto CtrM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act dynamic behavior, e.g., routing convergence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mean to replace D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47D-79B2-4235-A52F-6E92E377F96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hierarchy in ns for spli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ed in both C++ and O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set packetSize_ 102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advanceby 500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CDB-E34B-48FB-88D9-6788241605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rther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404136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ove all intermediate nodes and lin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 not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queue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elive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2254320" y="1690560"/>
          <a:ext cx="4829040" cy="215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690560"/>
                    <a:ext cx="48290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666-94AB-48C6-808C-3851C95AD9A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5675400" y="3300480"/>
            <a:ext cx="2246400" cy="14666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53120" y="3651120"/>
            <a:ext cx="1371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pl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T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02560" y="3129120"/>
            <a:ext cx="0" cy="2743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113160" y="4540320"/>
            <a:ext cx="592200" cy="3157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67360" y="4540320"/>
            <a:ext cx="541440" cy="322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07960" y="3336840"/>
            <a:ext cx="183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ssion Helper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0800" y="5546880"/>
            <a:ext cx="265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3240" y="1820880"/>
            <a:ext cx="41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istrib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6140000">
            <a:off x="60044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6140000">
            <a:off x="60044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6140000">
            <a:off x="6004440" y="39722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6140000">
            <a:off x="6004440" y="37436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6140000">
            <a:off x="73760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140000">
            <a:off x="73760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95280" y="2659680"/>
            <a:ext cx="353160" cy="317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89120" y="2413080"/>
            <a:ext cx="3920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74960" y="315756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11560" y="3166920"/>
            <a:ext cx="37476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5892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412272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2743800">
            <a:off x="2503800" y="2778840"/>
            <a:ext cx="8568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2733600">
            <a:off x="2324520" y="29404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8798000">
            <a:off x="2991600" y="2775240"/>
            <a:ext cx="8748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8840000">
            <a:off x="3195720" y="29491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8902400">
            <a:off x="2665080" y="37890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8925800">
            <a:off x="2454120" y="3584160"/>
            <a:ext cx="860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168280" y="2713320"/>
            <a:ext cx="309240" cy="2725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40520" y="3515760"/>
            <a:ext cx="365400" cy="3758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1968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stCxn id="1219" idx="4"/>
            <a:endCxn id="1221" idx="0"/>
          </p:cNvCxnSpPr>
          <p:nvPr/>
        </p:nvCxnSpPr>
        <p:spPr>
          <a:xfrm flipH="1">
            <a:off x="2785680" y="3556080"/>
            <a:ext cx="613440" cy="567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2" name=""/>
          <p:cNvCxnSpPr>
            <a:stCxn id="1219" idx="4"/>
            <a:endCxn id="1230" idx="1"/>
          </p:cNvCxnSpPr>
          <p:nvPr/>
        </p:nvCxnSpPr>
        <p:spPr>
          <a:xfrm>
            <a:off x="3398400" y="355608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3" name=""/>
          <p:cNvCxnSpPr>
            <a:stCxn id="1217" idx="4"/>
            <a:endCxn id="1219" idx="1"/>
          </p:cNvCxnSpPr>
          <p:nvPr/>
        </p:nvCxnSpPr>
        <p:spPr>
          <a:xfrm>
            <a:off x="2786040" y="28209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4" name=""/>
          <p:cNvCxnSpPr>
            <a:stCxn id="1217" idx="4"/>
            <a:endCxn id="1218" idx="7"/>
          </p:cNvCxnSpPr>
          <p:nvPr/>
        </p:nvCxnSpPr>
        <p:spPr>
          <a:xfrm flipH="1">
            <a:off x="2309040" y="2820600"/>
            <a:ext cx="477000" cy="397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5" name=""/>
          <p:cNvCxnSpPr>
            <a:stCxn id="1218" idx="4"/>
            <a:endCxn id="1220" idx="7"/>
          </p:cNvCxnSpPr>
          <p:nvPr/>
        </p:nvCxnSpPr>
        <p:spPr>
          <a:xfrm flipH="1">
            <a:off x="1593360" y="3565440"/>
            <a:ext cx="578880" cy="610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6" name=""/>
          <p:cNvCxnSpPr>
            <a:stCxn id="1218" idx="4"/>
            <a:endCxn id="1221" idx="0"/>
          </p:cNvCxnSpPr>
          <p:nvPr/>
        </p:nvCxnSpPr>
        <p:spPr>
          <a:xfrm>
            <a:off x="2171880" y="3565440"/>
            <a:ext cx="61488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1237" name=""/>
          <p:cNvGrpSpPr/>
          <p:nvPr/>
        </p:nvGrpSpPr>
        <p:grpSpPr>
          <a:xfrm>
            <a:off x="576360" y="5170320"/>
            <a:ext cx="1506960" cy="1050840"/>
            <a:chOff x="576360" y="5170320"/>
            <a:chExt cx="1506960" cy="1050840"/>
          </a:xfrm>
        </p:grpSpPr>
        <p:sp>
          <p:nvSpPr>
            <p:cNvPr id="1238" name=""/>
            <p:cNvSpPr/>
            <p:nvPr/>
          </p:nvSpPr>
          <p:spPr>
            <a:xfrm>
              <a:off x="589320" y="566856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140000">
              <a:off x="667440" y="603576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6360" y="523512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40040" y="551160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55160" y="5852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40400" y="517032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5921280" y="486576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6000" y="4867200"/>
            <a:ext cx="37440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03840" y="2701800"/>
            <a:ext cx="39240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419-E68D-4120-B2ED-D86A44B6C4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essionSi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orted end-to-end de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loss due to conges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000-AFBF-491F-A72C-5F5072DDA02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17560" y="1649520"/>
          <a:ext cx="77677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649520"/>
                    <a:ext cx="77677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4533480" y="24494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2560" y="368136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233040" y="4365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000-0986-45C4-B243-5FC03E9B90D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723960" y="1596960"/>
          <a:ext cx="807732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596960"/>
                    <a:ext cx="80773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4844880" y="23274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7000" y="267984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entraliz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50200" y="3679920"/>
            <a:ext cx="23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335-68D2-40FA-BDEF-D54BD9FB41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istortion of Centralized Multica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831960" y="1703520"/>
          <a:ext cx="77803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03520"/>
                    <a:ext cx="7780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4" name=""/>
          <p:cNvGrpSpPr/>
          <p:nvPr/>
        </p:nvGrpSpPr>
        <p:grpSpPr>
          <a:xfrm>
            <a:off x="2130480" y="2944800"/>
            <a:ext cx="4646520" cy="973080"/>
            <a:chOff x="2130480" y="2944800"/>
            <a:chExt cx="4646520" cy="973080"/>
          </a:xfrm>
        </p:grpSpPr>
        <p:sp>
          <p:nvSpPr>
            <p:cNvPr id="1265" name=""/>
            <p:cNvSpPr/>
            <p:nvPr/>
          </p:nvSpPr>
          <p:spPr>
            <a:xfrm>
              <a:off x="2130480" y="29448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168720" y="31510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9800" y="361332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138560" y="380988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349360" y="3797280"/>
            <a:ext cx="3916440" cy="1365120"/>
            <a:chOff x="2349360" y="3797280"/>
            <a:chExt cx="3916440" cy="1365120"/>
          </a:xfrm>
        </p:grpSpPr>
        <p:sp>
          <p:nvSpPr>
            <p:cNvPr id="1270" name=""/>
            <p:cNvSpPr/>
            <p:nvPr/>
          </p:nvSpPr>
          <p:spPr>
            <a:xfrm>
              <a:off x="2349360" y="485784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37972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EC9-2820-4EA1-87E0-2AA1DAEE043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ortion of 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831960" y="1676520"/>
          <a:ext cx="779436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76520"/>
                    <a:ext cx="779436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EF0-A8B5-47C2-B28A-C8768042D47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ot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sim still uses too much memory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 want large detailed simulation, e.g., Web traffic patter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your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’ll cover it this afterno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89D-4715-43B3-9F1C-BAA8102C8C4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clObject: Hierarchy and Shadow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0" idx="2"/>
            <a:endCxn id="281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1" idx="2"/>
            <a:endCxn id="282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2" idx="2"/>
            <a:endCxn id="283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3" idx="3"/>
            <a:endCxn id="288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2"/>
            <a:endCxn id="292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2" idx="2"/>
            <a:endCxn id="293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3" idx="2"/>
            <a:endCxn id="288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4631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7016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E63-5105-4AD0-99AE-36BB446CA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bi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C++ member variables to OTcl object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pAgent::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bind(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, &amp;wnd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d_time(), bind_bool(), bind_bw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21E-6A56-4336-88F2-DA562633A9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itialization of Bou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through OTcl class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Agent/TCP set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 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all initialization of bound variables in ~ns/lib/ns-default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 a warning will be issued when the shadow object is cre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192-0D4D-446B-9D60-489BEC3FD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lementation of Boun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ass InstV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object per bound variable –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expensiv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VarInt, InstVarReal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d by TclObject::bi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stance variable in OTcl st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p read/write to OTcl variable using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_TraceVar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 to C++ variable in the tr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25D-99A5-4C79-90D8-A477F1A7DA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9T06:01:53Z</dcterms:modified>
  <cp:revision>670</cp:revision>
  <dc:subject/>
  <dc:title>ns-2 tutorial for IEC'00 workshop</dc:title>
</cp:coreProperties>
</file>