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1BB5-7571-4726-AFE0-DC310015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38A-4DA2-4E7A-AA0A-DA745740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B53-017F-4E0C-8278-DAE3DE0D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19D-EB43-49B0-9FAE-568644EB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1E4D-7F52-4D2E-AFC5-ACDD5687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30A6-48F0-4788-98AA-B7F87D0D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549A-FF17-4334-8192-50A34EFC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B7D2-606D-490D-8723-0BE9DADE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F9ED-26A8-4DF7-9112-E141B1FC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79CB-1CB0-4D71-9586-3907F7A4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F0F6-C622-46A9-863B-294DEE14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08E-14F1-48AE-A577-971F03DA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7DA0-160F-43EF-8482-B91A10ED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09C1-CCE6-4920-81BF-275B186C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2414-AAC8-4A59-8581-D4360087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A238-7463-4D38-8EBD-5528D4FD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2BEB-5918-44D2-A459-057F6B88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0C4C-C35B-4A92-991B-F450C564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2A6-6E1A-4606-A212-D33E12E2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BE0-1D68-4EEF-9E32-4AF88DAD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9F1-840B-4AC1-982C-6F0A78EE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1F3-4638-457E-B392-7353DB95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2260-2C6C-409B-93E0-7E38650A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CFF7-ECF9-431F-87B2-C03E0474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522E-D2B7-408B-A3F7-EE9DE07D8315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4E51-F1A1-48E6-AD94-02DEA055BAE1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CB65-9A9E-4E30-8A35-E8CC4DD8F0E1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4556-7FEC-4AF2-AF7F-9F8B2FC3DB3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C:\research\vint\nam-1.0a9\nam.exe &quot;C:/research/slides/vint/mcast-noc.nam&quot;" TargetMode="Externa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c:\research\vint\nam-1.0a9\nam.exe &quot;c:/research/vint/nam-1.0a9/ex/srm-example.nam&quot;" TargetMode="External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c:\research\vint\nam-1.0a9\nam.exe &quot;C:/research/slides/vint/mcast-color.nam&quot;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 I: Fundament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4160-BB4B-4AA6-B5E2-731B429C4B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ello World - Batch M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simple.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at 1 “puts \“Hello World!\”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at 1.5 “exit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wallow 74% </a:t>
            </a:r>
            <a:r>
              <a:rPr b="1" lang="en-US" sz="2800" spc="-1" strike="noStrike">
                <a:solidFill>
                  <a:srgbClr val="40458c"/>
                </a:solidFill>
                <a:latin typeface="Courier New"/>
              </a:rPr>
              <a:t>ns simple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Hello World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wallow 75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0800-CEF2-4D25-AEE2-521C68D64B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sic 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 4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b 27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roc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test { a b 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c [expr $a + $b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d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$a - $b] * $c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 0} {$k &lt; 10} {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c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{$k &lt; 5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“k &lt; 5, pow =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pow($d, $k)]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“k &gt;= 5, mod =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$d % $k]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est 43 27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C16-BA25-4C76-9BB4-63C73B0C15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sic O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4191120" cy="45162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o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Mom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stproc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greet {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l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stva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ge_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“$age_ years old mom: How are you doing?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id -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uperclas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o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Kid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stproc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greet {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l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stva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ge_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“$age_ years old kid: What’s up, dude?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29200" y="1676520"/>
            <a:ext cx="3581280" cy="45180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om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om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mom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ge_ 4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id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id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kid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ge_ 1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mom gre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kid gre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962-B9AD-44C4-A497-2BCAFC3DB5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ments of ns-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the event schedu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Turn on tracing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net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up rou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ert erro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transport conn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traff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mit application-level da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5F7-E73B-49DF-8447-36668C371C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Event Schedul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event schedu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ns [new Simulator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hedule ev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 &lt;time&gt; &lt;event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event&gt;: any legitimate ns/tcl comman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rt schedu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ru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4CB3-F6CF-47F9-94FA-DC18D6265C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c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ce packets on all lin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trace-all [open test.out w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Courier New"/>
              </a:rPr>
              <a:t>&lt;event&gt; &lt;time&gt; &lt;from&gt; &lt;to&gt; &lt;pkt&gt; &lt;size&gt; -- &lt;fid&gt; &lt;src&gt; &lt;dst&gt; &lt;seq&gt; &lt;attr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Courier New"/>
              </a:rPr>
              <a:t>+ 1 0 2 cbr 210 ------- 0 0.0 3.1 0 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Courier New"/>
              </a:rPr>
              <a:t>- 1 0 2 cbr 210 ------- 0 0.0 3.1 0 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Courier New"/>
              </a:rPr>
              <a:t>r 1.00234 0 2 cbr 210 ------- 0 0.0 3.1 0 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ce packets on all links in nam-1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namtrace-all [open test.nam w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Must appear immediately after creating schedu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93C0-D69C-46D6-A980-C034CC37A9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c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urn on tracing on specific lin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trace-queue $n0 $n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namtrace-queue $n0 $n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533-C87C-4A73-9A2A-480572B1E6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Networ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n0 [$ns node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n1 [$ns node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s and queu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duplex-link $n0 $n1 &lt;bandwidth&gt; &lt;delay&gt; &lt;queue_type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queue_type&gt;: DropTail, RED, CBQ, FQ, SFQ, DR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78E-6BA9-4CB5-8A53-5BF76E5D9E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Network: LA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make-lan &lt;node_list&gt; &lt;bandwidth&gt; &lt;delay&gt; &lt;ll_type&gt; &lt;ifq_type&gt; &lt;mac_type&gt; &lt;channel_type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ll_type&gt;: 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ifq_type&gt;: Queue/DropTail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mac_type&gt;: MAC/802_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channel_type&gt;: Chann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19BB-8EC3-4ACA-83E6-99F1623A49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serting Erro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ing Error Mod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loss_module [new ErrorModel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loss_module set rate_ 0.0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loss_module unit pk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loss_module ranvar [new RandomVariable/Uniform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loss_module drop-target [new Agent/Null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serting Error Mod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lossmodel $loss_module $n0 $n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8438-C9CB-4B9A-BE1E-22CBB2C1E3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 Prim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etting star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C664-8D9B-4A9E-B2A7-E409B9EE71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Dynam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 fail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oks in routing module to reflect routing chang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 mode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rtmodel Trace &lt;config_file&gt; $n0 $n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rtmodel Exponential {&lt;params&gt;} $n0 $n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rtmodel Deterministic {&lt;params&gt;} $n0 $n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rtmodel-at &lt;time&gt; up|down $n0 $n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meter 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[&lt;start&gt;] &lt;up_interval&gt; &lt;down_interval&gt; [&lt;finish&gt;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76C-F94F-4BF7-BFD7-9412C79D8C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tup Rou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ca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rtproto &lt;type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type&gt;: Static, Session, DV, cost, multi-pat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ultica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multicast (right after [new Simulator]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mrtproto &lt;type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type&gt;: CtrMcast, DM, ST, B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147-C3C3-4893-93C6-FB9DC90C36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Connection: UD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D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udp [new Agent/UD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null [new Agent/Null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tach-agent $n0 $ud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tach-agent $n1 $nu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connect $udp $nu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5CF-D5C3-4B35-8D37-A9DB8B5B7E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reating Traffic: On Top of UDP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B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src [new Application/Traffic/CBR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onential or Pareto on-off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src [new Application/Traffic/Exponential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src [new Application/Traffic/Pareto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2C04-9988-4BB2-98BA-C1D44547CF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Connection: TC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tcp [new Agent/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tcpsink [new Agent/TCPSink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tach-agent $n0 $tc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tach-agent $n1 $tcpsin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connect $tcp $tcpsin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EA0-8B1B-4770-AB6E-1A15B6483A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reating Traffic: On Top of TCP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T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ftp [new Application/FT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ftp attach-agent $tc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l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telnet [new Application/Telnet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telnet attach-agent $tc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3C1-BE20-4D5D-8C0E-A68B182DC04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Traffic: Trace Driv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ce driv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t tfile [new Tracefile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tfile filename &lt;file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t src [new Application/Traffic/Trace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src attach-tracefile $tfi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file&gt;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inary format (</a:t>
            </a:r>
            <a:r>
              <a:rPr b="0" lang="en-US" sz="2400" spc="-1" strike="noStrike">
                <a:solidFill>
                  <a:srgbClr val="ff5050"/>
                </a:solidFill>
                <a:latin typeface="Tahoma"/>
              </a:rPr>
              <a:t>native!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r-packet time (msec) and packet size (byt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46F1-9431-4F6B-9C96-F87385A474C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-Level Simu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ea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uild on top of existing transport protoc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mit user data, e.g., HTTP hea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wo different solu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P: Application/TcpAp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DP: Agent/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1D7B-79D9-4AB5-A52C-C0CC081B50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/TcpAp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19000" y="3949200"/>
            <a:ext cx="60199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straction: TCP as a FIFO pip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fore sending: S notifies about R data siz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fter receiving: R gets data (arbitrary string) from 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2590920"/>
            <a:ext cx="53352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34320" y="2590920"/>
            <a:ext cx="53316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819520"/>
            <a:ext cx="55627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21524400">
            <a:off x="320040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21524400">
            <a:off x="495288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21524400">
            <a:off x="640080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917040" y="4254480"/>
            <a:ext cx="1690560" cy="1557000"/>
            <a:chOff x="6917040" y="4254480"/>
            <a:chExt cx="1690560" cy="1557000"/>
          </a:xfrm>
        </p:grpSpPr>
        <p:sp>
          <p:nvSpPr>
            <p:cNvPr id="339" name=""/>
            <p:cNvSpPr/>
            <p:nvPr/>
          </p:nvSpPr>
          <p:spPr>
            <a:xfrm>
              <a:off x="6917040" y="4254480"/>
              <a:ext cx="766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9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48760" y="4788000"/>
              <a:ext cx="115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Out-of-band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295280" y="3048120"/>
            <a:ext cx="6827760" cy="557640"/>
            <a:chOff x="1295280" y="3048120"/>
            <a:chExt cx="6827760" cy="557640"/>
          </a:xfrm>
        </p:grpSpPr>
        <p:sp>
          <p:nvSpPr>
            <p:cNvPr id="342" name=""/>
            <p:cNvSpPr/>
            <p:nvPr/>
          </p:nvSpPr>
          <p:spPr>
            <a:xfrm>
              <a:off x="1295280" y="3048120"/>
              <a:ext cx="5639040" cy="533160"/>
            </a:xfrm>
            <a:custGeom>
              <a:avLst/>
              <a:gdLst/>
              <a:ahLst/>
              <a:rect l="l" t="t" r="r" b="b"/>
              <a:pathLst>
                <a:path w="3552" h="336">
                  <a:moveTo>
                    <a:pt x="0" y="0"/>
                  </a:moveTo>
                  <a:cubicBezTo>
                    <a:pt x="176" y="120"/>
                    <a:pt x="352" y="240"/>
                    <a:pt x="768" y="288"/>
                  </a:cubicBezTo>
                  <a:cubicBezTo>
                    <a:pt x="1184" y="336"/>
                    <a:pt x="2032" y="336"/>
                    <a:pt x="2496" y="288"/>
                  </a:cubicBezTo>
                  <a:cubicBezTo>
                    <a:pt x="2960" y="240"/>
                    <a:pt x="3256" y="120"/>
                    <a:pt x="3552" y="0"/>
                  </a:cubicBezTo>
                </a:path>
              </a:pathLst>
            </a:custGeom>
            <a:noFill/>
            <a:ln w="12600">
              <a:solidFill>
                <a:srgbClr val="660066"/>
              </a:solidFill>
              <a:prstDash val="dash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98480" y="3206880"/>
              <a:ext cx="192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Tahoma"/>
                </a:rPr>
                <a:t>Expect </a:t>
              </a:r>
              <a:r>
                <a:rPr b="0" i="1" lang="en-US" sz="2000" spc="-1" strike="noStrike">
                  <a:solidFill>
                    <a:srgbClr val="660066"/>
                  </a:solidFill>
                  <a:latin typeface="Tahoma"/>
                </a:rPr>
                <a:t>N</a:t>
              </a:r>
              <a:r>
                <a:rPr b="0" lang="en-US" sz="2000" spc="-1" strike="noStrike">
                  <a:solidFill>
                    <a:srgbClr val="660066"/>
                  </a:solidFill>
                  <a:latin typeface="Tahoma"/>
                </a:rPr>
                <a:t> byte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371240" y="1897200"/>
            <a:ext cx="7893360" cy="617400"/>
            <a:chOff x="1371240" y="1897200"/>
            <a:chExt cx="7893360" cy="617400"/>
          </a:xfrm>
        </p:grpSpPr>
        <p:sp>
          <p:nvSpPr>
            <p:cNvPr id="345" name=""/>
            <p:cNvSpPr/>
            <p:nvPr/>
          </p:nvSpPr>
          <p:spPr>
            <a:xfrm rot="10800000">
              <a:off x="1371240" y="1980720"/>
              <a:ext cx="5638680" cy="533520"/>
            </a:xfrm>
            <a:custGeom>
              <a:avLst/>
              <a:gdLst/>
              <a:ahLst/>
              <a:rect l="l" t="t" r="r" b="b"/>
              <a:pathLst>
                <a:path w="3552" h="336">
                  <a:moveTo>
                    <a:pt x="0" y="0"/>
                  </a:moveTo>
                  <a:cubicBezTo>
                    <a:pt x="176" y="120"/>
                    <a:pt x="352" y="240"/>
                    <a:pt x="768" y="288"/>
                  </a:cubicBezTo>
                  <a:cubicBezTo>
                    <a:pt x="1184" y="336"/>
                    <a:pt x="2032" y="336"/>
                    <a:pt x="2496" y="288"/>
                  </a:cubicBezTo>
                  <a:cubicBezTo>
                    <a:pt x="2960" y="240"/>
                    <a:pt x="3256" y="120"/>
                    <a:pt x="3552" y="0"/>
                  </a:cubicBezTo>
                </a:path>
              </a:pathLst>
            </a:custGeom>
            <a:noFill/>
            <a:ln w="12600">
              <a:solidFill>
                <a:srgbClr val="660066"/>
              </a:solidFill>
              <a:prstDash val="dash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64360" y="1897200"/>
              <a:ext cx="30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Tahoma"/>
                </a:rPr>
                <a:t>Get first </a:t>
              </a:r>
              <a:r>
                <a:rPr b="0" i="1" lang="en-US" sz="2000" spc="-1" strike="noStrike">
                  <a:solidFill>
                    <a:srgbClr val="660066"/>
                  </a:solidFill>
                  <a:latin typeface="Tahoma"/>
                </a:rPr>
                <a:t>N</a:t>
              </a:r>
              <a:r>
                <a:rPr b="0" lang="en-US" sz="2000" spc="-1" strike="noStrike">
                  <a:solidFill>
                    <a:srgbClr val="660066"/>
                  </a:solidFill>
                  <a:latin typeface="Tahoma"/>
                </a:rPr>
                <a:t> bytes of data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40000" y="2119320"/>
            <a:ext cx="1601640" cy="703800"/>
            <a:chOff x="1440000" y="2119320"/>
            <a:chExt cx="1601640" cy="703800"/>
          </a:xfrm>
        </p:grpSpPr>
        <p:sp>
          <p:nvSpPr>
            <p:cNvPr id="348" name=""/>
            <p:cNvSpPr/>
            <p:nvPr/>
          </p:nvSpPr>
          <p:spPr>
            <a:xfrm rot="21524400">
              <a:off x="1600200" y="2590920"/>
              <a:ext cx="219240" cy="114120"/>
            </a:xfrm>
            <a:custGeom>
              <a:avLst/>
              <a:gdLst/>
              <a:ahLst/>
              <a:rect l="l" t="t" r="r" b="b"/>
              <a:pathLst>
                <a:path w="154" h="79">
                  <a:moveTo>
                    <a:pt x="0" y="0"/>
                  </a:moveTo>
                  <a:lnTo>
                    <a:pt x="113" y="2"/>
                  </a:lnTo>
                  <a:lnTo>
                    <a:pt x="154" y="39"/>
                  </a:lnTo>
                  <a:lnTo>
                    <a:pt x="113" y="79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40000" y="2119320"/>
              <a:ext cx="160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pkt (empty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705280" y="2895480"/>
            <a:ext cx="581400" cy="467280"/>
            <a:chOff x="5705280" y="2895480"/>
            <a:chExt cx="581400" cy="467280"/>
          </a:xfrm>
        </p:grpSpPr>
        <p:sp>
          <p:nvSpPr>
            <p:cNvPr id="351" name=""/>
            <p:cNvSpPr/>
            <p:nvPr/>
          </p:nvSpPr>
          <p:spPr>
            <a:xfrm rot="10800000">
              <a:off x="5866920" y="2895480"/>
              <a:ext cx="219240" cy="114480"/>
            </a:xfrm>
            <a:custGeom>
              <a:avLst/>
              <a:gdLst/>
              <a:ahLst/>
              <a:rect l="l" t="t" r="r" b="b"/>
              <a:pathLst>
                <a:path w="154" h="79">
                  <a:moveTo>
                    <a:pt x="0" y="0"/>
                  </a:moveTo>
                  <a:lnTo>
                    <a:pt x="113" y="2"/>
                  </a:lnTo>
                  <a:lnTo>
                    <a:pt x="154" y="39"/>
                  </a:lnTo>
                  <a:lnTo>
                    <a:pt x="113" y="79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f7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05280" y="296388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ack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 rot="10800000">
            <a:off x="4419720" y="2895480"/>
            <a:ext cx="218880" cy="11448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6f89f7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10800000">
            <a:off x="2971440" y="2895480"/>
            <a:ext cx="219240" cy="11448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6f89f7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1676520" y="2895480"/>
            <a:ext cx="218880" cy="11448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6f89f7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A69-A866-4D1C-8D0D-B8D8E2202A1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/TcpAp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ep 1: FullTcp connec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1 [new Agent/TCP/Full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2 [new Agent/TCP/Full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attach-agent $n1 $tcp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attach-agent $n2 $tcp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connect $tcp1 $tcp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tcp2 list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6CA4-D54E-49DB-9F8A-2119653BC4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Primer – Wired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sic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chitec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asic Tcl,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ements of 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A complete 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Multicast rou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012F-C68E-4CC5-82C3-06EB3E2F2B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/TcpAp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ep 2: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reliable, in-orde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user data transf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et app1 [new Application/TcpApp $tcp1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et app2 [new Application/TcpApp $tcp2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app1 connect $app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&lt;ns-2 command&gt;: will be executed when received at the receiver TcpAp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at 1.0 “$app1 send &lt;data_byte&gt; \”&lt;ns-2 command&gt;\”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B839-D413-4EDA-A6FE-05D65F7F82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3732120"/>
            <a:ext cx="77724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UDP agent (without UDP heade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p to 64 bytes user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ood for fast prototyping a simple ide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age requires extending ns functional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e’ll give an example tomorrow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777960" y="2590920"/>
            <a:ext cx="53316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73840" y="2590920"/>
            <a:ext cx="53352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11120" y="2819520"/>
            <a:ext cx="55627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1524400">
            <a:off x="313992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21524400">
            <a:off x="4892760" y="2590920"/>
            <a:ext cx="21888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21524400">
            <a:off x="634032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1524400">
            <a:off x="153972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05080" y="1568520"/>
            <a:ext cx="186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kt: 64 byt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f arbitrary string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21640" y="1770120"/>
            <a:ext cx="186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ceiver-si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cess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6D1-DDCA-4FDC-A992-75D29A0BEB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mmary: Generic Script Structur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[Turn on tracing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topolog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Setup packet loss, link dynamic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routing age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  - multicast grou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  - protocol age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  - application and/or setup traffic sourc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Post-processing proc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Start simul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DA6A-B0A3-419F-B9E5-510947A2DAB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Primer – Wired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Basic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complete 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lticast rou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68A-576C-47D8-A215-C6C32AD4CF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996120" y="3378240"/>
            <a:ext cx="2090520" cy="825480"/>
            <a:chOff x="996120" y="3378240"/>
            <a:chExt cx="2090520" cy="825480"/>
          </a:xfrm>
        </p:grpSpPr>
        <p:sp>
          <p:nvSpPr>
            <p:cNvPr id="376" name=""/>
            <p:cNvSpPr/>
            <p:nvPr/>
          </p:nvSpPr>
          <p:spPr>
            <a:xfrm flipH="1">
              <a:off x="1834560" y="3535200"/>
              <a:ext cx="538200" cy="53820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G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77" name=""/>
            <p:cNvCxnSpPr>
              <a:stCxn id="376" idx="2"/>
              <a:endCxn id="378" idx="6"/>
            </p:cNvCxnSpPr>
            <p:nvPr/>
          </p:nvCxnSpPr>
          <p:spPr>
            <a:xfrm>
              <a:off x="2374920" y="3803760"/>
              <a:ext cx="712080" cy="2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379" name=""/>
            <p:cNvSpPr/>
            <p:nvPr/>
          </p:nvSpPr>
          <p:spPr>
            <a:xfrm>
              <a:off x="996120" y="3378240"/>
              <a:ext cx="82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im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1.3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994680" y="3378240"/>
            <a:ext cx="2089080" cy="825480"/>
            <a:chOff x="994680" y="3378240"/>
            <a:chExt cx="2089080" cy="825480"/>
          </a:xfrm>
        </p:grpSpPr>
        <p:grpSp>
          <p:nvGrpSpPr>
            <p:cNvPr id="381" name=""/>
            <p:cNvGrpSpPr/>
            <p:nvPr/>
          </p:nvGrpSpPr>
          <p:grpSpPr>
            <a:xfrm>
              <a:off x="1833480" y="3535200"/>
              <a:ext cx="1250280" cy="538200"/>
              <a:chOff x="1833480" y="3535200"/>
              <a:chExt cx="1250280" cy="538200"/>
            </a:xfrm>
          </p:grpSpPr>
          <p:sp>
            <p:nvSpPr>
              <p:cNvPr id="382" name=""/>
              <p:cNvSpPr/>
              <p:nvPr/>
            </p:nvSpPr>
            <p:spPr>
              <a:xfrm flipH="1">
                <a:off x="1833480" y="3535200"/>
                <a:ext cx="537840" cy="5382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G2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83" name=""/>
              <p:cNvCxnSpPr>
                <a:stCxn id="382" idx="2"/>
                <a:endCxn id="384" idx="6"/>
              </p:cNvCxnSpPr>
              <p:nvPr/>
            </p:nvCxnSpPr>
            <p:spPr>
              <a:xfrm>
                <a:off x="2372400" y="3803400"/>
                <a:ext cx="71172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  <p:sp>
          <p:nvSpPr>
            <p:cNvPr id="385" name=""/>
            <p:cNvSpPr/>
            <p:nvPr/>
          </p:nvSpPr>
          <p:spPr>
            <a:xfrm>
              <a:off x="994680" y="3378240"/>
              <a:ext cx="82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im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1.2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005480" y="3382920"/>
            <a:ext cx="2070720" cy="825480"/>
            <a:chOff x="1005480" y="3382920"/>
            <a:chExt cx="2070720" cy="825480"/>
          </a:xfrm>
        </p:grpSpPr>
        <p:sp>
          <p:nvSpPr>
            <p:cNvPr id="387" name=""/>
            <p:cNvSpPr/>
            <p:nvPr/>
          </p:nvSpPr>
          <p:spPr>
            <a:xfrm flipH="1">
              <a:off x="1825560" y="3539880"/>
              <a:ext cx="537840" cy="53820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G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G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2"/>
            </p:cNvCxnSpPr>
            <p:nvPr/>
          </p:nvCxnSpPr>
          <p:spPr>
            <a:xfrm>
              <a:off x="2364840" y="3808440"/>
              <a:ext cx="711720" cy="2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389" name=""/>
            <p:cNvSpPr/>
            <p:nvPr/>
          </p:nvSpPr>
          <p:spPr>
            <a:xfrm>
              <a:off x="1005480" y="3382920"/>
              <a:ext cx="93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im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1.35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ample: Multicast Rou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ynamic group membership under Dense M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339440" y="43560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130080" y="43578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3083760" y="35352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083760" y="52722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94" name=""/>
          <p:cNvCxnSpPr>
            <a:stCxn id="392" idx="2"/>
            <a:endCxn id="393" idx="6"/>
          </p:cNvCxnSpPr>
          <p:nvPr/>
        </p:nvCxnSpPr>
        <p:spPr>
          <a:xfrm>
            <a:off x="4879800" y="4624560"/>
            <a:ext cx="125352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5" name=""/>
          <p:cNvCxnSpPr>
            <a:stCxn id="392" idx="6"/>
            <a:endCxn id="384" idx="3"/>
          </p:cNvCxnSpPr>
          <p:nvPr/>
        </p:nvCxnSpPr>
        <p:spPr>
          <a:xfrm flipH="1" flipV="1">
            <a:off x="3544560" y="3993480"/>
            <a:ext cx="797760" cy="6310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6" name=""/>
          <p:cNvCxnSpPr>
            <a:stCxn id="392" idx="6"/>
            <a:endCxn id="378" idx="1"/>
          </p:cNvCxnSpPr>
          <p:nvPr/>
        </p:nvCxnSpPr>
        <p:spPr>
          <a:xfrm flipH="1">
            <a:off x="3544560" y="4624200"/>
            <a:ext cx="797760" cy="7261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97" name=""/>
          <p:cNvSpPr/>
          <p:nvPr/>
        </p:nvSpPr>
        <p:spPr>
          <a:xfrm flipH="1">
            <a:off x="4803120" y="424008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.5Mb, 1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728160" y="499896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.5Mb, 1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325640" y="4357800"/>
            <a:ext cx="538200" cy="538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9" idx="6"/>
            <a:endCxn id="393" idx="2"/>
          </p:cNvCxnSpPr>
          <p:nvPr/>
        </p:nvCxnSpPr>
        <p:spPr>
          <a:xfrm flipH="1">
            <a:off x="6670080" y="4625640"/>
            <a:ext cx="657720" cy="10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01" name=""/>
          <p:cNvSpPr/>
          <p:nvPr/>
        </p:nvSpPr>
        <p:spPr>
          <a:xfrm>
            <a:off x="1056600" y="4251240"/>
            <a:ext cx="9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25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828080" y="5270400"/>
            <a:ext cx="538200" cy="538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2"/>
            <a:endCxn id="378" idx="6"/>
          </p:cNvCxnSpPr>
          <p:nvPr/>
        </p:nvCxnSpPr>
        <p:spPr>
          <a:xfrm>
            <a:off x="2368440" y="5538960"/>
            <a:ext cx="71856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 flipH="1">
            <a:off x="3701160" y="393372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.5Mb, 1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0DAA-90E0-4543-B5CD-B85EC2DD7EA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heduler, tracing, and 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schedul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Turn on multica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multica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Turn on Trac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fd [new “mcast.nam” w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namtrace-all $f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20E-15CE-4A43-93F4-046004E464C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Create nod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0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1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2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3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Create link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0 $n1 1.5Mb 10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0 $n2 1.5Mb 10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0 $n3 1.5Mb 10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7A6-1988-42E0-8BDE-5D25FD06EEB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uting and group set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Routing protocol: let’s run distance vec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mrtproto D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Allocate group addres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group1 [Node allocadd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group2 [Node allocadd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FC69-AB14-439D-8673-3ADA99FD303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nder 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Transport agent for the traffic sour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[new Agent/UDP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tach-agent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n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et dst_addr_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group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et dst_port_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Constant Bit Rate source #0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[new Application/Traffic/CBR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attach-agent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Start at time 1.0 seco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1.0 "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tart"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6DB-C786-4AD0-BF5E-1D66C081262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nder 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Transport agent for the traffic sour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[new Agent/UDP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tach-agent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n3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et dst_addr_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group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et dst_port_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Constant Bit Rate source #0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[new Application/Traffic/CBR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attach-agent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Start at time 1.1 seco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1.1 "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tart"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745-0A8A-47EB-9C2F-5E6935F2166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Architec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bject-oriented (C++, OTc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alability + Exte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trol/”data” separ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lit C++/OTcl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dular approac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ne-grained object composi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773-F552-43CA-A146-AA847ADD93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6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ceiver with dynamic membershi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an also be Agent/Nul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rcvr [new Agent/LossMoni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Assign it to node $n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1.2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"$n2 join-group $rcvr 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group2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1.25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"$n2 leave-group $rcvr 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group2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1.3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"$n2 join-group $rcvr 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group2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1.35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"$n2 join-group $rcvr 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group1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E665-94E5-4B9C-A013-BCDBF3AD0D4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7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d-of-simulation wrapper (as usua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2.0 "finish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roc finish {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global ns f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ose $f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flush-tr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ts "running nam...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exec nam out.nam &amp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exit 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9" name="">
            <a:hlinkClick r:id="rId2"/>
          </p:cNvPr>
          <p:cNvSpPr/>
          <p:nvPr/>
        </p:nvSpPr>
        <p:spPr>
          <a:xfrm>
            <a:off x="8169120" y="5881680"/>
            <a:ext cx="741600" cy="469800"/>
          </a:xfrm>
          <a:custGeom>
            <a:avLst/>
            <a:gdLst>
              <a:gd name="textAreaLeft" fmla="*/ 30240 w 741600"/>
              <a:gd name="textAreaRight" fmla="*/ 711360 w 741600"/>
              <a:gd name="textAreaTop" fmla="*/ 30240 h 469800"/>
              <a:gd name="textAreaBottom" fmla="*/ 439560 h 469800"/>
            </a:gdLst>
            <a:ahLst/>
            <a:rect l="textAreaLeft" t="textAreaTop" r="textAreaRight" b="textAreaBottom"/>
            <a:pathLst>
              <a:path w="34087" h="21600">
                <a:moveTo>
                  <a:pt x="0" y="0"/>
                </a:moveTo>
                <a:lnTo>
                  <a:pt x="34087" y="0"/>
                </a:lnTo>
                <a:lnTo>
                  <a:pt x="34087" y="21600"/>
                </a:lnTo>
                <a:lnTo>
                  <a:pt x="0" y="21600"/>
                </a:lnTo>
                <a:close/>
              </a:path>
              <a:path fill="lightenLess" w="34087" h="21600">
                <a:moveTo>
                  <a:pt x="0" y="0"/>
                </a:moveTo>
                <a:lnTo>
                  <a:pt x="34087" y="0"/>
                </a:lnTo>
                <a:lnTo>
                  <a:pt x="32687" y="1400"/>
                </a:lnTo>
                <a:lnTo>
                  <a:pt x="1400" y="1400"/>
                </a:lnTo>
                <a:close/>
              </a:path>
              <a:path fill="darken" w="34087" h="21600">
                <a:moveTo>
                  <a:pt x="34087" y="0"/>
                </a:moveTo>
                <a:lnTo>
                  <a:pt x="34087" y="21600"/>
                </a:lnTo>
                <a:lnTo>
                  <a:pt x="32687" y="20200"/>
                </a:lnTo>
                <a:lnTo>
                  <a:pt x="32687" y="1400"/>
                </a:lnTo>
                <a:close/>
              </a:path>
              <a:path fill="darkenLess" w="34087" h="21600">
                <a:moveTo>
                  <a:pt x="340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87" y="20200"/>
                </a:lnTo>
                <a:close/>
              </a:path>
              <a:path fill="lighten" w="340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87" h="21600">
                <a:moveTo>
                  <a:pt x="10037" y="7301"/>
                </a:moveTo>
                <a:lnTo>
                  <a:pt x="10951" y="7301"/>
                </a:lnTo>
                <a:lnTo>
                  <a:pt x="11334" y="7667"/>
                </a:lnTo>
                <a:lnTo>
                  <a:pt x="20542" y="7667"/>
                </a:lnTo>
                <a:lnTo>
                  <a:pt x="21099" y="8224"/>
                </a:lnTo>
                <a:lnTo>
                  <a:pt x="21099" y="8772"/>
                </a:lnTo>
                <a:lnTo>
                  <a:pt x="22945" y="8772"/>
                </a:lnTo>
                <a:lnTo>
                  <a:pt x="23310" y="8224"/>
                </a:lnTo>
                <a:lnTo>
                  <a:pt x="24050" y="8224"/>
                </a:lnTo>
                <a:lnTo>
                  <a:pt x="24050" y="13376"/>
                </a:lnTo>
                <a:lnTo>
                  <a:pt x="23310" y="13376"/>
                </a:lnTo>
                <a:lnTo>
                  <a:pt x="22945" y="12828"/>
                </a:lnTo>
                <a:lnTo>
                  <a:pt x="21099" y="12828"/>
                </a:lnTo>
                <a:lnTo>
                  <a:pt x="21099" y="14107"/>
                </a:lnTo>
                <a:lnTo>
                  <a:pt x="11517" y="14107"/>
                </a:lnTo>
                <a:lnTo>
                  <a:pt x="11517" y="9877"/>
                </a:lnTo>
                <a:lnTo>
                  <a:pt x="11334" y="9877"/>
                </a:lnTo>
                <a:lnTo>
                  <a:pt x="10951" y="10243"/>
                </a:lnTo>
                <a:lnTo>
                  <a:pt x="10037" y="10243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B443-F96F-45E8-82B2-EFC88A6EF1A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her 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vailable in the Lab this afterno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traffic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ulticast 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Queue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4FC-D3AB-4B96-AE23-463A35AADF9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Primer – Wired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Basic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Two examp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TCP, multicast rou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BA52-9D7A-45E5-B207-003D05AF039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Visualization Too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nam-1 (Network AniMator Version 1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Packet-level anim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Well supported by 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xgrap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Conversion from ns trace to xgraph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232-E900-4B65-B86F-76BF9C70127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sic 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pology layou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imation contr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nchronous repla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ne-tune lay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P/SRM 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ditor: generate ns simulation scrip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">
            <a:hlinkClick r:id="rId5"/>
          </p:cNvPr>
          <p:cNvSpPr/>
          <p:nvPr/>
        </p:nvSpPr>
        <p:spPr>
          <a:xfrm>
            <a:off x="7942320" y="5676840"/>
            <a:ext cx="765000" cy="451080"/>
          </a:xfrm>
          <a:custGeom>
            <a:avLst/>
            <a:gdLst>
              <a:gd name="textAreaLeft" fmla="*/ 29160 w 765000"/>
              <a:gd name="textAreaRight" fmla="*/ 735840 w 765000"/>
              <a:gd name="textAreaTop" fmla="*/ 29160 h 451080"/>
              <a:gd name="textAreaBottom" fmla="*/ 421920 h 451080"/>
            </a:gdLst>
            <a:ahLst/>
            <a:rect l="textAreaLeft" t="textAreaTop" r="textAreaRight" b="textAreaBottom"/>
            <a:pathLst>
              <a:path w="36620" h="21600">
                <a:moveTo>
                  <a:pt x="0" y="0"/>
                </a:moveTo>
                <a:lnTo>
                  <a:pt x="36620" y="0"/>
                </a:lnTo>
                <a:lnTo>
                  <a:pt x="36620" y="21600"/>
                </a:lnTo>
                <a:lnTo>
                  <a:pt x="0" y="21600"/>
                </a:lnTo>
                <a:close/>
              </a:path>
              <a:path fill="lightenLess" w="36620" h="21600">
                <a:moveTo>
                  <a:pt x="0" y="0"/>
                </a:moveTo>
                <a:lnTo>
                  <a:pt x="36620" y="0"/>
                </a:lnTo>
                <a:lnTo>
                  <a:pt x="35220" y="1400"/>
                </a:lnTo>
                <a:lnTo>
                  <a:pt x="1400" y="1400"/>
                </a:lnTo>
                <a:close/>
              </a:path>
              <a:path fill="darken" w="36620" h="21600">
                <a:moveTo>
                  <a:pt x="36620" y="0"/>
                </a:moveTo>
                <a:lnTo>
                  <a:pt x="36620" y="21600"/>
                </a:lnTo>
                <a:lnTo>
                  <a:pt x="35220" y="20200"/>
                </a:lnTo>
                <a:lnTo>
                  <a:pt x="35220" y="1400"/>
                </a:lnTo>
                <a:close/>
              </a:path>
              <a:path fill="darkenLess" w="36620" h="21600">
                <a:moveTo>
                  <a:pt x="36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20" y="20200"/>
                </a:lnTo>
                <a:close/>
              </a:path>
              <a:path fill="lighten" w="36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20" h="21600">
                <a:moveTo>
                  <a:pt x="11304" y="7301"/>
                </a:moveTo>
                <a:lnTo>
                  <a:pt x="12217" y="7301"/>
                </a:lnTo>
                <a:lnTo>
                  <a:pt x="12600" y="7667"/>
                </a:lnTo>
                <a:lnTo>
                  <a:pt x="21809" y="7667"/>
                </a:lnTo>
                <a:lnTo>
                  <a:pt x="22366" y="8224"/>
                </a:lnTo>
                <a:lnTo>
                  <a:pt x="22366" y="8772"/>
                </a:lnTo>
                <a:lnTo>
                  <a:pt x="24211" y="8772"/>
                </a:lnTo>
                <a:lnTo>
                  <a:pt x="24577" y="8224"/>
                </a:lnTo>
                <a:lnTo>
                  <a:pt x="25317" y="8224"/>
                </a:lnTo>
                <a:lnTo>
                  <a:pt x="25317" y="13376"/>
                </a:lnTo>
                <a:lnTo>
                  <a:pt x="24577" y="13376"/>
                </a:lnTo>
                <a:lnTo>
                  <a:pt x="24211" y="12828"/>
                </a:lnTo>
                <a:lnTo>
                  <a:pt x="22366" y="12828"/>
                </a:lnTo>
                <a:lnTo>
                  <a:pt x="22366" y="14107"/>
                </a:lnTo>
                <a:lnTo>
                  <a:pt x="12783" y="14107"/>
                </a:lnTo>
                <a:lnTo>
                  <a:pt x="12783" y="9877"/>
                </a:lnTo>
                <a:lnTo>
                  <a:pt x="12600" y="9877"/>
                </a:lnTo>
                <a:lnTo>
                  <a:pt x="12217" y="10243"/>
                </a:lnTo>
                <a:lnTo>
                  <a:pt x="11304" y="10243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B1CA-0098-4B99-966F-5AEA896B597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</a:t>
            </a:r>
            <a:r>
              <a:rPr b="0" lang="en-US" sz="44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 manipul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 manipul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pology lay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tocol sta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s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FB8E-9A17-4456-9230-2A8823D01EE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Co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or mapp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40 r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41 blu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42 chocola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or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flow id associ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tcp0 set fid_ 40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;# red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tcp1 set fid_ 41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;# blue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A5B-6715-4DB3-80E2-A9682F6107D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No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l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ode color re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hape (can’t be changed after sim start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ode shape box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;# circle, box, hexag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rks (concentric “shapes”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1.0 “$n0 add-mark m0 blue box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2.0 “$n0 delete-mark m0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bel (single string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1.1 “$n0 label \”web cache 0\”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D2EE-870F-49D0-B188-EDA2597EC8A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s: 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1 color "green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b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1 label "abced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ynamics (automatically handled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rtmodel Deterministic {2.0 0.9 0.1} $n0 $n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ymmetric links not allow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6C68-48CF-415C-BDE0-3AA0079183C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ct-Orient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usa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formance (speed and memor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reful planning of modular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193-CC9E-41C8-9D14-1577FEDD32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Topo 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Manual” layout: specify everything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(0) $n(1) orient righ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(1) $n(2) orient righ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(2) $n(3) orient righ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(3) $n(4) orient 60de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f anything missing </a:t>
            </a:r>
            <a:r>
              <a:rPr b="0" lang="en-US" sz="3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automatic layou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E70-5EF1-49B0-8EDF-CAFCBD134B3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Protocol Sta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nitor values of agent varia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add-agent-trace $srm0 srm_agent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monitor-agent-trace $srm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srm0 tracevar C1_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srm0 tracevar C2_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… 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delete-agent-trace $tcp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FE7-80A2-4E4B-BE44-11CDF569AFA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Mis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4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no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 textual explaination to your si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3.5 "$ns trace-annotate \“packet drop\"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t animation ra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0.0 "$ns set-animation-rate 0.1ms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2FD-F62D-4809-9C30-6564FFD8EDA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6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ulticast Example: nam-Enhanced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colo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 col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 lab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 lab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no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nual lay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Queue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92DF-AE3A-4BCB-A037-23E40CABC64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1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0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nam col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Colors for packets from two mcast grou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10 blu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11 r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Prune packets (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predefined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30 purp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Graft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31 gre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E1EB-7C1A-43D8-AB13-51B04929DB7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2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yout 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Manual layout: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order of the link is significan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1 orient righ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2 orient right-u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3 orient right-dow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Show queue on simplex link n0-&gt;n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1 queuePos 0.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CE9-D966-4527-A692-E3D6C0F3D89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4.1, 5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rce color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Group 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udp0 set fid_ 1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1 color blu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1 label “Source for group 0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Group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udp1 set fid_ 1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3 color r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3 label “Source for group 1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3B4-9F8D-4564-9CE2-595E327FBA9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6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ceiver colo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label “Receiver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2 "$n2 join-group $rcvr $group2; \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add-mark m0 red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25 "$n2 leave-group $rcvr  $group2; \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delete-mark m0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3 "$n2 join-group $rcvr \ $group2; \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add-mark m1 red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35 "$n2 join-group $rcvr $group1; \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add-mark m2 blue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ECA-78F5-4590-B074-2D98FE6E40A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7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ne final twea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Animation was too fast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set-animation-rate 0.8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">
            <a:hlinkClick r:id="rId2"/>
          </p:cNvPr>
          <p:cNvSpPr/>
          <p:nvPr/>
        </p:nvSpPr>
        <p:spPr>
          <a:xfrm>
            <a:off x="8078760" y="5800680"/>
            <a:ext cx="831960" cy="519120"/>
          </a:xfrm>
          <a:custGeom>
            <a:avLst/>
            <a:gdLst>
              <a:gd name="textAreaLeft" fmla="*/ 33480 w 831960"/>
              <a:gd name="textAreaRight" fmla="*/ 798480 w 831960"/>
              <a:gd name="textAreaTop" fmla="*/ 33480 h 519120"/>
              <a:gd name="textAreaBottom" fmla="*/ 485640 h 519120"/>
            </a:gdLst>
            <a:ahLst/>
            <a:rect l="textAreaLeft" t="textAreaTop" r="textAreaRight" b="textAreaBottom"/>
            <a:pathLst>
              <a:path w="34608" h="21600">
                <a:moveTo>
                  <a:pt x="0" y="0"/>
                </a:moveTo>
                <a:lnTo>
                  <a:pt x="34608" y="0"/>
                </a:lnTo>
                <a:lnTo>
                  <a:pt x="34608" y="21600"/>
                </a:lnTo>
                <a:lnTo>
                  <a:pt x="0" y="21600"/>
                </a:lnTo>
                <a:close/>
              </a:path>
              <a:path fill="lightenLess" w="34608" h="21600">
                <a:moveTo>
                  <a:pt x="0" y="0"/>
                </a:moveTo>
                <a:lnTo>
                  <a:pt x="34608" y="0"/>
                </a:lnTo>
                <a:lnTo>
                  <a:pt x="33208" y="1400"/>
                </a:lnTo>
                <a:lnTo>
                  <a:pt x="1400" y="1400"/>
                </a:lnTo>
                <a:close/>
              </a:path>
              <a:path fill="darken" w="34608" h="21600">
                <a:moveTo>
                  <a:pt x="34608" y="0"/>
                </a:moveTo>
                <a:lnTo>
                  <a:pt x="34608" y="21600"/>
                </a:lnTo>
                <a:lnTo>
                  <a:pt x="33208" y="20200"/>
                </a:lnTo>
                <a:lnTo>
                  <a:pt x="33208" y="1400"/>
                </a:lnTo>
                <a:close/>
              </a:path>
              <a:path fill="darkenLess" w="34608" h="21600">
                <a:moveTo>
                  <a:pt x="34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08" y="20200"/>
                </a:lnTo>
                <a:close/>
              </a:path>
              <a:path fill="lighten" w="34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08" h="21600">
                <a:moveTo>
                  <a:pt x="10297" y="7301"/>
                </a:moveTo>
                <a:lnTo>
                  <a:pt x="11211" y="7301"/>
                </a:lnTo>
                <a:lnTo>
                  <a:pt x="11594" y="7667"/>
                </a:lnTo>
                <a:lnTo>
                  <a:pt x="20803" y="7667"/>
                </a:lnTo>
                <a:lnTo>
                  <a:pt x="21360" y="8224"/>
                </a:lnTo>
                <a:lnTo>
                  <a:pt x="21360" y="8772"/>
                </a:lnTo>
                <a:lnTo>
                  <a:pt x="23205" y="8772"/>
                </a:lnTo>
                <a:lnTo>
                  <a:pt x="23571" y="8224"/>
                </a:lnTo>
                <a:lnTo>
                  <a:pt x="24310" y="8224"/>
                </a:lnTo>
                <a:lnTo>
                  <a:pt x="24310" y="13376"/>
                </a:lnTo>
                <a:lnTo>
                  <a:pt x="23571" y="13376"/>
                </a:lnTo>
                <a:lnTo>
                  <a:pt x="23205" y="12828"/>
                </a:lnTo>
                <a:lnTo>
                  <a:pt x="21360" y="12828"/>
                </a:lnTo>
                <a:lnTo>
                  <a:pt x="21360" y="14107"/>
                </a:lnTo>
                <a:lnTo>
                  <a:pt x="11777" y="14107"/>
                </a:lnTo>
                <a:lnTo>
                  <a:pt x="11777" y="9877"/>
                </a:lnTo>
                <a:lnTo>
                  <a:pt x="11594" y="9877"/>
                </a:lnTo>
                <a:lnTo>
                  <a:pt x="11211" y="10243"/>
                </a:lnTo>
                <a:lnTo>
                  <a:pt x="10297" y="10243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286B-48C0-41D4-A298-4EC309A5113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++ and OTcl Separ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++ for “data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 packet a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cl for contr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iodic or triggered a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romise between composibility and spe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ing and debugg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418-F3C3-4FEE-9CBC-05B7780D5F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cl and C++: The Dua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1106640" y="1843200"/>
            <a:ext cx="323676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88960" y="255744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17560" y="225252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22480" y="255744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717560" y="24051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2480" y="24051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81440" y="38289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5284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6232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67240" y="44388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57400" y="443880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804760" y="39816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86000" y="398160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1856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672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843200"/>
            <a:ext cx="362592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89680" y="248904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18280" y="21844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23200" y="248904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7118280" y="23367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23200" y="23367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38840" y="30672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1024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1972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24640" y="36766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14800" y="36766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62160" y="321948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43400" y="321948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2430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246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48840" y="528336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14480" y="52880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67240" y="3092400"/>
            <a:ext cx="167616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104" y="408"/>
                  <a:pt x="208" y="160"/>
                  <a:pt x="384" y="80"/>
                </a:cubicBezTo>
                <a:cubicBezTo>
                  <a:pt x="560" y="0"/>
                  <a:pt x="944" y="160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62320" y="3905280"/>
            <a:ext cx="2158920" cy="1028520"/>
          </a:xfrm>
          <a:custGeom>
            <a:avLst/>
            <a:gdLst/>
            <a:ahLst/>
            <a:rect l="l" t="t" r="r" b="b"/>
            <a:pathLst>
              <a:path w="1360" h="648">
                <a:moveTo>
                  <a:pt x="0" y="432"/>
                </a:moveTo>
                <a:cubicBezTo>
                  <a:pt x="472" y="540"/>
                  <a:pt x="944" y="648"/>
                  <a:pt x="1152" y="576"/>
                </a:cubicBezTo>
                <a:cubicBezTo>
                  <a:pt x="1360" y="504"/>
                  <a:pt x="1232" y="96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71800" y="3905280"/>
            <a:ext cx="2082960" cy="1028520"/>
          </a:xfrm>
          <a:custGeom>
            <a:avLst/>
            <a:gdLst/>
            <a:ahLst/>
            <a:rect l="l" t="t" r="r" b="b"/>
            <a:pathLst>
              <a:path w="1312" h="648">
                <a:moveTo>
                  <a:pt x="0" y="432"/>
                </a:moveTo>
                <a:cubicBezTo>
                  <a:pt x="448" y="540"/>
                  <a:pt x="896" y="648"/>
                  <a:pt x="1104" y="576"/>
                </a:cubicBezTo>
                <a:cubicBezTo>
                  <a:pt x="1312" y="504"/>
                  <a:pt x="1280" y="252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28800" y="3016080"/>
            <a:ext cx="1905120" cy="1117800"/>
          </a:xfrm>
          <a:custGeom>
            <a:avLst/>
            <a:gdLst/>
            <a:ahLst/>
            <a:rect l="l" t="t" r="r" b="b"/>
            <a:pathLst>
              <a:path w="1200" h="704">
                <a:moveTo>
                  <a:pt x="0" y="704"/>
                </a:moveTo>
                <a:cubicBezTo>
                  <a:pt x="68" y="432"/>
                  <a:pt x="136" y="160"/>
                  <a:pt x="336" y="80"/>
                </a:cubicBezTo>
                <a:cubicBezTo>
                  <a:pt x="536" y="0"/>
                  <a:pt x="868" y="112"/>
                  <a:pt x="1200" y="224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86000" y="2787480"/>
            <a:ext cx="167652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80" y="408"/>
                  <a:pt x="160" y="160"/>
                  <a:pt x="336" y="80"/>
                </a:cubicBezTo>
                <a:cubicBezTo>
                  <a:pt x="512" y="0"/>
                  <a:pt x="784" y="88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03640" y="2765520"/>
            <a:ext cx="115164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C+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37040" y="2725560"/>
            <a:ext cx="121860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OTc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68800" y="4998960"/>
            <a:ext cx="246852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/OTcl split 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654200"/>
            <a:ext cx="7504200" cy="4692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11640" y="5904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CCF-B001-4DD2-944B-A3370E2005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tending Tcl Interpret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715760"/>
            <a:ext cx="4289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cl: object-oriented 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CL: C++ and OTcl link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crete event schedu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a network compon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 layer and u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mulation suppo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5159520" y="4441680"/>
            <a:ext cx="1066680" cy="6858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159520" y="3908520"/>
            <a:ext cx="1523880" cy="1218960"/>
            <a:chOff x="5159520" y="3908520"/>
            <a:chExt cx="1523880" cy="1218960"/>
          </a:xfrm>
        </p:grpSpPr>
        <p:sp>
          <p:nvSpPr>
            <p:cNvPr id="279" name=""/>
            <p:cNvSpPr/>
            <p:nvPr/>
          </p:nvSpPr>
          <p:spPr>
            <a:xfrm>
              <a:off x="5159520" y="3908520"/>
              <a:ext cx="1523880" cy="12189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57120" y="3976560"/>
              <a:ext cx="81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OTc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157720" y="3375000"/>
            <a:ext cx="2447640" cy="1752480"/>
            <a:chOff x="5157720" y="3375000"/>
            <a:chExt cx="2447640" cy="1752480"/>
          </a:xfrm>
        </p:grpSpPr>
        <p:sp>
          <p:nvSpPr>
            <p:cNvPr id="282" name=""/>
            <p:cNvSpPr/>
            <p:nvPr/>
          </p:nvSpPr>
          <p:spPr>
            <a:xfrm>
              <a:off x="5157720" y="3375000"/>
              <a:ext cx="2447640" cy="17524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360" y="3443400"/>
              <a:ext cx="9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clC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119920" y="575136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159520" y="2460600"/>
            <a:ext cx="3568680" cy="2666880"/>
            <a:chOff x="5159520" y="2460600"/>
            <a:chExt cx="3568680" cy="2666880"/>
          </a:xfrm>
        </p:grpSpPr>
        <p:sp>
          <p:nvSpPr>
            <p:cNvPr id="286" name=""/>
            <p:cNvSpPr/>
            <p:nvPr/>
          </p:nvSpPr>
          <p:spPr>
            <a:xfrm rot="5400000">
              <a:off x="7292520" y="3791880"/>
              <a:ext cx="161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vent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Schedul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59520" y="2460600"/>
              <a:ext cx="3568680" cy="2666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02520" y="2503440"/>
              <a:ext cx="202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etwork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Component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159520" y="5130720"/>
            <a:ext cx="3568680" cy="5558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33560" y="51768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/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78F2-219D-4655-B010-8A42BA88E8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ello World - Interactive M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wallow 71%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% set ns [new Simulator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_o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% $ns at 1 “puts \“Hello World!\”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% $ns at 1.5 “exit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% $ns ru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Hello World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wallow 72%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D647-9B29-4B83-AFCB-DA0DC6EDDE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6-28T23:36:37Z</dcterms:modified>
  <cp:revision>698</cp:revision>
  <dc:subject/>
  <dc:title>ns-2 tutorial for IEC'00 workshop</dc:title>
</cp:coreProperties>
</file>