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7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8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9"/>
          </p:nvPr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B3B5FB2-2B4B-46DE-B9CD-4EB32269944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son to use tap agents: incompatible ns/IP addr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eal network: encaps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real network: decaps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simplification: we do not show how ARP cache is done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Mb, 10ms li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95 TC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y line: advertised wind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line: highest 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7351-AB6D-41D6-9F09-A520FA6FC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F202-4273-4A2D-A442-A9DF0E27D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78B0-9133-439C-9524-1EB00011B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9814-16DE-4658-ADF6-D736598FE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1EC39-E8F8-49F3-9A1A-0E93C6AFA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214A6-CB26-4411-B5A9-846E4EFFD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8D34D-66C1-4523-B593-5F0524FD6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DC1ED-136C-4C2B-A483-9A7FB59FE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4986D-E445-4D43-9163-22987878B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64E86-4E6A-4124-BC0A-D9FD62056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8D2DC-743B-4FCA-A41F-F03E2893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EFC0-CA50-4BAE-B930-8CE87110E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79FF8-98D9-42E1-BB40-161CB5DE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D3091-390A-4746-ACC2-E61D2DCF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E8257-41DF-4735-A6FB-6099A3714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C5902-CB53-4444-B284-FA9FAEEB8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FB348-2530-43F9-B3E3-62148912B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EF2D-764F-48C6-940C-821EBC28F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C66D-EAAD-4B2E-8EC2-EDC698894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DE45-AD08-4D7D-9DC3-98126EA14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DD1D-EE7B-4414-8E29-C0E20B558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A0A8-A59D-4544-81F2-8AA11C02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751C-3CF9-4A2B-B22A-FDC16706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9D92-F6DE-4956-82F8-46792E76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828F-B25D-459C-AE0F-73ABD0E4F4DB}" type="datetime">
              <a:rPr b="0" lang="en-US" sz="14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22CEA-8613-4025-9A4F-671B5DED76E0}" type="slidenum">
              <a:rPr b="0" lang="en-US" sz="1400" spc="-1" strike="noStrike">
                <a:solidFill>
                  <a:srgbClr val="3366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5000" y="6442200"/>
            <a:ext cx="2766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3366ff"/>
                </a:solidFill>
                <a:latin typeface="Tahoma"/>
              </a:rPr>
              <a:t>USC  INFORMATION SCIENCES INSTITUTE</a:t>
            </a:r>
            <a:endParaRPr b="0" lang="en-US" sz="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-360" y="6442200"/>
            <a:ext cx="9144360" cy="183960"/>
            <a:chOff x="-360" y="6442200"/>
            <a:chExt cx="9144360" cy="183960"/>
          </a:xfrm>
        </p:grpSpPr>
        <p:sp>
          <p:nvSpPr>
            <p:cNvPr id="68" name=""/>
            <p:cNvSpPr/>
            <p:nvPr/>
          </p:nvSpPr>
          <p:spPr>
            <a:xfrm>
              <a:off x="7281720" y="6442200"/>
              <a:ext cx="352440" cy="183960"/>
            </a:xfrm>
            <a:custGeom>
              <a:avLst/>
              <a:gdLst/>
              <a:ahLst/>
              <a:rect l="l" t="t" r="r" b="b"/>
              <a:pathLst>
                <a:path w="222" h="116">
                  <a:moveTo>
                    <a:pt x="164" y="0"/>
                  </a:moveTo>
                  <a:lnTo>
                    <a:pt x="115" y="0"/>
                  </a:lnTo>
                  <a:lnTo>
                    <a:pt x="109" y="0"/>
                  </a:lnTo>
                  <a:lnTo>
                    <a:pt x="105" y="0"/>
                  </a:lnTo>
                  <a:lnTo>
                    <a:pt x="101" y="0"/>
                  </a:lnTo>
                  <a:lnTo>
                    <a:pt x="97" y="0"/>
                  </a:lnTo>
                  <a:lnTo>
                    <a:pt x="93" y="0"/>
                  </a:lnTo>
                  <a:lnTo>
                    <a:pt x="89" y="0"/>
                  </a:lnTo>
                  <a:lnTo>
                    <a:pt x="87" y="1"/>
                  </a:lnTo>
                  <a:lnTo>
                    <a:pt x="84" y="1"/>
                  </a:lnTo>
                  <a:lnTo>
                    <a:pt x="79" y="2"/>
                  </a:lnTo>
                  <a:lnTo>
                    <a:pt x="75" y="3"/>
                  </a:lnTo>
                  <a:lnTo>
                    <a:pt x="73" y="5"/>
                  </a:lnTo>
                  <a:lnTo>
                    <a:pt x="70" y="7"/>
                  </a:lnTo>
                  <a:lnTo>
                    <a:pt x="69" y="10"/>
                  </a:lnTo>
                  <a:lnTo>
                    <a:pt x="67" y="14"/>
                  </a:lnTo>
                  <a:lnTo>
                    <a:pt x="66" y="19"/>
                  </a:lnTo>
                  <a:lnTo>
                    <a:pt x="65" y="24"/>
                  </a:lnTo>
                  <a:lnTo>
                    <a:pt x="64" y="31"/>
                  </a:lnTo>
                  <a:lnTo>
                    <a:pt x="62" y="38"/>
                  </a:lnTo>
                  <a:lnTo>
                    <a:pt x="61" y="43"/>
                  </a:lnTo>
                  <a:lnTo>
                    <a:pt x="61" y="47"/>
                  </a:lnTo>
                  <a:lnTo>
                    <a:pt x="59" y="52"/>
                  </a:lnTo>
                  <a:lnTo>
                    <a:pt x="58" y="57"/>
                  </a:lnTo>
                  <a:lnTo>
                    <a:pt x="57" y="62"/>
                  </a:lnTo>
                  <a:lnTo>
                    <a:pt x="56" y="67"/>
                  </a:lnTo>
                  <a:lnTo>
                    <a:pt x="55" y="72"/>
                  </a:lnTo>
                  <a:lnTo>
                    <a:pt x="54" y="76"/>
                  </a:lnTo>
                  <a:lnTo>
                    <a:pt x="53" y="84"/>
                  </a:lnTo>
                  <a:lnTo>
                    <a:pt x="51" y="90"/>
                  </a:lnTo>
                  <a:lnTo>
                    <a:pt x="50" y="96"/>
                  </a:lnTo>
                  <a:lnTo>
                    <a:pt x="49" y="101"/>
                  </a:lnTo>
                  <a:lnTo>
                    <a:pt x="47" y="105"/>
                  </a:lnTo>
                  <a:lnTo>
                    <a:pt x="46" y="108"/>
                  </a:lnTo>
                  <a:lnTo>
                    <a:pt x="43" y="110"/>
                  </a:lnTo>
                  <a:lnTo>
                    <a:pt x="40" y="112"/>
                  </a:lnTo>
                  <a:lnTo>
                    <a:pt x="36" y="113"/>
                  </a:lnTo>
                  <a:lnTo>
                    <a:pt x="32" y="114"/>
                  </a:lnTo>
                  <a:lnTo>
                    <a:pt x="29" y="114"/>
                  </a:lnTo>
                  <a:lnTo>
                    <a:pt x="26" y="115"/>
                  </a:lnTo>
                  <a:lnTo>
                    <a:pt x="22" y="115"/>
                  </a:lnTo>
                  <a:lnTo>
                    <a:pt x="18" y="115"/>
                  </a:lnTo>
                  <a:lnTo>
                    <a:pt x="14" y="115"/>
                  </a:lnTo>
                  <a:lnTo>
                    <a:pt x="10" y="115"/>
                  </a:lnTo>
                  <a:lnTo>
                    <a:pt x="5" y="115"/>
                  </a:lnTo>
                  <a:lnTo>
                    <a:pt x="0" y="115"/>
                  </a:lnTo>
                  <a:lnTo>
                    <a:pt x="50" y="115"/>
                  </a:lnTo>
                  <a:lnTo>
                    <a:pt x="55" y="115"/>
                  </a:lnTo>
                  <a:lnTo>
                    <a:pt x="60" y="115"/>
                  </a:lnTo>
                  <a:lnTo>
                    <a:pt x="65" y="115"/>
                  </a:lnTo>
                  <a:lnTo>
                    <a:pt x="69" y="115"/>
                  </a:lnTo>
                  <a:lnTo>
                    <a:pt x="73" y="115"/>
                  </a:lnTo>
                  <a:lnTo>
                    <a:pt x="76" y="115"/>
                  </a:lnTo>
                  <a:lnTo>
                    <a:pt x="79" y="114"/>
                  </a:lnTo>
                  <a:lnTo>
                    <a:pt x="82" y="114"/>
                  </a:lnTo>
                  <a:lnTo>
                    <a:pt x="87" y="113"/>
                  </a:lnTo>
                  <a:lnTo>
                    <a:pt x="90" y="112"/>
                  </a:lnTo>
                  <a:lnTo>
                    <a:pt x="93" y="110"/>
                  </a:lnTo>
                  <a:lnTo>
                    <a:pt x="96" y="108"/>
                  </a:lnTo>
                  <a:lnTo>
                    <a:pt x="97" y="105"/>
                  </a:lnTo>
                  <a:lnTo>
                    <a:pt x="99" y="101"/>
                  </a:lnTo>
                  <a:lnTo>
                    <a:pt x="100" y="96"/>
                  </a:lnTo>
                  <a:lnTo>
                    <a:pt x="101" y="90"/>
                  </a:lnTo>
                  <a:lnTo>
                    <a:pt x="103" y="84"/>
                  </a:lnTo>
                  <a:lnTo>
                    <a:pt x="104" y="76"/>
                  </a:lnTo>
                  <a:lnTo>
                    <a:pt x="105" y="72"/>
                  </a:lnTo>
                  <a:lnTo>
                    <a:pt x="106" y="67"/>
                  </a:lnTo>
                  <a:lnTo>
                    <a:pt x="107" y="62"/>
                  </a:lnTo>
                  <a:lnTo>
                    <a:pt x="108" y="57"/>
                  </a:lnTo>
                  <a:lnTo>
                    <a:pt x="109" y="52"/>
                  </a:lnTo>
                  <a:lnTo>
                    <a:pt x="111" y="47"/>
                  </a:lnTo>
                  <a:lnTo>
                    <a:pt x="112" y="43"/>
                  </a:lnTo>
                  <a:lnTo>
                    <a:pt x="112" y="38"/>
                  </a:lnTo>
                  <a:lnTo>
                    <a:pt x="114" y="31"/>
                  </a:lnTo>
                  <a:lnTo>
                    <a:pt x="115" y="24"/>
                  </a:lnTo>
                  <a:lnTo>
                    <a:pt x="116" y="19"/>
                  </a:lnTo>
                  <a:lnTo>
                    <a:pt x="118" y="14"/>
                  </a:lnTo>
                  <a:lnTo>
                    <a:pt x="119" y="10"/>
                  </a:lnTo>
                  <a:lnTo>
                    <a:pt x="121" y="7"/>
                  </a:lnTo>
                  <a:lnTo>
                    <a:pt x="123" y="5"/>
                  </a:lnTo>
                  <a:lnTo>
                    <a:pt x="126" y="3"/>
                  </a:lnTo>
                  <a:lnTo>
                    <a:pt x="130" y="2"/>
                  </a:lnTo>
                  <a:lnTo>
                    <a:pt x="134" y="1"/>
                  </a:lnTo>
                  <a:lnTo>
                    <a:pt x="137" y="1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7" y="0"/>
                  </a:lnTo>
                  <a:lnTo>
                    <a:pt x="151" y="0"/>
                  </a:lnTo>
                  <a:lnTo>
                    <a:pt x="155" y="0"/>
                  </a:lnTo>
                  <a:lnTo>
                    <a:pt x="160" y="0"/>
                  </a:lnTo>
                  <a:lnTo>
                    <a:pt x="165" y="0"/>
                  </a:lnTo>
                  <a:lnTo>
                    <a:pt x="221" y="0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483320" y="6442200"/>
              <a:ext cx="263520" cy="183960"/>
            </a:xfrm>
            <a:custGeom>
              <a:avLst/>
              <a:gdLst/>
              <a:ahLst/>
              <a:rect l="l" t="t" r="r" b="b"/>
              <a:pathLst>
                <a:path w="166" h="116">
                  <a:moveTo>
                    <a:pt x="165" y="0"/>
                  </a:moveTo>
                  <a:lnTo>
                    <a:pt x="160" y="0"/>
                  </a:lnTo>
                  <a:lnTo>
                    <a:pt x="155" y="0"/>
                  </a:lnTo>
                  <a:lnTo>
                    <a:pt x="151" y="0"/>
                  </a:lnTo>
                  <a:lnTo>
                    <a:pt x="147" y="0"/>
                  </a:lnTo>
                  <a:lnTo>
                    <a:pt x="143" y="0"/>
                  </a:lnTo>
                  <a:lnTo>
                    <a:pt x="140" y="0"/>
                  </a:lnTo>
                  <a:lnTo>
                    <a:pt x="137" y="1"/>
                  </a:lnTo>
                  <a:lnTo>
                    <a:pt x="134" y="1"/>
                  </a:lnTo>
                  <a:lnTo>
                    <a:pt x="129" y="2"/>
                  </a:lnTo>
                  <a:lnTo>
                    <a:pt x="126" y="3"/>
                  </a:lnTo>
                  <a:lnTo>
                    <a:pt x="123" y="5"/>
                  </a:lnTo>
                  <a:lnTo>
                    <a:pt x="121" y="7"/>
                  </a:lnTo>
                  <a:lnTo>
                    <a:pt x="119" y="10"/>
                  </a:lnTo>
                  <a:lnTo>
                    <a:pt x="117" y="14"/>
                  </a:lnTo>
                  <a:lnTo>
                    <a:pt x="116" y="19"/>
                  </a:lnTo>
                  <a:lnTo>
                    <a:pt x="115" y="24"/>
                  </a:lnTo>
                  <a:lnTo>
                    <a:pt x="114" y="31"/>
                  </a:lnTo>
                  <a:lnTo>
                    <a:pt x="112" y="38"/>
                  </a:lnTo>
                  <a:lnTo>
                    <a:pt x="111" y="43"/>
                  </a:lnTo>
                  <a:lnTo>
                    <a:pt x="111" y="47"/>
                  </a:lnTo>
                  <a:lnTo>
                    <a:pt x="109" y="52"/>
                  </a:lnTo>
                  <a:lnTo>
                    <a:pt x="108" y="57"/>
                  </a:lnTo>
                  <a:lnTo>
                    <a:pt x="107" y="62"/>
                  </a:lnTo>
                  <a:lnTo>
                    <a:pt x="106" y="67"/>
                  </a:lnTo>
                  <a:lnTo>
                    <a:pt x="105" y="72"/>
                  </a:lnTo>
                  <a:lnTo>
                    <a:pt x="104" y="76"/>
                  </a:lnTo>
                  <a:lnTo>
                    <a:pt x="103" y="84"/>
                  </a:lnTo>
                  <a:lnTo>
                    <a:pt x="101" y="90"/>
                  </a:lnTo>
                  <a:lnTo>
                    <a:pt x="100" y="96"/>
                  </a:lnTo>
                  <a:lnTo>
                    <a:pt x="99" y="101"/>
                  </a:lnTo>
                  <a:lnTo>
                    <a:pt x="97" y="105"/>
                  </a:lnTo>
                  <a:lnTo>
                    <a:pt x="96" y="108"/>
                  </a:lnTo>
                  <a:lnTo>
                    <a:pt x="93" y="110"/>
                  </a:lnTo>
                  <a:lnTo>
                    <a:pt x="90" y="112"/>
                  </a:lnTo>
                  <a:lnTo>
                    <a:pt x="87" y="113"/>
                  </a:lnTo>
                  <a:lnTo>
                    <a:pt x="82" y="114"/>
                  </a:lnTo>
                  <a:lnTo>
                    <a:pt x="79" y="114"/>
                  </a:lnTo>
                  <a:lnTo>
                    <a:pt x="76" y="115"/>
                  </a:lnTo>
                  <a:lnTo>
                    <a:pt x="72" y="115"/>
                  </a:lnTo>
                  <a:lnTo>
                    <a:pt x="68" y="115"/>
                  </a:lnTo>
                  <a:lnTo>
                    <a:pt x="64" y="115"/>
                  </a:lnTo>
                  <a:lnTo>
                    <a:pt x="60" y="115"/>
                  </a:lnTo>
                  <a:lnTo>
                    <a:pt x="55" y="115"/>
                  </a:lnTo>
                  <a:lnTo>
                    <a:pt x="50" y="115"/>
                  </a:lnTo>
                  <a:lnTo>
                    <a:pt x="0" y="115"/>
                  </a:lnTo>
                  <a:lnTo>
                    <a:pt x="5" y="115"/>
                  </a:lnTo>
                  <a:lnTo>
                    <a:pt x="10" y="115"/>
                  </a:lnTo>
                  <a:lnTo>
                    <a:pt x="14" y="115"/>
                  </a:lnTo>
                  <a:lnTo>
                    <a:pt x="18" y="115"/>
                  </a:lnTo>
                  <a:lnTo>
                    <a:pt x="22" y="115"/>
                  </a:lnTo>
                  <a:lnTo>
                    <a:pt x="26" y="115"/>
                  </a:lnTo>
                  <a:lnTo>
                    <a:pt x="29" y="114"/>
                  </a:lnTo>
                  <a:lnTo>
                    <a:pt x="32" y="114"/>
                  </a:lnTo>
                  <a:lnTo>
                    <a:pt x="36" y="113"/>
                  </a:lnTo>
                  <a:lnTo>
                    <a:pt x="40" y="112"/>
                  </a:lnTo>
                  <a:lnTo>
                    <a:pt x="43" y="110"/>
                  </a:lnTo>
                  <a:lnTo>
                    <a:pt x="46" y="108"/>
                  </a:lnTo>
                  <a:lnTo>
                    <a:pt x="47" y="105"/>
                  </a:lnTo>
                  <a:lnTo>
                    <a:pt x="49" y="101"/>
                  </a:lnTo>
                  <a:lnTo>
                    <a:pt x="50" y="96"/>
                  </a:lnTo>
                  <a:lnTo>
                    <a:pt x="51" y="90"/>
                  </a:lnTo>
                  <a:lnTo>
                    <a:pt x="52" y="84"/>
                  </a:lnTo>
                  <a:lnTo>
                    <a:pt x="54" y="76"/>
                  </a:lnTo>
                  <a:lnTo>
                    <a:pt x="55" y="72"/>
                  </a:lnTo>
                  <a:lnTo>
                    <a:pt x="56" y="67"/>
                  </a:lnTo>
                  <a:lnTo>
                    <a:pt x="57" y="62"/>
                  </a:lnTo>
                  <a:lnTo>
                    <a:pt x="58" y="57"/>
                  </a:lnTo>
                  <a:lnTo>
                    <a:pt x="59" y="52"/>
                  </a:lnTo>
                  <a:lnTo>
                    <a:pt x="60" y="47"/>
                  </a:lnTo>
                  <a:lnTo>
                    <a:pt x="61" y="43"/>
                  </a:lnTo>
                  <a:lnTo>
                    <a:pt x="62" y="38"/>
                  </a:lnTo>
                  <a:lnTo>
                    <a:pt x="64" y="31"/>
                  </a:lnTo>
                  <a:lnTo>
                    <a:pt x="65" y="24"/>
                  </a:lnTo>
                  <a:lnTo>
                    <a:pt x="66" y="19"/>
                  </a:lnTo>
                  <a:lnTo>
                    <a:pt x="67" y="14"/>
                  </a:lnTo>
                  <a:lnTo>
                    <a:pt x="68" y="10"/>
                  </a:lnTo>
                  <a:lnTo>
                    <a:pt x="70" y="7"/>
                  </a:lnTo>
                  <a:lnTo>
                    <a:pt x="72" y="5"/>
                  </a:lnTo>
                  <a:lnTo>
                    <a:pt x="75" y="3"/>
                  </a:lnTo>
                  <a:lnTo>
                    <a:pt x="79" y="2"/>
                  </a:lnTo>
                  <a:lnTo>
                    <a:pt x="84" y="1"/>
                  </a:lnTo>
                  <a:lnTo>
                    <a:pt x="87" y="1"/>
                  </a:lnTo>
                  <a:lnTo>
                    <a:pt x="89" y="0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5" y="0"/>
                  </a:lnTo>
                  <a:lnTo>
                    <a:pt x="109" y="0"/>
                  </a:lnTo>
                  <a:lnTo>
                    <a:pt x="115" y="0"/>
                  </a:lnTo>
                  <a:lnTo>
                    <a:pt x="164" y="0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535880" y="6478560"/>
              <a:ext cx="52200" cy="460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32" y="0"/>
                  </a:moveTo>
                  <a:lnTo>
                    <a:pt x="31" y="3"/>
                  </a:lnTo>
                  <a:lnTo>
                    <a:pt x="31" y="5"/>
                  </a:lnTo>
                  <a:lnTo>
                    <a:pt x="31" y="7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29" y="11"/>
                  </a:lnTo>
                  <a:lnTo>
                    <a:pt x="28" y="12"/>
                  </a:lnTo>
                  <a:lnTo>
                    <a:pt x="27" y="13"/>
                  </a:lnTo>
                  <a:lnTo>
                    <a:pt x="26" y="13"/>
                  </a:lnTo>
                  <a:lnTo>
                    <a:pt x="24" y="14"/>
                  </a:lnTo>
                  <a:lnTo>
                    <a:pt x="22" y="14"/>
                  </a:lnTo>
                  <a:lnTo>
                    <a:pt x="19" y="14"/>
                  </a:lnTo>
                  <a:lnTo>
                    <a:pt x="15" y="14"/>
                  </a:lnTo>
                  <a:lnTo>
                    <a:pt x="11" y="15"/>
                  </a:lnTo>
                  <a:lnTo>
                    <a:pt x="6" y="15"/>
                  </a:lnTo>
                  <a:lnTo>
                    <a:pt x="0" y="15"/>
                  </a:lnTo>
                  <a:lnTo>
                    <a:pt x="6" y="15"/>
                  </a:lnTo>
                  <a:lnTo>
                    <a:pt x="11" y="15"/>
                  </a:lnTo>
                  <a:lnTo>
                    <a:pt x="15" y="15"/>
                  </a:lnTo>
                  <a:lnTo>
                    <a:pt x="19" y="15"/>
                  </a:lnTo>
                  <a:lnTo>
                    <a:pt x="21" y="15"/>
                  </a:lnTo>
                  <a:lnTo>
                    <a:pt x="24" y="15"/>
                  </a:lnTo>
                  <a:lnTo>
                    <a:pt x="25" y="15"/>
                  </a:lnTo>
                  <a:lnTo>
                    <a:pt x="27" y="16"/>
                  </a:lnTo>
                  <a:lnTo>
                    <a:pt x="28" y="16"/>
                  </a:lnTo>
                  <a:lnTo>
                    <a:pt x="28" y="17"/>
                  </a:lnTo>
                  <a:lnTo>
                    <a:pt x="28" y="18"/>
                  </a:lnTo>
                  <a:lnTo>
                    <a:pt x="28" y="19"/>
                  </a:lnTo>
                  <a:lnTo>
                    <a:pt x="28" y="21"/>
                  </a:lnTo>
                  <a:lnTo>
                    <a:pt x="28" y="23"/>
                  </a:lnTo>
                  <a:lnTo>
                    <a:pt x="27" y="25"/>
                  </a:lnTo>
                  <a:lnTo>
                    <a:pt x="26" y="28"/>
                  </a:lnTo>
                  <a:lnTo>
                    <a:pt x="32" y="0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450200" y="6535800"/>
              <a:ext cx="52200" cy="460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0" y="28"/>
                  </a:moveTo>
                  <a:lnTo>
                    <a:pt x="0" y="25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6"/>
                  </a:lnTo>
                  <a:lnTo>
                    <a:pt x="5" y="15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3" y="14"/>
                  </a:lnTo>
                  <a:lnTo>
                    <a:pt x="17" y="14"/>
                  </a:lnTo>
                  <a:lnTo>
                    <a:pt x="21" y="14"/>
                  </a:lnTo>
                  <a:lnTo>
                    <a:pt x="26" y="14"/>
                  </a:lnTo>
                  <a:lnTo>
                    <a:pt x="32" y="14"/>
                  </a:lnTo>
                  <a:lnTo>
                    <a:pt x="26" y="13"/>
                  </a:lnTo>
                  <a:lnTo>
                    <a:pt x="21" y="13"/>
                  </a:lnTo>
                  <a:lnTo>
                    <a:pt x="17" y="13"/>
                  </a:lnTo>
                  <a:lnTo>
                    <a:pt x="13" y="13"/>
                  </a:lnTo>
                  <a:lnTo>
                    <a:pt x="11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7"/>
                  </a:lnTo>
                  <a:lnTo>
                    <a:pt x="4" y="5"/>
                  </a:lnTo>
                  <a:lnTo>
                    <a:pt x="5" y="2"/>
                  </a:lnTo>
                  <a:lnTo>
                    <a:pt x="6" y="0"/>
                  </a:lnTo>
                  <a:lnTo>
                    <a:pt x="0" y="28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7369200" y="6624720"/>
              <a:ext cx="11736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736040" y="6442200"/>
              <a:ext cx="140796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-360" y="6624720"/>
              <a:ext cx="731844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180200" y="6624720"/>
              <a:ext cx="41292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7570800" y="6471720"/>
              <a:ext cx="22320" cy="11772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7446960" y="6494400"/>
              <a:ext cx="22320" cy="11736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5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16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17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71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76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1D5F3-BD16-49B3-8D50-B97172773B42}" type="datetime">
              <a:rPr b="0" lang="en-US" sz="14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F2E90-F3C4-4D3C-90D1-0BC86DE66B3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C:\research\vint\nam-1.0a9\nam.exe &quot;C:/research/slides/vint/DSDV.nam&quot;" TargetMode="External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expect.nist.gov/tcl-debu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isi.edu/nsnam/ns/ns-topogen.html" TargetMode="External"/><Relationship Id="rId3" Type="http://schemas.openxmlformats.org/officeDocument/2006/relationships/package" Target="../embeddings/oleObject1.doc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c:\research\vint\nam-1.0a9\nam &quot;C:/research/slides/vint/ts26.nam&quot;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72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art I: Fundamentals (con’t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AC5D7-C41B-466B-B3D0-BF7165FE5EF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n Example – Step 6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"/>
          <p:cNvSpPr/>
          <p:nvPr/>
        </p:nvSpPr>
        <p:spPr>
          <a:xfrm>
            <a:off x="822240" y="1776240"/>
            <a:ext cx="783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35200" y="1730520"/>
            <a:ext cx="830880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0458c"/>
                </a:solidFill>
                <a:latin typeface="Courier New"/>
              </a:rPr>
              <a:t># </a:t>
            </a:r>
            <a:r>
              <a:rPr b="0" i="1" lang="en-US" sz="2400" spc="-1" strike="noStrike">
                <a:solidFill>
                  <a:srgbClr val="40458c"/>
                </a:solidFill>
                <a:latin typeface="Courier New"/>
              </a:rPr>
              <a:t>Define node movement model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source movement-scenario-files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Courier New"/>
              </a:rPr>
              <a:t># Define traffic mode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source traffic-scenario-fil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7D12-731B-43A4-B1AD-95E299EAE31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1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cenario Generator: Move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obile Movement Generato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setdest -n &lt;num_of_nodes&gt; -p pausetime -s &lt;maxspeed&gt; -t &lt;simtime&gt; -x &lt;maxx&gt; -y &lt;maxy&gt;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andom movem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$node star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ource: </a:t>
            </a: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ns-2/indep-utils/cmu-scen-gen/setdest/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B3BA-13C9-41EC-B639-BBE8C86AF26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 Movement Fi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node_(2) set Z_ 0.000000000000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node_(2) set Y_ 199.373306816804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node_(2) set X_ 591.256560093833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node_(1) set Z_ 0.000000000000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node_(1) set Y_ 345.357731779204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node_(1) set X_ 257.046298323157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node_(0) set Z_ 0.000000000000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node_(0) set Y_ 239.438009831261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node_(0) set X_ 83.364418416244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ns_ at 50.000000000000 "$node_(2) setdest 369.463244915743 170.519203111152 3.371785899154"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ns_ at 51.000000000000 "$node_(1) setdest 221.826585497093 80.855495003839 14.909259208114"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ns_ at 33.000000000000 "$node_(0) setdest 89.663708107313 283.494644426442 19.153832288917"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8408-E4AB-480C-8640-68683879796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cenario Generator: Traffic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Generating traffic pattern fil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BR traffi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Courier New"/>
              </a:rPr>
              <a:t>ns cbrgen.tcl [-type cbf|tcp] [-nn nodes] [-seed seed] [-mc connections] [-rate rate]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CP traffi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Courier New"/>
              </a:rPr>
              <a:t>ns tcpgen.tcl [-nn nodes] [-seed seed]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ource: </a:t>
            </a:r>
            <a:r>
              <a:rPr b="0" i="1" lang="en-US" sz="2400" spc="-1" strike="noStrike">
                <a:solidFill>
                  <a:srgbClr val="40458c"/>
                </a:solidFill>
                <a:latin typeface="Courier New"/>
              </a:rPr>
              <a:t>ns-2/indep-utils/cmu-scen-gen/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B4FA-DB78-4989-82AB-DB4A5B06FB6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 Traffic Scenari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set udp_(0) [new Agent/UDP]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ns_ attach-agent $node_(0) $udp_(0)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set null_(0) [new Agent/Null]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ns_ attach-agent $node_(2) $null_(0)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set cbr_(0) [new Application/Traffic/CBR]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cbr_(0) set packetSize_ 512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cbr_(0) set interval_ 4.0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cbr_(0) set random_ 1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cbr_(0) set maxpkts_ 10000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cbr_(0) attach-agent $udp_(0)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ns_ connect $udp_(0) $null_(0)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ns_ at 127.93667922166023 "$cbr_(0) start"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……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CF4D-1679-4A9C-B8C0-2195F407FD8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n Example – Step 7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822240" y="1776240"/>
            <a:ext cx="783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35200" y="1730520"/>
            <a:ext cx="830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Courier New"/>
              </a:rPr>
              <a:t># Define node initial position in na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for {set i 0} {$i &lt; 3 } { incr i} {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$ns initial_node_position $node($i) 2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Courier New"/>
              </a:rPr>
              <a:t># Tell ns/nam the simulation stop time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$ns at 200.0 “$ns nam-end-wireless 200.0”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$ns at 200.0 “$ns halt”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Courier New"/>
              </a:rPr>
              <a:t># Start your simulation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$ns ru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EE43-6C97-49EC-8ADA-DA69A65975E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nergy Extens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de is energy-awa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fine node by adding new option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ns_ node-config \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–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energyModel EnergyMod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-initialEnergy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100.0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-txPower</a:t>
            </a: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0.6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-rxPower</a:t>
            </a: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0.2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1542-A467-437A-A48D-96F9FF9ACB8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am Visualiz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e nam to visualiz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obile node posi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obile node moving direction and spee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nergy consumption at nodes (color keyed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B0C2-B136-4372-B4E8-B4C04285FF4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am Visualiz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pla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$ns namtrace-all $f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ith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$ns namtrace-all-wireless $f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t the end of simulation, d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$ns nam-end-wireless [$ns now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e an example: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2" name="">
            <a:hlinkClick r:id="rId3"/>
          </p:cNvPr>
          <p:cNvSpPr/>
          <p:nvPr/>
        </p:nvSpPr>
        <p:spPr>
          <a:xfrm>
            <a:off x="4643280" y="5348160"/>
            <a:ext cx="990720" cy="457200"/>
          </a:xfrm>
          <a:custGeom>
            <a:avLst/>
            <a:gdLst>
              <a:gd name="textAreaLeft" fmla="*/ 29520 w 990720"/>
              <a:gd name="textAreaRight" fmla="*/ 961200 w 990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86" h="21600">
                <a:moveTo>
                  <a:pt x="0" y="0"/>
                </a:moveTo>
                <a:lnTo>
                  <a:pt x="46786" y="0"/>
                </a:lnTo>
                <a:lnTo>
                  <a:pt x="46786" y="21600"/>
                </a:lnTo>
                <a:lnTo>
                  <a:pt x="0" y="21600"/>
                </a:lnTo>
                <a:close/>
              </a:path>
              <a:path fill="lightenLess" w="46786" h="21600">
                <a:moveTo>
                  <a:pt x="0" y="0"/>
                </a:moveTo>
                <a:lnTo>
                  <a:pt x="46786" y="0"/>
                </a:lnTo>
                <a:lnTo>
                  <a:pt x="45386" y="1400"/>
                </a:lnTo>
                <a:lnTo>
                  <a:pt x="1400" y="1400"/>
                </a:lnTo>
                <a:close/>
              </a:path>
              <a:path fill="darken" w="46786" h="21600">
                <a:moveTo>
                  <a:pt x="46786" y="0"/>
                </a:moveTo>
                <a:lnTo>
                  <a:pt x="46786" y="21600"/>
                </a:lnTo>
                <a:lnTo>
                  <a:pt x="45386" y="20200"/>
                </a:lnTo>
                <a:lnTo>
                  <a:pt x="45386" y="1400"/>
                </a:lnTo>
                <a:close/>
              </a:path>
              <a:path fill="darkenLess" w="46786" h="21600">
                <a:moveTo>
                  <a:pt x="46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6" y="20200"/>
                </a:lnTo>
                <a:close/>
              </a:path>
              <a:path fill="lighten" w="46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86" h="21600">
                <a:moveTo>
                  <a:pt x="16386" y="7301"/>
                </a:moveTo>
                <a:lnTo>
                  <a:pt x="17300" y="7301"/>
                </a:lnTo>
                <a:lnTo>
                  <a:pt x="17683" y="7667"/>
                </a:lnTo>
                <a:lnTo>
                  <a:pt x="26892" y="7667"/>
                </a:lnTo>
                <a:lnTo>
                  <a:pt x="27449" y="8224"/>
                </a:lnTo>
                <a:lnTo>
                  <a:pt x="27449" y="8772"/>
                </a:lnTo>
                <a:lnTo>
                  <a:pt x="29294" y="8772"/>
                </a:lnTo>
                <a:lnTo>
                  <a:pt x="29660" y="8224"/>
                </a:lnTo>
                <a:lnTo>
                  <a:pt x="30399" y="8224"/>
                </a:lnTo>
                <a:lnTo>
                  <a:pt x="30399" y="13376"/>
                </a:lnTo>
                <a:lnTo>
                  <a:pt x="29660" y="13376"/>
                </a:lnTo>
                <a:lnTo>
                  <a:pt x="29294" y="12828"/>
                </a:lnTo>
                <a:lnTo>
                  <a:pt x="27449" y="12828"/>
                </a:lnTo>
                <a:lnTo>
                  <a:pt x="27449" y="14107"/>
                </a:lnTo>
                <a:lnTo>
                  <a:pt x="17866" y="14107"/>
                </a:lnTo>
                <a:lnTo>
                  <a:pt x="17866" y="9877"/>
                </a:lnTo>
                <a:lnTo>
                  <a:pt x="17683" y="9877"/>
                </a:lnTo>
                <a:lnTo>
                  <a:pt x="17300" y="10243"/>
                </a:lnTo>
                <a:lnTo>
                  <a:pt x="16386" y="10243"/>
                </a:lnTo>
                <a:close/>
              </a:path>
            </a:pathLst>
          </a:cu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82EE-0D29-4199-AEFE-FEFEF3712DDC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c Layer: IEEE 802.1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ddress Resolution Protocol (ARP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d hoc routing protocols: DSDV, DSR,TORA, AODV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adio Propagation Mod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riss-space attenuation at near distanc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wo ray ground at far distanc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ntenna: an omni-directional antenna having unity gai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80B4-154D-4A25-B733-9710FEAA2EE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Goal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Essential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Prim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Wired worl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ireless worl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Emulat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Utiliti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F9CB-1372-4645-BB28-0935A85513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nergy consumption model for sensor networ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isualization of node movement, reachability, and energ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lidation test suit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D4C6-E20E-47C2-9055-0FB3B178433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redi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MU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C Berkele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un Microsystem Inc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C/IS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70EB-AC48-491D-85C2-0EC8500066C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 Brief on Satellite Network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veloped by Tom Henderson (UCB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upported model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Geostationary satellites: bent-pipe and processing-paylo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w-Earth-Orbit satellit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ample: </a:t>
            </a: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tcl/ex/sat-*.tc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uch in-developm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B31D-EC4A-414A-A0E6-E6583508D32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 Brief on MobileIP Suppor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veloped by Su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quire a different Node structure than the MobileNod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-exists with wired world in n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tandard MobileI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ome Agent, Foreign Agent, MobileHosts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xamp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~ns/tcl/ex/wired-cum-wireless.tc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1403-2E1E-48D4-A455-80635AE435C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Goal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Essential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Prim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Wired worl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Wireless worl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mulat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Utiliti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E13F-2B11-44CF-805B-F02624D23FC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mulation in 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mulator </a:t>
            </a:r>
            <a:r>
              <a:rPr b="0" lang="en-US" sz="3200" spc="-1" strike="noStrike">
                <a:solidFill>
                  <a:srgbClr val="40458c"/>
                </a:solidFill>
                <a:latin typeface="Wingdings"/>
                <a:ea typeface="Wingdings"/>
              </a:rPr>
              <a:t>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real network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ject received packets into simul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mit packets on to live networ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ubject real implementations to controlled conditions in the simulat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ubject simulations to real-world traffi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ahoma"/>
              </a:rPr>
              <a:t>Currently only works on FreeBS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D90D-77B1-4CDC-9C0A-DBEE15FF1D9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ample Environ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3429000"/>
            <a:ext cx="1752480" cy="1752480"/>
          </a:xfrm>
          <a:prstGeom prst="octagon">
            <a:avLst>
              <a:gd name="adj" fmla="val 29287"/>
            </a:avLst>
          </a:prstGeom>
          <a:solidFill>
            <a:srgbClr val="ecd882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mulat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achin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14400" y="2743200"/>
            <a:ext cx="2362320" cy="2590920"/>
          </a:xfrm>
          <a:prstGeom prst="irregularSeal2">
            <a:avLst/>
          </a:prstGeom>
          <a:solidFill>
            <a:srgbClr val="33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d882"/>
                </a:solidFill>
                <a:latin typeface="Tahoma"/>
              </a:rPr>
              <a:t>Interne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432480" y="3976560"/>
            <a:ext cx="1828800" cy="1219320"/>
          </a:xfrm>
          <a:prstGeom prst="rect">
            <a:avLst/>
          </a:prstGeom>
          <a:solidFill>
            <a:srgbClr val="b2b2b2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es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achin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91" name=""/>
          <p:cNvCxnSpPr>
            <a:stCxn id="288" idx="3"/>
            <a:endCxn id="290" idx="1"/>
          </p:cNvCxnSpPr>
          <p:nvPr/>
        </p:nvCxnSpPr>
        <p:spPr>
          <a:xfrm>
            <a:off x="5486400" y="4304880"/>
            <a:ext cx="946800" cy="281880"/>
          </a:xfrm>
          <a:prstGeom prst="curvedConnector5">
            <a:avLst>
              <a:gd name="adj1" fmla="val 49980"/>
              <a:gd name="adj2" fmla="val 50000"/>
              <a:gd name="adj3" fmla="val 49980"/>
            </a:avLst>
          </a:prstGeom>
          <a:ln cap="sq" w="12600">
            <a:solidFill>
              <a:srgbClr val="40458c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292" name=""/>
          <p:cNvCxnSpPr>
            <a:stCxn id="289" idx="3"/>
            <a:endCxn id="288" idx="1"/>
          </p:cNvCxnSpPr>
          <p:nvPr/>
        </p:nvCxnSpPr>
        <p:spPr>
          <a:xfrm>
            <a:off x="3276720" y="3539880"/>
            <a:ext cx="457920" cy="765720"/>
          </a:xfrm>
          <a:prstGeom prst="bentConnector3">
            <a:avLst>
              <a:gd name="adj1" fmla="val 49960"/>
            </a:avLst>
          </a:prstGeom>
          <a:ln cap="sq" w="12600">
            <a:solidFill>
              <a:srgbClr val="40458c"/>
            </a:solidFill>
            <a:miter/>
            <a:headEnd len="sm" type="triangle" w="sm"/>
            <a:tailEnd len="sm" type="triangle" w="sm"/>
          </a:ln>
        </p:spPr>
      </p:cxnSp>
      <p:sp>
        <p:nvSpPr>
          <p:cNvPr id="293" name=""/>
          <p:cNvSpPr/>
          <p:nvPr/>
        </p:nvSpPr>
        <p:spPr>
          <a:xfrm>
            <a:off x="5405400" y="2295360"/>
            <a:ext cx="255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HCP for address/routing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5562360" y="3124080"/>
            <a:ext cx="533160" cy="990720"/>
          </a:xfrm>
          <a:prstGeom prst="line">
            <a:avLst/>
          </a:prstGeom>
          <a:ln cap="sq" w="1260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402280" y="1809720"/>
            <a:ext cx="221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oxy ARP for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est Machin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581280" y="2590920"/>
            <a:ext cx="76320" cy="1143000"/>
          </a:xfrm>
          <a:prstGeom prst="line">
            <a:avLst/>
          </a:prstGeom>
          <a:ln cap="sq" w="1260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257040" y="4893840"/>
            <a:ext cx="7599600" cy="1222920"/>
            <a:chOff x="257040" y="4893840"/>
            <a:chExt cx="7599600" cy="1222920"/>
          </a:xfrm>
        </p:grpSpPr>
        <p:sp>
          <p:nvSpPr>
            <p:cNvPr id="298" name=""/>
            <p:cNvSpPr/>
            <p:nvPr/>
          </p:nvSpPr>
          <p:spPr>
            <a:xfrm>
              <a:off x="257040" y="5122800"/>
              <a:ext cx="955800" cy="684360"/>
            </a:xfrm>
            <a:prstGeom prst="roundRect">
              <a:avLst>
                <a:gd name="adj" fmla="val 16667"/>
              </a:avLst>
            </a:prstGeom>
            <a:solidFill>
              <a:srgbClr val="99ff66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web 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server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981000" y="4893840"/>
              <a:ext cx="243000" cy="22860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832440" y="5607000"/>
              <a:ext cx="1024200" cy="509760"/>
            </a:xfrm>
            <a:prstGeom prst="roundRect">
              <a:avLst>
                <a:gd name="adj" fmla="val 16667"/>
              </a:avLst>
            </a:prstGeom>
            <a:solidFill>
              <a:srgbClr val="99ff66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browser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301" name=""/>
            <p:cNvCxnSpPr>
              <a:stCxn id="300" idx="0"/>
              <a:endCxn id="290" idx="2"/>
            </p:cNvCxnSpPr>
            <p:nvPr/>
          </p:nvCxnSpPr>
          <p:spPr>
            <a:xfrm flipV="1">
              <a:off x="7345440" y="5195520"/>
              <a:ext cx="2160" cy="41184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</p:grpSp>
      <p:sp>
        <p:nvSpPr>
          <p:cNvPr id="302" name=""/>
          <p:cNvSpPr/>
          <p:nvPr/>
        </p:nvSpPr>
        <p:spPr>
          <a:xfrm>
            <a:off x="7140600" y="5259240"/>
            <a:ext cx="108000" cy="295560"/>
          </a:xfrm>
          <a:prstGeom prst="rect">
            <a:avLst/>
          </a:prstGeom>
          <a:solidFill>
            <a:srgbClr val="ff505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130800" y="4627440"/>
            <a:ext cx="108000" cy="295560"/>
          </a:xfrm>
          <a:prstGeom prst="rect">
            <a:avLst/>
          </a:prstGeom>
          <a:solidFill>
            <a:srgbClr val="ff505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700600" y="4425840"/>
            <a:ext cx="108000" cy="295560"/>
          </a:xfrm>
          <a:prstGeom prst="rect">
            <a:avLst/>
          </a:prstGeom>
          <a:solidFill>
            <a:srgbClr val="ff505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02200" y="3605040"/>
            <a:ext cx="108000" cy="295560"/>
          </a:xfrm>
          <a:prstGeom prst="rect">
            <a:avLst/>
          </a:prstGeom>
          <a:solidFill>
            <a:srgbClr val="ff505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572000" y="3578400"/>
            <a:ext cx="108000" cy="295200"/>
          </a:xfrm>
          <a:prstGeom prst="rect">
            <a:avLst/>
          </a:prstGeom>
          <a:solidFill>
            <a:srgbClr val="ff505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141800" y="3578400"/>
            <a:ext cx="108000" cy="295200"/>
          </a:xfrm>
          <a:prstGeom prst="rect">
            <a:avLst/>
          </a:prstGeom>
          <a:solidFill>
            <a:srgbClr val="ff505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294000" y="3995640"/>
            <a:ext cx="108000" cy="295200"/>
          </a:xfrm>
          <a:prstGeom prst="rect">
            <a:avLst/>
          </a:prstGeom>
          <a:solidFill>
            <a:srgbClr val="ff505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890800" y="3646440"/>
            <a:ext cx="108000" cy="295200"/>
          </a:xfrm>
          <a:prstGeom prst="rect">
            <a:avLst/>
          </a:prstGeom>
          <a:solidFill>
            <a:srgbClr val="ff505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67000" y="4278240"/>
            <a:ext cx="108000" cy="295200"/>
          </a:xfrm>
          <a:prstGeom prst="rect">
            <a:avLst/>
          </a:prstGeom>
          <a:solidFill>
            <a:srgbClr val="ff505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519200" y="4479840"/>
            <a:ext cx="108000" cy="295200"/>
          </a:xfrm>
          <a:prstGeom prst="rect">
            <a:avLst/>
          </a:prstGeom>
          <a:solidFill>
            <a:srgbClr val="ff505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87400" y="4735440"/>
            <a:ext cx="108000" cy="295200"/>
          </a:xfrm>
          <a:prstGeom prst="rect">
            <a:avLst/>
          </a:prstGeom>
          <a:solidFill>
            <a:srgbClr val="ff505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64F1-A50A-432B-A9A1-784AEC5E8E0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739800" y="5486400"/>
            <a:ext cx="7597800" cy="0"/>
          </a:xfrm>
          <a:prstGeom prst="line">
            <a:avLst/>
          </a:prstGeom>
          <a:ln w="381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2708280" y="5270040"/>
            <a:ext cx="1992600" cy="1150920"/>
            <a:chOff x="2708280" y="5270040"/>
            <a:chExt cx="1992600" cy="1150920"/>
          </a:xfrm>
        </p:grpSpPr>
        <p:sp>
          <p:nvSpPr>
            <p:cNvPr id="315" name=""/>
            <p:cNvSpPr/>
            <p:nvPr/>
          </p:nvSpPr>
          <p:spPr>
            <a:xfrm>
              <a:off x="2708280" y="5961240"/>
              <a:ext cx="199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real network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316" name=""/>
            <p:cNvCxnSpPr>
              <a:stCxn id="317" idx="2"/>
              <a:endCxn id="315" idx="0"/>
            </p:cNvCxnSpPr>
            <p:nvPr/>
          </p:nvCxnSpPr>
          <p:spPr>
            <a:xfrm flipH="1">
              <a:off x="3704400" y="5270040"/>
              <a:ext cx="3960" cy="691560"/>
            </a:xfrm>
            <a:prstGeom prst="straightConnector1">
              <a:avLst/>
            </a:prstGeom>
            <a:ln w="38160">
              <a:solidFill>
                <a:srgbClr val="ff505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mulation Machi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7" name=""/>
          <p:cNvSpPr/>
          <p:nvPr/>
        </p:nvSpPr>
        <p:spPr>
          <a:xfrm>
            <a:off x="1612800" y="1841400"/>
            <a:ext cx="4191120" cy="3429000"/>
          </a:xfrm>
          <a:prstGeom prst="octagon">
            <a:avLst>
              <a:gd name="adj" fmla="val 29287"/>
            </a:avLst>
          </a:prstGeom>
          <a:solidFill>
            <a:srgbClr val="993366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612800" y="3898800"/>
            <a:ext cx="4191120" cy="0"/>
          </a:xfrm>
          <a:prstGeom prst="line">
            <a:avLst/>
          </a:prstGeom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2603520" y="3898800"/>
            <a:ext cx="0" cy="1371600"/>
          </a:xfrm>
          <a:prstGeom prst="line">
            <a:avLst/>
          </a:prstGeom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4813200" y="3898800"/>
            <a:ext cx="0" cy="1371600"/>
          </a:xfrm>
          <a:prstGeom prst="line">
            <a:avLst/>
          </a:prstGeom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765440" y="40514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PF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749960" y="404352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ahoma"/>
              </a:rPr>
              <a:t>BPF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025960" y="400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874040" y="404352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ahoma"/>
              </a:rPr>
              <a:t>BPF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057120" y="434808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c5e"/>
                </a:solidFill>
                <a:latin typeface="Tahoma"/>
              </a:rPr>
              <a:t>RAW I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782800" y="2187720"/>
            <a:ext cx="1905120" cy="1218960"/>
          </a:xfrm>
          <a:prstGeom prst="ellipse">
            <a:avLst/>
          </a:prstGeom>
          <a:solidFill>
            <a:srgbClr val="ecd882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46320" y="2527200"/>
            <a:ext cx="533520" cy="1295640"/>
          </a:xfrm>
          <a:custGeom>
            <a:avLst/>
            <a:gdLst>
              <a:gd name="textAreaLeft" fmla="*/ 0 w 533520"/>
              <a:gd name="textAreaRight" fmla="*/ 533880 w 533520"/>
              <a:gd name="textAreaTop" fmla="*/ 0 h 1295640"/>
              <a:gd name="textAreaBottom" fmla="*/ 12960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9966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365640" y="344160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cd882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4736520" y="2527200"/>
            <a:ext cx="533160" cy="1295640"/>
          </a:xfrm>
          <a:custGeom>
            <a:avLst/>
            <a:gdLst>
              <a:gd name="textAreaLeft" fmla="*/ -360 w 533160"/>
              <a:gd name="textAreaRight" fmla="*/ 533160 w 533160"/>
              <a:gd name="textAreaTop" fmla="*/ 0 h 1295640"/>
              <a:gd name="textAreaBottom" fmla="*/ 12960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9966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915280" y="2584440"/>
            <a:ext cx="15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mulato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5983200" y="3898800"/>
            <a:ext cx="1600200" cy="1371600"/>
            <a:chOff x="5983200" y="3898800"/>
            <a:chExt cx="1600200" cy="1371600"/>
          </a:xfrm>
        </p:grpSpPr>
        <p:sp>
          <p:nvSpPr>
            <p:cNvPr id="333" name=""/>
            <p:cNvSpPr/>
            <p:nvPr/>
          </p:nvSpPr>
          <p:spPr>
            <a:xfrm>
              <a:off x="5983200" y="3898800"/>
              <a:ext cx="149400" cy="1371600"/>
            </a:xfrm>
            <a:custGeom>
              <a:avLst/>
              <a:gdLst>
                <a:gd name="textAreaLeft" fmla="*/ 0 w 149400"/>
                <a:gd name="textAreaRight" fmla="*/ 54000 w 14940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175800" y="4170240"/>
              <a:ext cx="1407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Network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object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5002200" y="5435640"/>
            <a:ext cx="2173320" cy="713880"/>
            <a:chOff x="5002200" y="5435640"/>
            <a:chExt cx="2173320" cy="713880"/>
          </a:xfrm>
        </p:grpSpPr>
        <p:sp>
          <p:nvSpPr>
            <p:cNvPr id="336" name=""/>
            <p:cNvSpPr/>
            <p:nvPr/>
          </p:nvSpPr>
          <p:spPr>
            <a:xfrm>
              <a:off x="5002200" y="5435640"/>
              <a:ext cx="2097000" cy="498600"/>
            </a:xfrm>
            <a:prstGeom prst="wedgeRoundRectCallout">
              <a:avLst>
                <a:gd name="adj1" fmla="val -45004"/>
                <a:gd name="adj2" fmla="val -177069"/>
                <a:gd name="adj3" fmla="val 16667"/>
              </a:avLst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030640" y="5506920"/>
              <a:ext cx="214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Network/Pcap/Liv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1131840" y="5381640"/>
            <a:ext cx="1625760" cy="713880"/>
            <a:chOff x="1131840" y="5381640"/>
            <a:chExt cx="1625760" cy="713880"/>
          </a:xfrm>
        </p:grpSpPr>
        <p:sp>
          <p:nvSpPr>
            <p:cNvPr id="339" name=""/>
            <p:cNvSpPr/>
            <p:nvPr/>
          </p:nvSpPr>
          <p:spPr>
            <a:xfrm>
              <a:off x="1131840" y="5381640"/>
              <a:ext cx="1625760" cy="498600"/>
            </a:xfrm>
            <a:prstGeom prst="wedgeRoundRectCallout">
              <a:avLst>
                <a:gd name="adj1" fmla="val 58787"/>
                <a:gd name="adj2" fmla="val -106689"/>
                <a:gd name="adj3" fmla="val 16667"/>
              </a:avLst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279440" y="5452920"/>
              <a:ext cx="1390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Network/IP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6024600" y="2836800"/>
            <a:ext cx="1874880" cy="1022400"/>
            <a:chOff x="6024600" y="2836800"/>
            <a:chExt cx="1874880" cy="1022400"/>
          </a:xfrm>
        </p:grpSpPr>
        <p:sp>
          <p:nvSpPr>
            <p:cNvPr id="342" name=""/>
            <p:cNvSpPr/>
            <p:nvPr/>
          </p:nvSpPr>
          <p:spPr>
            <a:xfrm>
              <a:off x="6024600" y="2836800"/>
              <a:ext cx="88920" cy="1022400"/>
            </a:xfrm>
            <a:custGeom>
              <a:avLst/>
              <a:gdLst>
                <a:gd name="textAreaLeft" fmla="*/ 0 w 88920"/>
                <a:gd name="textAreaRight" fmla="*/ 32040 w 88920"/>
                <a:gd name="textAreaTop" fmla="*/ 26640 h 1022400"/>
                <a:gd name="textAreaBottom" fmla="*/ 995760 h 10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225120" y="3054240"/>
              <a:ext cx="167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Agent/Tap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4356000" y="1600200"/>
            <a:ext cx="2329560" cy="523800"/>
            <a:chOff x="4356000" y="1600200"/>
            <a:chExt cx="2329560" cy="523800"/>
          </a:xfrm>
        </p:grpSpPr>
        <p:sp>
          <p:nvSpPr>
            <p:cNvPr id="345" name=""/>
            <p:cNvSpPr/>
            <p:nvPr/>
          </p:nvSpPr>
          <p:spPr>
            <a:xfrm>
              <a:off x="4356000" y="1600200"/>
              <a:ext cx="2286000" cy="523800"/>
            </a:xfrm>
            <a:prstGeom prst="wedgeRoundRectCallout">
              <a:avLst>
                <a:gd name="adj1" fmla="val -52569"/>
                <a:gd name="adj2" fmla="val 100606"/>
                <a:gd name="adj3" fmla="val 16667"/>
              </a:avLst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360680" y="1676520"/>
              <a:ext cx="232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Scheduler/RealTim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7601040" y="5005440"/>
            <a:ext cx="5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589520" y="5477040"/>
            <a:ext cx="99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orl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6749-D4F5-446C-ABA8-18733BA296D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altime Schedul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tended from Scheduler/Lis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ynchronizes simulation time to real tim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ails when simulation time falls behin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$ns use-scheduler RealTim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6588-4B76-4B65-9937-19BAE66DF7D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etwork Objec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bstraction of real traffic source/sin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ase class for various network typ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pened read-only, write-only, or read-wri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aw IP and UDP/IP network objec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nd/receive raw IP packets or UDP/IP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P multicast suppor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cap network objec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nd/receive link-layer fram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se BPF/libpcap filtering languag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2C6E-199C-4AC3-897D-11FBFE16538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s Primer – Wireless Worl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d hoc rout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Mobile I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Satellite network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6B7C-09F7-46F1-917F-DE7B46C36E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ap Agen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1332000" y="4208400"/>
            <a:ext cx="1666800" cy="76824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bjec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330200" y="2217600"/>
            <a:ext cx="1667160" cy="76860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a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gen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997360" y="2583000"/>
            <a:ext cx="5497200" cy="0"/>
          </a:xfrm>
          <a:prstGeom prst="line">
            <a:avLst/>
          </a:prstGeom>
          <a:ln w="2844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98760" y="2019240"/>
            <a:ext cx="48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s packets:  to/from other nod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79480" y="1816200"/>
            <a:ext cx="7840800" cy="3524040"/>
          </a:xfrm>
          <a:prstGeom prst="rect">
            <a:avLst/>
          </a:prstGeom>
          <a:noFill/>
          <a:ln w="936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177400" y="4870440"/>
            <a:ext cx="5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383000" y="3121200"/>
            <a:ext cx="995400" cy="403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rc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383000" y="3525840"/>
            <a:ext cx="995400" cy="403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s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383000" y="3929040"/>
            <a:ext cx="995400" cy="403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83000" y="4332240"/>
            <a:ext cx="995400" cy="403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userdat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5378400" y="3308400"/>
            <a:ext cx="1074960" cy="1184400"/>
          </a:xfrm>
          <a:prstGeom prst="line">
            <a:avLst/>
          </a:prstGeom>
          <a:ln w="1908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453360" y="3308400"/>
            <a:ext cx="1169640" cy="18828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yloa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382640" y="2570040"/>
            <a:ext cx="995760" cy="550800"/>
            <a:chOff x="4382640" y="2570040"/>
            <a:chExt cx="995760" cy="550800"/>
          </a:xfrm>
        </p:grpSpPr>
        <p:sp>
          <p:nvSpPr>
            <p:cNvPr id="367" name=""/>
            <p:cNvSpPr/>
            <p:nvPr/>
          </p:nvSpPr>
          <p:spPr>
            <a:xfrm flipH="1">
              <a:off x="4382640" y="2582640"/>
              <a:ext cx="484200" cy="538200"/>
            </a:xfrm>
            <a:prstGeom prst="line">
              <a:avLst/>
            </a:prstGeom>
            <a:ln w="9360">
              <a:solidFill>
                <a:srgbClr val="40458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879800" y="2570040"/>
              <a:ext cx="498600" cy="550800"/>
            </a:xfrm>
            <a:prstGeom prst="line">
              <a:avLst/>
            </a:prstGeom>
            <a:ln w="9360">
              <a:solidFill>
                <a:srgbClr val="40458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1162080" y="5838840"/>
            <a:ext cx="19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al network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370" name=""/>
          <p:cNvCxnSpPr>
            <a:stCxn id="355" idx="2"/>
            <a:endCxn id="354" idx="0"/>
          </p:cNvCxnSpPr>
          <p:nvPr/>
        </p:nvCxnSpPr>
        <p:spPr>
          <a:xfrm>
            <a:off x="2163240" y="2985840"/>
            <a:ext cx="2520" cy="1222920"/>
          </a:xfrm>
          <a:prstGeom prst="straightConnector1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71" name=""/>
          <p:cNvCxnSpPr>
            <a:stCxn id="354" idx="2"/>
            <a:endCxn id="369" idx="0"/>
          </p:cNvCxnSpPr>
          <p:nvPr/>
        </p:nvCxnSpPr>
        <p:spPr>
          <a:xfrm flipH="1">
            <a:off x="2158560" y="4976280"/>
            <a:ext cx="7200" cy="862920"/>
          </a:xfrm>
          <a:prstGeom prst="straightConnector1">
            <a:avLst/>
          </a:prstGeom>
          <a:ln w="38160">
            <a:solidFill>
              <a:srgbClr val="ff505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2153520" y="3357720"/>
            <a:ext cx="100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P/UDP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acket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DF6B-C28C-4949-81C3-876C5AD0823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mulation Mod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tocol mod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imulator interpret/generate live traffi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xisting agents: ICMP ECHO, ICMP Redirect, ARP, TCP NA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paque mod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imulator does not interpret network dat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perations: packet drop/reordering/delay…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3ED3-5D2C-456C-AC05-19C391BEC92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6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tocol Mode: Ping Respond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6436440" y="3549600"/>
            <a:ext cx="538200" cy="5382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3688560" y="2205000"/>
            <a:ext cx="538200" cy="5382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3688560" y="5018040"/>
            <a:ext cx="538200" cy="5382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76" idx="6"/>
            <a:endCxn id="377" idx="3"/>
          </p:cNvCxnSpPr>
          <p:nvPr/>
        </p:nvCxnSpPr>
        <p:spPr>
          <a:xfrm flipH="1" flipV="1">
            <a:off x="4149000" y="2663280"/>
            <a:ext cx="2289960" cy="11545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80" name=""/>
          <p:cNvCxnSpPr>
            <a:stCxn id="376" idx="6"/>
            <a:endCxn id="378" idx="1"/>
          </p:cNvCxnSpPr>
          <p:nvPr/>
        </p:nvCxnSpPr>
        <p:spPr>
          <a:xfrm flipH="1">
            <a:off x="4149000" y="3817800"/>
            <a:ext cx="2289960" cy="12787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381" name=""/>
          <p:cNvSpPr/>
          <p:nvPr/>
        </p:nvSpPr>
        <p:spPr>
          <a:xfrm flipH="1">
            <a:off x="4862520" y="4637160"/>
            <a:ext cx="169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100Mb, 1000m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4862520" y="2765520"/>
            <a:ext cx="169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100Mb, 1000m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968880" y="342576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CMP ECH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esponder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240440" y="1717560"/>
            <a:ext cx="135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nput tap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gen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276440" y="5119560"/>
            <a:ext cx="155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Output tap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gen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2247840" y="2487240"/>
            <a:ext cx="1436760" cy="1276200"/>
          </a:xfrm>
          <a:prstGeom prst="line">
            <a:avLst/>
          </a:prstGeom>
          <a:ln w="284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 flipV="1">
            <a:off x="2233080" y="3793680"/>
            <a:ext cx="1451160" cy="1489320"/>
          </a:xfrm>
          <a:prstGeom prst="line">
            <a:avLst/>
          </a:prstGeom>
          <a:ln w="284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444400" y="3376440"/>
            <a:ext cx="102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al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raffic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33400" y="3402000"/>
            <a:ext cx="1413000" cy="76680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eal Ping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pplicatio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510000" y="1666800"/>
            <a:ext cx="5164200" cy="4384800"/>
          </a:xfrm>
          <a:prstGeom prst="rect">
            <a:avLst/>
          </a:prstGeom>
          <a:noFill/>
          <a:ln w="9360">
            <a:solidFill>
              <a:srgbClr val="40458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097840" y="5556240"/>
            <a:ext cx="5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5A57-C8B9-4D0E-9394-33232AECB91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ing: Step 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tage setu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i="1" lang="en-US" sz="2000" spc="-1" strike="noStrike">
                <a:solidFill>
                  <a:srgbClr val="40458c"/>
                </a:solidFill>
                <a:latin typeface="Courier New"/>
              </a:rPr>
              <a:t># Create simulato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ns [new Simulator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use-scheduler RealTim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Emulator addres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me [exec hostname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Or an arbitrary one (may require ARP support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set me “10.11.12.13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6FAE-2FA0-4191-99D9-58A8E87F86B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ing: Step 2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reate I/O network objec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i="1" lang="en-US" sz="2000" spc="-1" strike="noStrike">
                <a:solidFill>
                  <a:srgbClr val="40458c"/>
                </a:solidFill>
                <a:latin typeface="Courier New"/>
              </a:rPr>
              <a:t># Packet inpu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bpf0 [new Network/Pcap/Live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bpf0 set promisc_ tru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nd0 [$bpf0 open readonly fxp0]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filt “(not ip host $me)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bpf0 filter $fil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i="1" lang="en-US" sz="2000" spc="-1" strike="noStrike">
                <a:solidFill>
                  <a:srgbClr val="40458c"/>
                </a:solidFill>
                <a:latin typeface="Courier New"/>
              </a:rPr>
              <a:t># Packet outpu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ipnet [new Network/IP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ipnet open writeonl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9308-B8EF-4AB0-8FF1-80181085CC2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ing: Step 3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g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Input agen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pfa [new Agent/Tap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pfa network $bpf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Output agen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ipa [new Agent/Tap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ipa network $ipne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ICMP ECHO agen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echoagent [new Agent/PingResponder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7953-9B6B-4BB4-9613-40582E836DA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ing: Step 4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reate network topolog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n0 [$ns node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n1 [$ns node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n2 [$ns node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simplex-link $n0 $n2 100Mb 1000ms DropTai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simplex-link $n2 $n1 100Mb 1000ms DropTai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tach-agent $n0 $pf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tach-agent $n1 $ip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tach-agent $n2 $echoagen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simplex-connect $pfa $echoagen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simplex-connect $ipa $echoagen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47F1-3B93-4848-B6C6-8F7B5997C38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ing: Step 5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ta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# Wait for ping to come in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$ns ru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sul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2000.052ms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± 1.021m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4AB3-76E2-4799-86A4-3D09CA54912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foob" descr=""/>
          <p:cNvPicPr/>
          <p:nvPr/>
        </p:nvPicPr>
        <p:blipFill>
          <a:blip r:embed="rId1"/>
          <a:stretch/>
        </p:blipFill>
        <p:spPr>
          <a:xfrm>
            <a:off x="950760" y="1789200"/>
            <a:ext cx="7705800" cy="454824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04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paque Mode 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(TCP: 10 packet periodic drop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4" name=""/>
          <p:cNvSpPr/>
          <p:nvPr/>
        </p:nvSpPr>
        <p:spPr>
          <a:xfrm>
            <a:off x="2295720" y="446256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ropped SY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2703240" y="4938840"/>
            <a:ext cx="152280" cy="457200"/>
          </a:xfrm>
          <a:prstGeom prst="line">
            <a:avLst/>
          </a:prstGeom>
          <a:ln cap="sq" w="1260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83320" y="354348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CK of SYN+ACK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084920" y="4767120"/>
            <a:ext cx="17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Retransmitted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Y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159520" y="5297400"/>
            <a:ext cx="1143000" cy="381240"/>
          </a:xfrm>
          <a:prstGeom prst="line">
            <a:avLst/>
          </a:prstGeom>
          <a:ln cap="sq" w="1260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167440" y="3903840"/>
            <a:ext cx="1353960" cy="1501560"/>
          </a:xfrm>
          <a:prstGeom prst="line">
            <a:avLst/>
          </a:prstGeom>
          <a:ln cap="sq" w="1260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172480" y="2556000"/>
            <a:ext cx="68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40458c"/>
                </a:solidFill>
                <a:uFillTx/>
                <a:latin typeface="Tahoma"/>
              </a:rPr>
              <a:t>Los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791320" y="2819520"/>
            <a:ext cx="1806480" cy="461880"/>
          </a:xfrm>
          <a:prstGeom prst="line">
            <a:avLst/>
          </a:prstGeom>
          <a:ln cap="sq" w="1260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715000" y="2979720"/>
            <a:ext cx="1076400" cy="1609920"/>
          </a:xfrm>
          <a:prstGeom prst="line">
            <a:avLst/>
          </a:prstGeom>
          <a:ln cap="sq" w="1260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592E-269C-4B5A-ACBD-0AA7E9E9474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ore Examp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~ns/emulate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ample scrip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tocol mode: ~ns/emulate/empaper.tc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paque mode: ~ns/emulate/em3.tc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190F-51DA-4998-84DC-63CF88B90BA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 Hoc Routing 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  <a:ea typeface="Tahoma"/>
              </a:rPr>
              <a:t>–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An Examp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Scenario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3 mobile nod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oving within 670mX670m flat topolog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sing DSDV ad hoc routing protoco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andom Waypoint mobility mod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CP and CBR traffi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ns-2/tcl/ex/wireless-demo-csci694.tc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2A84-1292-4758-ABAE-C76F3E60DF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Goal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Essential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Prim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Wired worl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Wireless worl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Emulat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tiliti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7410-D511-4ACF-A0E9-65FFEDDD08D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Utiliti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cl debugg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opology gener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cenario gener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eb cache trace convert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48B6-513C-485B-B3C6-9ACB99D3192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bugging Your ns Scrip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cl-debug 1.9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http://expect.nist.gov/tcl-debug/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orks with Tcl 8.0.4 and below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nstall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[make distclean] in n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./configure --with-tcldebug=&lt;dir&gt;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k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4D62-6F77-4444-B9AA-2B814976699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bugging Your ns Scrip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sing tcl-debu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sert “debug 1” into your scripts, e.g.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set tcp [new Agent/TCP]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debug 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tcp set window_ 200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hen “debug 1” is executed, ns drops to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vint/ns-2(121): ./ns t.tc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2: lappend auto_path $dbg_librar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dbg2.0&gt;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9618-6BBF-4418-AA53-9CAEB0E5D3D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bugging Your ns Scrip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838080" y="1622160"/>
            <a:ext cx="77724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dbg2.0&gt; h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s [#]           step into procedur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n [#]           step over procedur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N [#]           step over procedures, commands, and argument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c               continu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r               continue until return to caller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u [#]           move scope up level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d [#]           move scope down level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go to absolute frame if # is prefaced by "#"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w               show stack ("where")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w -w [#]        show/set width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w -c [0|1]      show/set compres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b               show breakpoint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b [-r regexp-pattern] [if expr] [then command]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b [-g glob-pattern]   [if expr] [then command]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b [[file:]#]          [if expr] [then command]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if pattern given, break if command resembles pattern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if # given, break on line #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if expr given, break if expr tru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if command given, execute command at breakpoint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b -#            delete breakpoint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b -             delete all breakpoint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50CD-70BE-42FF-B2EE-8CBC7CD4F29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opology Gener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http://www.isi.edu/nsnam/ns/ns-topogen.html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1181160" y="3059280"/>
          <a:ext cx="7378560" cy="3420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1160" y="3059280"/>
                    <a:ext cx="7378560" cy="34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3810-9DEC-4C1C-813C-186D83BCB4C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T-IT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stall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mes with ns-allinon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quire Knuth’s cweb and SG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sag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tm &lt;config_file&gt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ree graph model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lat random: Waxma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-level hierarch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ransit-stu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F209-9DE0-41D9-BF2E-7F6A0C42303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T-ITM: Transit-Stub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2" name=""/>
          <p:cNvSpPr/>
          <p:nvPr/>
        </p:nvSpPr>
        <p:spPr>
          <a:xfrm>
            <a:off x="1585800" y="2835360"/>
            <a:ext cx="2286000" cy="10764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767560" y="2622600"/>
            <a:ext cx="1722240" cy="10350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300400" y="2932200"/>
            <a:ext cx="21420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878200" y="2998800"/>
            <a:ext cx="21420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570040" y="3537000"/>
            <a:ext cx="21456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535800" y="2755800"/>
            <a:ext cx="21420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201840" y="3468600"/>
            <a:ext cx="21456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965240" y="3443400"/>
            <a:ext cx="21456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93000" y="3094200"/>
            <a:ext cx="21420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32440" y="3282840"/>
            <a:ext cx="21456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42" name=""/>
          <p:cNvCxnSpPr>
            <a:stCxn id="434" idx="3"/>
            <a:endCxn id="439" idx="7"/>
          </p:cNvCxnSpPr>
          <p:nvPr/>
        </p:nvCxnSpPr>
        <p:spPr>
          <a:xfrm flipH="1">
            <a:off x="2147400" y="3127320"/>
            <a:ext cx="185040" cy="3499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43" name=""/>
          <p:cNvCxnSpPr>
            <a:stCxn id="439" idx="7"/>
            <a:endCxn id="436" idx="1"/>
          </p:cNvCxnSpPr>
          <p:nvPr/>
        </p:nvCxnSpPr>
        <p:spPr>
          <a:xfrm>
            <a:off x="2147760" y="3476520"/>
            <a:ext cx="455040" cy="943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44" name=""/>
          <p:cNvCxnSpPr>
            <a:stCxn id="434" idx="5"/>
            <a:endCxn id="435" idx="3"/>
          </p:cNvCxnSpPr>
          <p:nvPr/>
        </p:nvCxnSpPr>
        <p:spPr>
          <a:xfrm>
            <a:off x="2482920" y="3126960"/>
            <a:ext cx="427680" cy="673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45" name=""/>
          <p:cNvCxnSpPr>
            <a:stCxn id="436" idx="0"/>
            <a:endCxn id="435" idx="3"/>
          </p:cNvCxnSpPr>
          <p:nvPr/>
        </p:nvCxnSpPr>
        <p:spPr>
          <a:xfrm flipV="1">
            <a:off x="2678040" y="3193200"/>
            <a:ext cx="232560" cy="3438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46" name=""/>
          <p:cNvCxnSpPr>
            <a:stCxn id="438" idx="2"/>
            <a:endCxn id="436" idx="0"/>
          </p:cNvCxnSpPr>
          <p:nvPr/>
        </p:nvCxnSpPr>
        <p:spPr>
          <a:xfrm flipH="1" flipV="1">
            <a:off x="2677680" y="3536640"/>
            <a:ext cx="524160" cy="468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47" name=""/>
          <p:cNvCxnSpPr>
            <a:stCxn id="435" idx="5"/>
            <a:endCxn id="438" idx="1"/>
          </p:cNvCxnSpPr>
          <p:nvPr/>
        </p:nvCxnSpPr>
        <p:spPr>
          <a:xfrm>
            <a:off x="3060360" y="3193920"/>
            <a:ext cx="173880" cy="30888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48" name=""/>
          <p:cNvCxnSpPr>
            <a:stCxn id="440" idx="6"/>
            <a:endCxn id="441" idx="1"/>
          </p:cNvCxnSpPr>
          <p:nvPr/>
        </p:nvCxnSpPr>
        <p:spPr>
          <a:xfrm>
            <a:off x="6307200" y="3208320"/>
            <a:ext cx="558000" cy="1087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49" name=""/>
          <p:cNvCxnSpPr>
            <a:stCxn id="440" idx="6"/>
            <a:endCxn id="437" idx="3"/>
          </p:cNvCxnSpPr>
          <p:nvPr/>
        </p:nvCxnSpPr>
        <p:spPr>
          <a:xfrm flipV="1">
            <a:off x="6306840" y="2950920"/>
            <a:ext cx="261000" cy="2577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50" name=""/>
          <p:cNvCxnSpPr>
            <a:stCxn id="437" idx="5"/>
            <a:endCxn id="441" idx="1"/>
          </p:cNvCxnSpPr>
          <p:nvPr/>
        </p:nvCxnSpPr>
        <p:spPr>
          <a:xfrm>
            <a:off x="6718320" y="2951280"/>
            <a:ext cx="146880" cy="3657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451" name=""/>
          <p:cNvSpPr/>
          <p:nvPr/>
        </p:nvSpPr>
        <p:spPr>
          <a:xfrm>
            <a:off x="1425600" y="4962600"/>
            <a:ext cx="806400" cy="6444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106800" y="4800600"/>
            <a:ext cx="1384200" cy="9270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84200" y="3925800"/>
            <a:ext cx="806400" cy="6447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900000" y="1949400"/>
            <a:ext cx="806400" cy="6444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594400" y="1749600"/>
            <a:ext cx="806400" cy="6444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8200" y="1695600"/>
            <a:ext cx="806400" cy="6444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57" name=""/>
          <p:cNvCxnSpPr>
            <a:stCxn id="438" idx="6"/>
            <a:endCxn id="440" idx="2"/>
          </p:cNvCxnSpPr>
          <p:nvPr/>
        </p:nvCxnSpPr>
        <p:spPr>
          <a:xfrm flipV="1">
            <a:off x="3416040" y="3207600"/>
            <a:ext cx="2677320" cy="37548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754200" y="4048200"/>
            <a:ext cx="21420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319040" y="2260440"/>
            <a:ext cx="21456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682640" y="5165640"/>
            <a:ext cx="21456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995640" y="5016600"/>
            <a:ext cx="21456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931000" y="1978200"/>
            <a:ext cx="21420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867800" y="1897200"/>
            <a:ext cx="21420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417840" y="5110200"/>
            <a:ext cx="21420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807000" y="5326200"/>
            <a:ext cx="21420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66" name=""/>
          <p:cNvCxnSpPr>
            <a:stCxn id="464" idx="6"/>
            <a:endCxn id="461" idx="2"/>
          </p:cNvCxnSpPr>
          <p:nvPr/>
        </p:nvCxnSpPr>
        <p:spPr>
          <a:xfrm flipV="1">
            <a:off x="3632040" y="5130360"/>
            <a:ext cx="364320" cy="943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67" name=""/>
          <p:cNvCxnSpPr>
            <a:stCxn id="461" idx="2"/>
            <a:endCxn id="465" idx="0"/>
          </p:cNvCxnSpPr>
          <p:nvPr/>
        </p:nvCxnSpPr>
        <p:spPr>
          <a:xfrm flipH="1">
            <a:off x="3914280" y="5130360"/>
            <a:ext cx="81360" cy="1962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68" name=""/>
          <p:cNvCxnSpPr>
            <a:stCxn id="464" idx="6"/>
            <a:endCxn id="465" idx="0"/>
          </p:cNvCxnSpPr>
          <p:nvPr/>
        </p:nvCxnSpPr>
        <p:spPr>
          <a:xfrm>
            <a:off x="3631680" y="5223960"/>
            <a:ext cx="283320" cy="1026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469" name=""/>
          <p:cNvSpPr/>
          <p:nvPr/>
        </p:nvSpPr>
        <p:spPr>
          <a:xfrm>
            <a:off x="3510000" y="5338800"/>
            <a:ext cx="54000" cy="2142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 flipV="1">
            <a:off x="3213000" y="5137200"/>
            <a:ext cx="216000" cy="396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1882800" y="5217840"/>
            <a:ext cx="241200" cy="126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895400" y="5230800"/>
            <a:ext cx="135000" cy="2016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4262400"/>
            <a:ext cx="162000" cy="1476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685800" y="4276800"/>
            <a:ext cx="201600" cy="1872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 flipV="1">
            <a:off x="1155600" y="2111400"/>
            <a:ext cx="176400" cy="2016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1034640" y="2352600"/>
            <a:ext cx="282600" cy="414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607000" y="4021200"/>
            <a:ext cx="806400" cy="6444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864400" y="4224240"/>
            <a:ext cx="21420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6064200" y="4276440"/>
            <a:ext cx="241200" cy="126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076800" y="4289400"/>
            <a:ext cx="135000" cy="2016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926400" y="4599000"/>
            <a:ext cx="1384200" cy="9270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815240" y="4815000"/>
            <a:ext cx="21420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237440" y="4908600"/>
            <a:ext cx="21420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626240" y="5124600"/>
            <a:ext cx="21456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85" name=""/>
          <p:cNvCxnSpPr>
            <a:stCxn id="483" idx="6"/>
            <a:endCxn id="482" idx="2"/>
          </p:cNvCxnSpPr>
          <p:nvPr/>
        </p:nvCxnSpPr>
        <p:spPr>
          <a:xfrm flipV="1">
            <a:off x="7451640" y="4928760"/>
            <a:ext cx="364320" cy="943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86" name=""/>
          <p:cNvCxnSpPr>
            <a:stCxn id="482" idx="2"/>
            <a:endCxn id="484" idx="0"/>
          </p:cNvCxnSpPr>
          <p:nvPr/>
        </p:nvCxnSpPr>
        <p:spPr>
          <a:xfrm flipH="1">
            <a:off x="7733880" y="4928760"/>
            <a:ext cx="81360" cy="1962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87" name=""/>
          <p:cNvCxnSpPr>
            <a:stCxn id="483" idx="6"/>
            <a:endCxn id="484" idx="0"/>
          </p:cNvCxnSpPr>
          <p:nvPr/>
        </p:nvCxnSpPr>
        <p:spPr>
          <a:xfrm>
            <a:off x="7451280" y="5022360"/>
            <a:ext cx="283320" cy="1026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488" name=""/>
          <p:cNvSpPr/>
          <p:nvPr/>
        </p:nvSpPr>
        <p:spPr>
          <a:xfrm>
            <a:off x="7867800" y="5270400"/>
            <a:ext cx="161640" cy="10656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 flipV="1">
            <a:off x="8028000" y="4962600"/>
            <a:ext cx="216000" cy="396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90" name=""/>
          <p:cNvCxnSpPr>
            <a:stCxn id="439" idx="3"/>
            <a:endCxn id="458" idx="7"/>
          </p:cNvCxnSpPr>
          <p:nvPr/>
        </p:nvCxnSpPr>
        <p:spPr>
          <a:xfrm flipH="1">
            <a:off x="936000" y="3638520"/>
            <a:ext cx="1060920" cy="4435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91" name=""/>
          <p:cNvCxnSpPr>
            <a:stCxn id="439" idx="3"/>
            <a:endCxn id="460" idx="0"/>
          </p:cNvCxnSpPr>
          <p:nvPr/>
        </p:nvCxnSpPr>
        <p:spPr>
          <a:xfrm flipH="1">
            <a:off x="1789920" y="3638520"/>
            <a:ext cx="207000" cy="15278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92" name=""/>
          <p:cNvCxnSpPr>
            <a:stCxn id="434" idx="1"/>
            <a:endCxn id="459" idx="5"/>
          </p:cNvCxnSpPr>
          <p:nvPr/>
        </p:nvCxnSpPr>
        <p:spPr>
          <a:xfrm flipH="1" flipV="1">
            <a:off x="1501560" y="2455200"/>
            <a:ext cx="830880" cy="5101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93" name=""/>
          <p:cNvCxnSpPr>
            <a:stCxn id="436" idx="5"/>
            <a:endCxn id="464" idx="1"/>
          </p:cNvCxnSpPr>
          <p:nvPr/>
        </p:nvCxnSpPr>
        <p:spPr>
          <a:xfrm>
            <a:off x="2752560" y="3731760"/>
            <a:ext cx="697680" cy="141228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494" name=""/>
          <p:cNvSpPr/>
          <p:nvPr/>
        </p:nvSpPr>
        <p:spPr>
          <a:xfrm>
            <a:off x="2352600" y="1762200"/>
            <a:ext cx="806400" cy="6444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610000" y="1965240"/>
            <a:ext cx="21420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2809800" y="2017440"/>
            <a:ext cx="241200" cy="126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822400" y="2030400"/>
            <a:ext cx="135000" cy="2016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98" name=""/>
          <p:cNvCxnSpPr>
            <a:stCxn id="435" idx="0"/>
            <a:endCxn id="495" idx="4"/>
          </p:cNvCxnSpPr>
          <p:nvPr/>
        </p:nvCxnSpPr>
        <p:spPr>
          <a:xfrm flipH="1" flipV="1">
            <a:off x="2717280" y="2193480"/>
            <a:ext cx="269280" cy="80568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99" name=""/>
          <p:cNvCxnSpPr>
            <a:stCxn id="461" idx="6"/>
            <a:endCxn id="483" idx="2"/>
          </p:cNvCxnSpPr>
          <p:nvPr/>
        </p:nvCxnSpPr>
        <p:spPr>
          <a:xfrm flipV="1">
            <a:off x="4209840" y="5022360"/>
            <a:ext cx="3027960" cy="1087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500" name=""/>
          <p:cNvCxnSpPr>
            <a:stCxn id="440" idx="4"/>
            <a:endCxn id="478" idx="0"/>
          </p:cNvCxnSpPr>
          <p:nvPr/>
        </p:nvCxnSpPr>
        <p:spPr>
          <a:xfrm flipH="1">
            <a:off x="5971320" y="3322800"/>
            <a:ext cx="229320" cy="9021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501" name=""/>
          <p:cNvCxnSpPr>
            <a:stCxn id="437" idx="0"/>
            <a:endCxn id="462" idx="5"/>
          </p:cNvCxnSpPr>
          <p:nvPr/>
        </p:nvCxnSpPr>
        <p:spPr>
          <a:xfrm flipH="1" flipV="1">
            <a:off x="6112800" y="2172960"/>
            <a:ext cx="531000" cy="5832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502" name=""/>
          <p:cNvCxnSpPr>
            <a:stCxn id="437" idx="0"/>
            <a:endCxn id="463" idx="3"/>
          </p:cNvCxnSpPr>
          <p:nvPr/>
        </p:nvCxnSpPr>
        <p:spPr>
          <a:xfrm flipV="1">
            <a:off x="6643800" y="2091600"/>
            <a:ext cx="1256400" cy="6642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503" name=""/>
          <p:cNvCxnSpPr>
            <a:stCxn id="441" idx="5"/>
            <a:endCxn id="483" idx="0"/>
          </p:cNvCxnSpPr>
          <p:nvPr/>
        </p:nvCxnSpPr>
        <p:spPr>
          <a:xfrm>
            <a:off x="7014960" y="3477960"/>
            <a:ext cx="330840" cy="14306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504" name=""/>
          <p:cNvSpPr/>
          <p:nvPr/>
        </p:nvSpPr>
        <p:spPr>
          <a:xfrm>
            <a:off x="4041360" y="5551560"/>
            <a:ext cx="1217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domain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476160" y="2336760"/>
            <a:ext cx="1217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domain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rot="21109200">
            <a:off x="3944520" y="3441600"/>
            <a:ext cx="190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transit-transit link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rot="21545400">
            <a:off x="4832280" y="5041440"/>
            <a:ext cx="190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stub-stub link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D1B6-FFB5-4F90-94BF-0CB169B1DD5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T-ITM: Examp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ransit-stub networ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fig file (e.g., ts1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# &lt;method keyword&gt; &lt;number of graphs&gt; [&lt;initial seed&gt;]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# &lt;# stubs/trans node&gt; &lt;#rand. t-s edges&gt; &lt;#rand. s-s edges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# {&lt;n&gt; &lt;scale&gt; &lt;edgemethod&gt; &lt;alpha&gt; [&lt;beta&gt;] [&lt;gamma&gt;]}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# (average!) number of nodes = 1x2x(1+3x4) = 26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ts 10 47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# 10 graphs, init seed 47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3 0 0   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# 2 stubs per transit node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1 20 3 1.0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# n. of transit domains (pure random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2 20 3 0.5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# n. of nodes per transit domai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4 10 3 0.5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# n. nodes in each stub domai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895B-9533-4F04-85A9-9386ED751057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T-ITM: Examp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u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itm ts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sult: ts1-{0-9}.gb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sult files in SGB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24A9-5C50-4B4A-AAA5-88F008A11477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n Example – Step 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"/>
          <p:cNvSpPr/>
          <p:nvPr/>
        </p:nvSpPr>
        <p:spPr>
          <a:xfrm>
            <a:off x="822240" y="1776240"/>
            <a:ext cx="783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35200" y="1717560"/>
            <a:ext cx="7966080" cy="28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# Define Global Variabl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Courier New"/>
              </a:rPr>
              <a:t># create simulato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set ns [new Simulator]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# create a topology in a 670m x 670m are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set topo [new Topography]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$topo </a:t>
            </a:r>
            <a:r>
              <a:rPr b="1" i="1" lang="en-US" sz="2400" spc="-1" strike="noStrike">
                <a:solidFill>
                  <a:srgbClr val="40458c"/>
                </a:solidFill>
                <a:latin typeface="Courier New"/>
              </a:rPr>
              <a:t>load_flatgrid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 670 67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4300-4FA8-4B1A-AF91-F8633A3840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verters for GT-IT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gb2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vert SGB format to ns config fi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sgb2ns &lt;SGB_file&gt; &lt;OTcl_file&gt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ts2ns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: output lists of transit and stub nod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gb2hi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vert transit-stub information into hierarchical address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sgb2hierns &lt;SGBFile&gt; &lt;TclFile&gt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7D84-8C04-46CC-85D1-D66C7560D08E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verters for GT-IT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rmat of generated ns config fi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proc create-topology {nsns node linkBW}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upvar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$node 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upvar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$nsns n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Create nodes, links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.....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ource &lt;OTcl_file&gt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create-topology ns nodes 1.5Mb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1EDE-8D32-49FA-A226-145B8E34989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e Your Topolog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reate an ns wrapp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Assume you’ve done “sgb2ns ts1-0.gb ts1.tcl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ource ts1.tc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ns [new Simulator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namtrace-config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[open ts1.nam w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create-topology ns node 1.5Mb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 1.0 “exit 0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ru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8" name="">
            <a:hlinkClick r:id="rId2"/>
          </p:cNvPr>
          <p:cNvSpPr/>
          <p:nvPr/>
        </p:nvSpPr>
        <p:spPr>
          <a:xfrm>
            <a:off x="7839000" y="5553000"/>
            <a:ext cx="754200" cy="430200"/>
          </a:xfrm>
          <a:custGeom>
            <a:avLst/>
            <a:gdLst>
              <a:gd name="textAreaLeft" fmla="*/ 27720 w 754200"/>
              <a:gd name="textAreaRight" fmla="*/ 726480 w 754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37854" h="21600">
                <a:moveTo>
                  <a:pt x="0" y="0"/>
                </a:moveTo>
                <a:lnTo>
                  <a:pt x="37854" y="0"/>
                </a:lnTo>
                <a:lnTo>
                  <a:pt x="37854" y="21600"/>
                </a:lnTo>
                <a:lnTo>
                  <a:pt x="0" y="21600"/>
                </a:lnTo>
                <a:close/>
              </a:path>
              <a:path fill="lightenLess" w="37854" h="21600">
                <a:moveTo>
                  <a:pt x="0" y="0"/>
                </a:moveTo>
                <a:lnTo>
                  <a:pt x="37854" y="0"/>
                </a:lnTo>
                <a:lnTo>
                  <a:pt x="36454" y="1400"/>
                </a:lnTo>
                <a:lnTo>
                  <a:pt x="1400" y="1400"/>
                </a:lnTo>
                <a:close/>
              </a:path>
              <a:path fill="darken" w="37854" h="21600">
                <a:moveTo>
                  <a:pt x="37854" y="0"/>
                </a:moveTo>
                <a:lnTo>
                  <a:pt x="37854" y="21600"/>
                </a:lnTo>
                <a:lnTo>
                  <a:pt x="36454" y="20200"/>
                </a:lnTo>
                <a:lnTo>
                  <a:pt x="36454" y="1400"/>
                </a:lnTo>
                <a:close/>
              </a:path>
              <a:path fill="darkenLess" w="37854" h="21600">
                <a:moveTo>
                  <a:pt x="378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54" y="20200"/>
                </a:lnTo>
                <a:close/>
              </a:path>
              <a:path fill="lighten" w="378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54" h="21600">
                <a:moveTo>
                  <a:pt x="11921" y="7301"/>
                </a:moveTo>
                <a:lnTo>
                  <a:pt x="12834" y="7301"/>
                </a:lnTo>
                <a:lnTo>
                  <a:pt x="13217" y="7667"/>
                </a:lnTo>
                <a:lnTo>
                  <a:pt x="22426" y="7667"/>
                </a:lnTo>
                <a:lnTo>
                  <a:pt x="22983" y="8224"/>
                </a:lnTo>
                <a:lnTo>
                  <a:pt x="22983" y="8772"/>
                </a:lnTo>
                <a:lnTo>
                  <a:pt x="24828" y="8772"/>
                </a:lnTo>
                <a:lnTo>
                  <a:pt x="25194" y="8224"/>
                </a:lnTo>
                <a:lnTo>
                  <a:pt x="25934" y="8224"/>
                </a:lnTo>
                <a:lnTo>
                  <a:pt x="25934" y="13376"/>
                </a:lnTo>
                <a:lnTo>
                  <a:pt x="25194" y="13376"/>
                </a:lnTo>
                <a:lnTo>
                  <a:pt x="24828" y="12828"/>
                </a:lnTo>
                <a:lnTo>
                  <a:pt x="22983" y="12828"/>
                </a:lnTo>
                <a:lnTo>
                  <a:pt x="22983" y="14107"/>
                </a:lnTo>
                <a:lnTo>
                  <a:pt x="13400" y="14107"/>
                </a:lnTo>
                <a:lnTo>
                  <a:pt x="13400" y="9877"/>
                </a:lnTo>
                <a:lnTo>
                  <a:pt x="13217" y="9877"/>
                </a:lnTo>
                <a:lnTo>
                  <a:pt x="12834" y="10243"/>
                </a:lnTo>
                <a:lnTo>
                  <a:pt x="11921" y="10243"/>
                </a:lnTo>
                <a:close/>
              </a:path>
            </a:pathLst>
          </a:cu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20C1-5DEC-4EDB-B431-4A8A8208522F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n Example – Step 2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822240" y="1776240"/>
            <a:ext cx="783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73200" y="1744560"/>
            <a:ext cx="83088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# Define standard ns/nam trac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Courier New"/>
              </a:rPr>
              <a:t># ns trac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set </a:t>
            </a:r>
            <a:r>
              <a:rPr b="1" i="1" lang="en-US" sz="2400" spc="-1" strike="noStrike">
                <a:solidFill>
                  <a:srgbClr val="40458c"/>
                </a:solidFill>
                <a:latin typeface="Courier New"/>
              </a:rPr>
              <a:t>tracefd 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 [open </a:t>
            </a:r>
            <a:r>
              <a:rPr b="1" i="1" lang="en-US" sz="2400" spc="-1" strike="noStrike">
                <a:solidFill>
                  <a:srgbClr val="40458c"/>
                </a:solidFill>
                <a:latin typeface="Courier New"/>
              </a:rPr>
              <a:t>demo.tr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 w]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$ns trace-all $tracefd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Courier New"/>
              </a:rPr>
              <a:t># nam trac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set namtrace [open demo.nam w]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$ns namtrace-all-wireless $namtrace 670 67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662C-C46F-4229-B431-288C5E29B8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n Example – Step 3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"/>
          <p:cNvSpPr/>
          <p:nvPr/>
        </p:nvSpPr>
        <p:spPr>
          <a:xfrm>
            <a:off x="822240" y="1776240"/>
            <a:ext cx="783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35200" y="1730520"/>
            <a:ext cx="8308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0458c"/>
                </a:solidFill>
                <a:latin typeface="Courier New"/>
              </a:rPr>
              <a:t># Create God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urier New"/>
              </a:rPr>
              <a:t>set god [create-god 3]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urier New"/>
              </a:rPr>
              <a:t>$ns at 900.00 “$god setdist 2 3 1”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3452400"/>
            <a:ext cx="7772400" cy="25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God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: store an array of the smallest number of hops required to reach one node to an oth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ptimal case against which to compare routing protocol performa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utomatically generated by scenario fi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C1AC-457F-49DB-95DA-F06DBF9D633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n Example – Step 4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"/>
          <p:cNvSpPr/>
          <p:nvPr/>
        </p:nvSpPr>
        <p:spPr>
          <a:xfrm>
            <a:off x="822240" y="1776240"/>
            <a:ext cx="783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73200" y="1744560"/>
            <a:ext cx="830880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Courier New"/>
              </a:rPr>
              <a:t># </a:t>
            </a:r>
            <a:r>
              <a:rPr b="0" i="1" lang="en-US" sz="2000" spc="-1" strike="noStrike">
                <a:solidFill>
                  <a:srgbClr val="40458c"/>
                </a:solidFill>
                <a:latin typeface="Courier New"/>
              </a:rPr>
              <a:t>Define how a mobile node should be created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$ns </a:t>
            </a:r>
            <a:r>
              <a:rPr b="1" i="1" lang="en-US" sz="2000" spc="-1" strike="noStrike">
                <a:solidFill>
                  <a:srgbClr val="40458c"/>
                </a:solidFill>
                <a:latin typeface="Courier New"/>
              </a:rPr>
              <a:t>node-config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\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-</a:t>
            </a:r>
            <a:r>
              <a:rPr b="1" i="1" lang="en-US" sz="2000" spc="-1" strike="noStrike">
                <a:solidFill>
                  <a:srgbClr val="40458c"/>
                </a:solidFill>
                <a:latin typeface="Courier New"/>
              </a:rPr>
              <a:t>adhocRouting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DSDV 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\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-</a:t>
            </a:r>
            <a:r>
              <a:rPr b="1" i="1" lang="en-US" sz="2000" spc="-1" strike="noStrike">
                <a:solidFill>
                  <a:srgbClr val="40458c"/>
                </a:solidFill>
                <a:latin typeface="Courier New"/>
              </a:rPr>
              <a:t>llType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 LL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\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-</a:t>
            </a:r>
            <a:r>
              <a:rPr b="1" i="1" lang="en-US" sz="2000" spc="-1" strike="noStrike">
                <a:solidFill>
                  <a:srgbClr val="40458c"/>
                </a:solidFill>
                <a:latin typeface="Courier New"/>
              </a:rPr>
              <a:t>macType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 Mac/802_11 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\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-</a:t>
            </a:r>
            <a:r>
              <a:rPr b="1" i="1" lang="en-US" sz="2000" spc="-1" strike="noStrike">
                <a:solidFill>
                  <a:srgbClr val="40458c"/>
                </a:solidFill>
                <a:latin typeface="Courier New"/>
              </a:rPr>
              <a:t>ifqLen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 50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\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-</a:t>
            </a:r>
            <a:r>
              <a:rPr b="1" i="1" lang="en-US" sz="2000" spc="-1" strike="noStrike">
                <a:solidFill>
                  <a:srgbClr val="40458c"/>
                </a:solidFill>
                <a:latin typeface="Courier New"/>
              </a:rPr>
              <a:t>ifqType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 Queue/DropTail/PriQueue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\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-</a:t>
            </a:r>
            <a:r>
              <a:rPr b="1" i="1" lang="en-US" sz="2000" spc="-1" strike="noStrike">
                <a:solidFill>
                  <a:srgbClr val="40458c"/>
                </a:solidFill>
                <a:latin typeface="Courier New"/>
              </a:rPr>
              <a:t>antType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 Antenna/OmniAntenna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\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-</a:t>
            </a:r>
            <a:r>
              <a:rPr b="1" i="1" lang="en-US" sz="2000" spc="-1" strike="noStrike">
                <a:solidFill>
                  <a:srgbClr val="40458c"/>
                </a:solidFill>
                <a:latin typeface="Courier New"/>
              </a:rPr>
              <a:t>propType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 Propagation/TwoRayGround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\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-</a:t>
            </a:r>
            <a:r>
              <a:rPr b="1" i="1" lang="en-US" sz="2000" spc="-1" strike="noStrike">
                <a:solidFill>
                  <a:srgbClr val="40458c"/>
                </a:solidFill>
                <a:latin typeface="Courier New"/>
              </a:rPr>
              <a:t>phyType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 Phy/WirelessPhy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\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-</a:t>
            </a:r>
            <a:r>
              <a:rPr b="1" i="1" lang="en-US" sz="2000" spc="-1" strike="noStrike">
                <a:solidFill>
                  <a:srgbClr val="40458c"/>
                </a:solidFill>
                <a:latin typeface="Courier New"/>
              </a:rPr>
              <a:t>channelType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 Channel/WirelessChannel \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-</a:t>
            </a:r>
            <a:r>
              <a:rPr b="1" i="1" lang="en-US" sz="2000" spc="-1" strike="noStrike">
                <a:solidFill>
                  <a:srgbClr val="40458c"/>
                </a:solidFill>
                <a:latin typeface="Courier New"/>
              </a:rPr>
              <a:t>topoInstance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 $top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-</a:t>
            </a:r>
            <a:r>
              <a:rPr b="1" i="1" lang="en-US" sz="2000" spc="-1" strike="noStrike">
                <a:solidFill>
                  <a:srgbClr val="40458c"/>
                </a:solidFill>
                <a:latin typeface="Courier New"/>
              </a:rPr>
              <a:t>agentTrace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 ON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\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-</a:t>
            </a:r>
            <a:r>
              <a:rPr b="1" i="1" lang="en-US" sz="2000" spc="-1" strike="noStrike">
                <a:solidFill>
                  <a:srgbClr val="40458c"/>
                </a:solidFill>
                <a:latin typeface="Courier New"/>
              </a:rPr>
              <a:t>routerTrace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 OFF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\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-</a:t>
            </a:r>
            <a:r>
              <a:rPr b="1" i="1" lang="en-US" sz="2000" spc="-1" strike="noStrike">
                <a:solidFill>
                  <a:srgbClr val="40458c"/>
                </a:solidFill>
                <a:latin typeface="Courier New"/>
              </a:rPr>
              <a:t>macTrace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 OFF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F15F-895C-4235-8FFF-A911AE43057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n Example – Step 5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"/>
          <p:cNvSpPr/>
          <p:nvPr/>
        </p:nvSpPr>
        <p:spPr>
          <a:xfrm>
            <a:off x="822240" y="1776240"/>
            <a:ext cx="783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5200" y="1730520"/>
            <a:ext cx="830880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Courier New"/>
              </a:rPr>
              <a:t># 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Create a mobile node, attach it to the channel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set node(0) [$ns </a:t>
            </a:r>
            <a:r>
              <a:rPr b="1" i="1" lang="en-US" sz="2400" spc="-1" strike="noStrike">
                <a:solidFill>
                  <a:srgbClr val="40458c"/>
                </a:solidFill>
                <a:latin typeface="Courier New"/>
              </a:rPr>
              <a:t>node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Courier New"/>
              </a:rPr>
              <a:t># disable random motion</a:t>
            </a:r>
            <a:r>
              <a:rPr b="1" i="1" lang="en-US" sz="2400" spc="-1" strike="noStrike">
                <a:solidFill>
                  <a:srgbClr val="40458c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$node(0) random-motion 0 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3855600"/>
            <a:ext cx="77724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se “for” loop to create 3 node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for {set i &lt; 0} {$i &lt; 3} {incr i} {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set node($i) [$ns node]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69B0-D2E8-4B40-932C-B0104CF160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8T17:31:36Z</dcterms:created>
  <dc:creator>Haobo Yu</dc:creator>
  <dc:description/>
  <dc:language>en-US</dc:language>
  <cp:lastModifiedBy>Haobo Yu</cp:lastModifiedBy>
  <cp:lastPrinted>1999-06-12T08:44:34Z</cp:lastPrinted>
  <dcterms:modified xsi:type="dcterms:W3CDTF">2000-07-03T16:39:01Z</dcterms:modified>
  <cp:revision>671</cp:revision>
  <dc:subject/>
  <dc:title>ns-2 tutorial for IEC'00 workshop</dc:title>
</cp:coreProperties>
</file>