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65804"/>
        <c:axId val="15166219"/>
      </c:barChart>
      <c:catAx>
        <c:axId val="52565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6219"/>
        <c:crosses val="autoZero"/>
        <c:auto val="1"/>
        <c:lblAlgn val="ctr"/>
        <c:lblOffset val="100"/>
        <c:noMultiLvlLbl val="0"/>
      </c:catAx>
      <c:valAx>
        <c:axId val="15166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65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AA6-5155-4EC8-A3B7-FA7DA0A9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CFA-01C5-46AF-9CDA-6601805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E81-E97E-4BCA-864A-0007406C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AFC-D31F-48C1-83EC-9A734730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46E-4007-453A-9D41-4B0326A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FF4-98EF-460F-8F6E-6AA1B92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F5B-FF7D-486E-9681-8D9184F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AB2-2A31-4A46-906F-941EDC6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3A5-7175-4514-9778-B652FA8B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669-9CF2-4F59-BCE4-0369072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D01-6EED-407A-A36A-ED8A7BC3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CB0-F3FC-4146-A11A-69CF7649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20DB-7656-4D93-890F-AD2E4BEE7F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