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31854"/>
        <c:axId val="71057057"/>
      </c:barChart>
      <c:catAx>
        <c:axId val="21031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57057"/>
        <c:crosses val="autoZero"/>
        <c:auto val="1"/>
        <c:lblAlgn val="ctr"/>
        <c:lblOffset val="100"/>
        <c:noMultiLvlLbl val="0"/>
      </c:catAx>
      <c:valAx>
        <c:axId val="71057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31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88A-6145-4C08-BC78-6D78B331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5DF-20FE-4AC6-AA43-777C6C7C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D10-7EF1-4888-9612-00607B87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FD4-116C-45FB-B5C2-0BE30C34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7B8-77DB-4BAE-A013-777E17CF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207-CB51-4BF3-A47E-6C7FDF58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4BC-9117-4245-814F-F5877448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ACD-4E24-4EDF-80A7-7E58DEB3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677-3E97-4B6E-87F8-F3D39FE2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DA1-E8EA-4173-8561-5BCABAF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444-B5CA-424A-BB08-9374540E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624-A149-4C80-AF7B-B5AD709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86ADA-1319-4CF9-99E7-33F3B6E1F3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