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725994"/>
        <c:axId val="45497966"/>
      </c:barChart>
      <c:catAx>
        <c:axId val="487259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497966"/>
        <c:crosses val="autoZero"/>
        <c:auto val="1"/>
        <c:lblAlgn val="ctr"/>
        <c:lblOffset val="100"/>
        <c:noMultiLvlLbl val="0"/>
      </c:catAx>
      <c:valAx>
        <c:axId val="454979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7259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AF1E-9D4B-4406-95FA-07C30794E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A004-6E39-4DD9-A16D-F299A27E5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0890-49BA-4D65-97EC-D4134A091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553E-24C3-4804-BCFA-ADE3CBD2A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3A6F-F47B-49D5-A579-FF3C4191C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ED12-160B-47F9-86C8-F813D68A5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D6BA-1483-41F3-B3F4-5BC838C71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EA68-880D-432B-9225-A29D1E30B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4828-E99D-48D0-8065-22CDC05AA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81BE-0017-43B9-B091-70313B33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0223-3826-4128-BAD2-27DEDF19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2097-0B77-42F7-AC04-9005838F1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DD7A9A-DA1F-441A-BDF8-77AE8C143FF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