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21183"/>
        <c:axId val="29092082"/>
      </c:barChart>
      <c:catAx>
        <c:axId val="34921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2082"/>
        <c:crosses val="autoZero"/>
        <c:auto val="1"/>
        <c:lblAlgn val="ctr"/>
        <c:lblOffset val="100"/>
        <c:noMultiLvlLbl val="0"/>
      </c:catAx>
      <c:valAx>
        <c:axId val="29092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21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F01-980F-4A82-AA0B-1DFC1BDC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DDC-7D2B-4DE6-91EC-03DCAB05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D73-D945-4E3E-A3DC-5418908A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74A-D9C0-4F9C-8F0F-CBF640D6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FE6-F1FB-4CF9-9628-63761345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824-9FBD-4BB0-8358-43800F3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6AB-5937-462C-9D16-14D5517E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D45-0397-4646-BD29-EDD50452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721-EC9C-4673-8FD8-3ADBDD3E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466-47B4-4322-BF77-BD4AE118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DDA-0A45-4D1E-A6D3-B351D74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B5F-C52C-4AE7-A50B-93C9BD3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31BD7-628A-4572-A099-59B18007E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