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48605"/>
        <c:axId val="12054624"/>
      </c:barChart>
      <c:catAx>
        <c:axId val="24148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4624"/>
        <c:crosses val="autoZero"/>
        <c:auto val="1"/>
        <c:lblAlgn val="ctr"/>
        <c:lblOffset val="100"/>
        <c:noMultiLvlLbl val="0"/>
      </c:catAx>
      <c:valAx>
        <c:axId val="12054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8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B33-58F0-4512-8E1B-BD4F0840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1D0-E00F-49E9-A25F-AEAB8B84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52B-E12C-4310-8723-E015DD61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1A6-F381-4A66-BAF8-E1FCBE7D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E66-9DE7-488A-A73C-49320AE0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07E-1D76-451A-AC70-0AB988B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001-B5D7-49CB-92F9-18DE0BD5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169-2DCB-4FDB-8829-2F85EBE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3A4-7A55-4C2A-8477-3E4F42D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449-4FAF-4E30-BC8E-37AA08C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FF2-4F53-43DC-B0DF-EC7079C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0FD-4BBD-454B-8ECD-4D383AF7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9817B-8B28-4B72-B7F9-9F962AD829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