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2104"/>
        <c:axId val="90320073"/>
      </c:barChart>
      <c:catAx>
        <c:axId val="5992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0073"/>
        <c:crosses val="autoZero"/>
        <c:auto val="1"/>
        <c:lblAlgn val="ctr"/>
        <c:lblOffset val="100"/>
        <c:noMultiLvlLbl val="0"/>
      </c:catAx>
      <c:valAx>
        <c:axId val="90320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BF0-C665-44CE-8E95-973BBC68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F9A-9E55-4540-AE7B-EC5440E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4EB-17C4-4832-ADC7-77358568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577-F464-4FCC-BE05-462E3E5C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61F-8A33-428F-A0CD-6DD85F59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8F3-08C1-4E51-900E-987178BB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B14-C08C-4AAA-99C1-034D2685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330-476D-43D2-AB48-E14E056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CAB-5FD7-4842-8D9E-EEDF2BE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94F-E7D1-4665-9EE3-31382D9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440-6BA5-4C14-BB1F-8831FCB7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D48-ECFE-4D88-9A08-21259E3A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4541-A6ED-43F5-98B4-0DA8F497C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