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14372"/>
        <c:axId val="54768953"/>
      </c:barChart>
      <c:catAx>
        <c:axId val="17814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68953"/>
        <c:crosses val="autoZero"/>
        <c:auto val="1"/>
        <c:lblAlgn val="ctr"/>
        <c:lblOffset val="100"/>
        <c:noMultiLvlLbl val="0"/>
      </c:catAx>
      <c:valAx>
        <c:axId val="54768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14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DA9-78AF-4D02-AC86-E8E821A5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664-6292-4ED6-A065-C7AB7EBA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146-A57C-4119-B591-83F253F2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5B8-DA11-42C7-8291-A7F7341A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52A-6E33-4621-9188-88812B0F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2F4-608C-4F90-8FC5-B782BC16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BC0-E254-4A4D-B185-8ED25F89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0D7-0233-431D-9FFF-985C1EC7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E3C-A159-4411-A9E4-3E390B5E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F9A-9B99-484A-85D0-4A28251D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BD2-7020-4ADE-A79A-C2EE0B73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35D-7452-4458-B8D7-BA7F600A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E52B5-F6E7-44A2-8FD9-9514D1A4EF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