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05150"/>
        <c:axId val="18114851"/>
      </c:barChart>
      <c:catAx>
        <c:axId val="592051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14851"/>
        <c:crosses val="autoZero"/>
        <c:auto val="1"/>
        <c:lblAlgn val="ctr"/>
        <c:lblOffset val="100"/>
        <c:noMultiLvlLbl val="0"/>
      </c:catAx>
      <c:valAx>
        <c:axId val="18114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051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D4A-9091-4810-84E4-72DDA2C2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7F8-2ECA-41C2-958E-F1AE2627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B22-EC77-4347-B39E-460D05F9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A4A-4ACD-46BA-9EE4-1A3F369D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175-6C6B-4B9B-9773-7140B998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BC5-A53C-4BED-BBEB-74CB8987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32D-A938-4104-99CB-D76EB7AF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489-0788-4F1A-826D-32E8B1DE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479-73CC-4B51-BAAD-9258AEA6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B13-E887-4890-9A3B-1DFE3B22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FE0-7524-4282-AD53-64A365C7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C37-665C-4CA0-9B74-C3E2DFEE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BA8FB-88F2-4672-B77F-19F1912F2A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