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A5D8E7-69EA-4B7A-86AA-8886A66052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8ADD24-98A6-464D-9A7D-AEC6DA0C79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CE3290-B699-479C-9E06-31A0F54B93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A73D60-88AB-47D5-8C3C-CD5562C320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91CDC83-DD9B-4B3B-96B7-EEFCF3DBD69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A19C7C-D82D-403D-B8B2-3F63AA1B63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2EE5EC-E67E-4AE3-B7C6-56A8C72BE6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123D5E-5184-4016-9EAA-E9CB859036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129A96-8943-460A-B64A-F324839F29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3FA68C-C793-4497-8BFA-5C242E3604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BD2366-28AE-4BAB-8BA9-834F5081AC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951ABC-6078-47A9-9B03-B3F3CDEABF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E9A1CF-0CD5-4E7E-B7F0-4659A3E5A6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CFC94C-1C30-4787-A2D8-B19E58CC31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359B64-5569-42F0-88F7-35A77151F3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3693D9E-E7F9-448A-8F6B-C53B0E687E9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071E96A-28B2-46D4-9FDB-A31EC010AEB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FEC361-FC8E-4CC1-92C9-3761EF3492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4A1AB9-309E-4327-9B89-227D4BDED1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2075F6-59BF-48BE-B95E-08C6AE10CC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FFF1F9-7143-4F3B-A612-034AC9E7B8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521795-E12C-450E-90C2-4AAFF4E581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E7E643-7774-4460-B31F-54AD84FB51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6F9540-5A78-420F-8106-B1D2122C954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AB2E22-5F5E-4E2D-A2D7-F57D89A4DA0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B0FC10-ED27-4A1F-8D72-34889C43B39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A94874A-8C7A-4581-8D8B-3ABBF9C0F8A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A0AD423-F8F3-441A-B68E-3197B3B77636}"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32FD0B-5A03-4EF3-AB02-9BB3A41D0921}"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98E9E2-3F51-4D0B-BAC1-A84AAD211371}"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739EBD-74D3-4C7E-A491-B270235A93A9}"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7D0E78-59B6-4437-AA13-CEC4EB4D807A}"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49FEE6-A6F6-4E6D-A42B-A0ABADAB5C3A}"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64DA23-45F0-46D9-BE29-D610DF7A12F8}"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E63B63-AA62-452A-9704-9F613946F341}"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1225C6-B275-4AB2-A025-213E1A17DBBA}"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D08F4C-B3DD-4284-B403-1D2F414D62FF}"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C34E6D-249E-44C1-8048-9EB4FD112F91}"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AD7EC4-EC21-4804-B97D-D3A8D3B51790}"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C0A08B-27C7-4243-ADE9-E00D26B449AF}"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9987F7-6253-462F-9672-19A27011B9E0}"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6BE51C-815C-4E29-9532-5BF9A8F8E41B}"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4A22D7-286D-4B8C-B092-F906F5998799}"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65488D-86B0-4DA5-9E61-9E99EFA85532}"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5417A5-9E13-4D78-91F3-0AA7ABE8E4F3}"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821218-75F9-4F9D-8458-E66ABDD3C3EC}"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F4875F-5082-4197-B304-503C3390B1D6}"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E7B5DE-F354-4782-8AA3-7703E056C3CB}"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BBB4EA-5884-4684-BDBE-76BF82C5F48F}"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6BA5A2-2E99-4C96-B4EF-D334ACDD08BC}"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24C900-38E8-43DF-AED8-F7019877D362}"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D80B96-48B7-41B2-B3FB-E92AC59C196B}"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E5C5C4-69B1-4999-8981-0D6308132EED}"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A18F5F8-5D62-4B3F-918C-17522B2B5663}"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7FA044-F3A1-46CF-B680-66F643680C1A}"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10CEE4-15DC-4186-9305-A9EF66F9193B}"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A22535-1650-4319-89AC-3101F109AF38}"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4C3354-40FB-467F-ABDC-85C49E1C399C}"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F17E93-3BBF-4876-87BF-2BAB25069FE7}"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076D7D-2FDB-499A-9928-9ECFFEB35592}"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F0108A-30F2-4AE4-9E19-587A890DF557}"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AE3A3F-45EE-47FD-B862-2E225E69D4EB}"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9C2CE5-F4F2-4451-994A-3ADBBFC6647C}"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E0DF81-4F70-403B-99BA-596A582EB680}"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335820-1786-460C-9001-56402FC926BE}"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5DE7F8-249D-4055-813A-DEA9D2B6102D}"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6A7CD9-3D0C-49F7-BA9B-21A2DA7239F7}"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9B07D4-3F2C-4977-AD65-0D32D87D57AC}"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F48D33-94E2-486B-BA0A-5CC4E3339113}"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7B6DAE-CA32-4A30-86DE-25C8E522EF5C}"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317B9D-77C2-4E88-9B70-F37612B4E9F2}"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4F6D17-A120-4750-8F0F-173C8BC0D58A}"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780676-0C3A-4D08-B2B1-06A0C77C590F}"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62FF70-CCD9-4467-B983-5960D86C7448}"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055A749-8368-41AD-AB20-996CC2D705CB}"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F0D5B9-EF1A-4897-971A-6B806B9259A6}"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FF0594-FF2E-45CD-9229-AE3773A5C242}"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8C51322-757C-43E9-8C8D-D233C67AFDE1}"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53E4A9-441A-4EE5-91CA-07F62262AEB6}"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A5ADAF-8B0D-4D13-A0BF-5567C80D9183}"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3BD0F6-8081-4459-8D08-AA8FFADA2D09}"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59D49C-2055-41D0-8C35-798A1C61084E}"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6713EF-3159-4126-8BEB-254A9BB78305}"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F86A25-A6D9-4604-AA14-92380E418B71}"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96858C-B72D-43D5-94B6-A68730787164}"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7F9B479-865B-4EBC-8BB0-9B517CBE6E93}"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39D340-84F2-4EB3-9EDE-D10AD000E62D}"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4CC42A-72F1-4A9E-948B-0837A784FFF6}"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E3D8EF-4E11-4206-A6E9-4AD2EA842A4E}"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5982A9-7B4E-4AA9-81DA-A96DD8F759C0}"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1AE004-B144-4D72-B0A2-020EA8719B44}"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9180D39-FB23-4226-B1F1-BF878A288F75}"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304E30-3BB8-40A4-A077-4211A181E1DE}"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D5A162-E4A5-4F8E-A41D-C69BD3FE0549}"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F1292D-1232-4DED-B443-FC6098D77D2A}"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A59F5F-D220-4AB0-B714-72A80D7F05C4}"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DE9E9CD-21B3-4D26-BB46-E4C241630C29}"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B90478-637B-46E3-A1EC-DA29A416BE61}"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C0A598-7156-4BE7-9B6B-0A87DB882F53}"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EC513B-AE5B-4855-8EAB-2127B64AF626}"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305976-0A72-4FCF-9E57-6D7906B27CEC}"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AD81B3-A6E3-45B2-9B3D-CD0BAC941E9C}"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45EA24-4C2F-4E41-8160-6189713EB2A7}"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C7166C7-FF96-4882-9FBD-7E94DE358DD7}"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40C848-5C6F-4A9E-BB91-3BDF76E0428F}"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BC216E-35C7-4597-A219-7363B95E5740}"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333736-0C25-40A6-95C5-D3B28332C445}"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1C0E22B-0E94-4A71-9291-C8D15FF5BB6F}"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4B80C0-5838-43C8-BB18-64E3D01008AB}"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FAA4BEA-1817-4DE3-81A7-32E9BFE63467}"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7D3E34-5857-4D20-A1FD-2E2E5A66EFE4}"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B1B3FE-630F-4082-AEDD-B760E1078143}"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6DFCF2-8B0B-468F-AB40-4B5B45D671A2}"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31BED0-F860-47E0-A5C4-A1F3642C9001}"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1D54E6-F1C6-42DC-BF52-BCE6BE4D096E}"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D39E8E-CFAC-4D80-BBB8-4FD03EBDE65B}"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CD4AD9-061E-44F6-BBB1-5B046A36E4BD}"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02D47B-5C9D-405D-9612-E0143B69A9AD}"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EE60F5-D596-4683-8577-1A7B76B37774}"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48A967-D569-4517-8C31-1C2E7C534522}"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75D1BD-7D44-46BF-9719-B8DB4A0A1D65}"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D895E5-4D5B-4CF5-9EB1-30B222DF76FB}"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C3125D-1191-44AF-B910-EF187B49D053}"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029B77-FA54-405F-AB4E-1902DAE1715B}"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841560-31A7-4F7D-B27F-65246396A116}"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A750C0E-81F4-47C3-8086-6C76B9743DEE}"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5A09CA-BE5E-4B5C-96B2-21EFD14EE6F5}"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0EAF91-AD17-4B3C-9E43-F03C0CC4430D}"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689A3F-CFFB-4FD3-88B4-0D2F99A6384E}"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07E9BB-91F0-4DB0-9F11-B9B0F6956A0B}"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699017-975A-454A-B3E0-70AD16C27B9A}"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E3AC27-91E1-4F39-A5BD-DDE0E93073F8}"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7471F4-9A24-48B9-8EA0-CB2A0B9036C3}"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6FA9B4-D172-4281-B2F7-10E9F7C33B6C}"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402B7B-3D25-4D93-903F-8B14F1E20E2F}"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D3868D-94F8-485C-9741-D11E0DF810D4}"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D65D63-54B2-4838-938A-AFC027DF6AD1}"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593012-4382-4ABC-8500-7FF814E34C3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D8A6DD-DA90-4AB1-88FE-20A69C2971C4}"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531F39-4F44-4623-8F25-A65321F4C264}"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FB1FFC-E0AB-4D6C-8BB1-C09E2BB4FC29}"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428D38-94AD-4D40-80B7-EE76CD544F13}"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3B111A-101B-4420-BF26-D1F728E8C8C9}"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0139DB-7284-4C21-92CE-DEDF5D2743F9}"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548003-3A40-4286-943D-C6DECA2C6D64}"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776D5D-E790-41D0-BFE3-7583D566B421}"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237E76-9750-4D6F-A0CE-E27FDA7C80CD}"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C7F456-8500-4A0E-9856-49023602BBE0}"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3E9201-2929-4EEA-ABAA-763CB4B78312}"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2D5CA5-DD36-48F9-AD60-60E45FCCFCEE}"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0DEBD4-3CDF-4834-8736-92EE385DB07E}"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B3E0BB-1969-4F94-BA78-D8124F5BF14A}"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0E3F5D-4B17-4EF2-A7C3-192CAD931746}"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07BC894-D860-4E83-8220-4B77B9A77917}"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50BA94-8075-42FB-BF56-012FAE08E80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56BAF6-D1C0-4B35-82D6-15D6B0F5E86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D08E84-9BE6-4A99-8156-E8A6FE0FCDE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02621C-45EB-404E-8360-1E1823F6F27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67B500-35D4-4F4A-B1EF-83CD8F14C66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D3A11C-493D-4EC2-986F-C20E6525570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C964FC5-2A1D-4D0A-A54B-17CC9A40F17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1DB57A-2E9D-4782-98E5-D691D554698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672E09-7E14-4995-8280-B82AA5A1B9E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71A8D7-81FD-4B3B-A42D-299A8840892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0A734E-2146-40EB-9D81-F727A61A64D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64D823-EBE2-4547-B433-558B6B3D7D9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6B77C9-5E71-42CA-AA20-927D2FAA97C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7BFC93-E9F8-4BD4-AF46-F58B4852C3A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33E16C-9428-426B-95D8-53987BF73C3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F43D60-0BC4-42E5-A2C0-840A6C388EBF}"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7086DC-F71E-4374-BEDF-99F1CB812BA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0CF595-2826-4088-9C34-93467236735D}"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996E26-F942-4999-ACEC-86154230FF1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0CF7D9-4EE0-4153-A33F-5D01970FA5D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21D255-2B58-4E2E-AB0B-69B14BDBEBD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AFCD6D-16AB-40AD-907C-D46592B1557C}"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949972-7BFA-4678-933D-885B9C7ABA08}"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E67C23-454B-470A-8157-535195AE0E30}"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24CB59-4674-485B-B768-6F106CC30E09}"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32FB8E-472A-4817-8979-1B639A79FF51}"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607F8A-A7C2-4501-B9E2-A43A7A2243B7}"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D8E98C-2E40-4002-BB5F-1564A9E62EB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AA7985-C5C0-491C-A2DA-86CBB37ED762}"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3D1752-35FF-4908-8E89-8982C6ADD22E}"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122CA2-F110-4CA5-B6F1-4C25393288D3}"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B1588C-BA94-48B3-B49C-6725A1E0F711}"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508870-8205-4BCE-8C14-CFDD11790D2B}"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592775-8133-441D-9FE9-4C6E55D91181}"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F8EC00-F3A1-4ED0-9A53-7295B9113E7B}"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57253E-BD65-4635-9E1E-CB795BED4319}"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E54C31-E7A8-4A08-A3F8-3F6C4459D483}"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5DE9B2-4BD5-4BC3-A281-29929481E32F}"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C2051A-6E2E-413A-B930-A19DBFCE3E57}"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3B95DA-BF41-4CB7-8A21-522EB1711C77}"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52AA52-DA7E-4993-A50C-544D0C332458}"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9E39C6-7220-4F0B-AC02-A808A6214AD5}"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468CC0-1E00-45EE-8105-6DC6F98FDBF0}"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4BB675-BF2E-44E1-A805-B6BD5FF73FFB}"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2273AF-1446-4C6C-8CF9-FFF560FC8D4A}"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E612BF-1888-4F36-9CF8-5490F993D6CB}"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A40EF7-4FE5-4E48-8E4F-04215F687A15}"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1FB6C47-CC76-4945-8BE0-DD90008B0050}"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CED669-D415-4879-9F43-D29290E1B91B}"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8CB500-9D6F-4C14-A911-7AFB6E77364D}"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76C44F-D2B0-48BA-88E0-5FED4B02C423}"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73C2DB-FEBE-460B-824C-4F76F6D41425}"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6B48C0-34D6-458D-AD8B-2B9695CB7DA6}"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E85BD3-5BC2-4B4C-9ABF-F452880334A0}"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1C4BAE-A79D-48FA-B992-F08545265E94}"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908125-F8B1-4CB6-8C68-B6F03CA7A27A}"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D24FE8C-6ACE-4240-8A4F-274CCBC238D7}"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9A64DE-58B2-409D-B2B9-78DC7A5E78FD}"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B7DCB8-9713-4A7B-A5AF-36177DC97C36}"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22DD37-F8D6-4186-BE8E-CF1C74FCE37E}"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81EFAF-E3C9-4B95-804A-A185981604FC}"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3A7EC1-7848-4164-8262-D76192217ED0}"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DCFD3B-F281-453F-B4F1-F6428A7D4D80}"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14BA0D-B104-4713-858D-2B1AA99CF2F8}"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BCF002-CEE3-48EF-84B5-4F0D336070AA}"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D1C12E-F05C-403C-AB4E-5CE379D9E934}"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BFFA71-8A22-4718-B2A7-E3A4FC97F657}"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665B58-CBAB-4D14-A1F0-5AF2DDB87242}"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B0C076-5328-4A34-A672-C9647AED8644}"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E499F6-4C77-4EB5-BE09-F75A93E25168}"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F801A5-8560-492D-A92E-8FBE41DF35C1}"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6389CC1-204B-4F10-A8BF-E225F1F87BFD}"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2E941E-28A7-42A4-BA85-EA7B344C43EA}"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4880C3-A6BD-4ABE-8C19-E828CD351B23}"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BE33DF-095C-4985-BC96-FB10B01674C6}"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DD2714-9B6D-40E8-8120-98302637B1D4}"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005514-2C93-4F2A-A243-FF5DE11FB5FF}"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A66404-8440-4A72-88AC-F67E74CD70DC}"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C2709E-4684-4D64-A44A-47B4DDA02F2A}"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EF2AB2-378C-4C64-AD30-3F1E0EA61879}"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F40DDC-AA99-4AB6-983B-9FE00043DBCC}"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CD94E2-69E7-4B78-B4C7-DAA7E4CDABAD}"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F2DDC9-5FC6-47FF-B5A5-62DB99C94156}"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F26DE9-8A3D-4DBF-A792-CAEA12505B78}"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6E480E-6690-4508-A10F-3A67D8D77415}"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