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4F4D7E-5A5D-4CEE-9377-EA08678C72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C4165E-9ACE-4D32-9122-06B34A45422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88F99F-3BB5-4785-B093-B4528CF2471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80E72B-28AF-4F21-A337-4EEF4B5EE1C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BDA9AB-8D78-4740-B1C8-1EF15AE4912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2A76BE-2F7E-4255-8300-5A584DA764D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5C8D41-ED47-4883-985D-1D273BF302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E8855B-0ED3-449E-A31F-BD060C24CDE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071AA4-E64B-42A0-9622-9C3D667811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EB106F-233F-46E8-AD5A-EB9FAC89D1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37C3FD-A771-4F88-8E5D-CE16152589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0B0275-B6FA-4F9E-A5A3-236910DBDD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487A0-4CFB-4D97-8A87-A4B1095968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093680" y="1733400"/>
            <a:ext cx="312840" cy="495360"/>
            <a:chOff x="1093680" y="1733400"/>
            <a:chExt cx="312840" cy="495360"/>
          </a:xfrm>
        </p:grpSpPr>
        <p:sp>
          <p:nvSpPr>
            <p:cNvPr id="41" name=""/>
            <p:cNvSpPr/>
            <p:nvPr/>
          </p:nvSpPr>
          <p:spPr>
            <a:xfrm>
              <a:off x="1171800" y="173340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1249920" y="187488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132200" y="20872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249920" y="20872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093680" y="19810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758960" y="166680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797120" y="172872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882880" y="2038320"/>
            <a:ext cx="52380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758960" y="233352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084400" y="229716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376280" y="1914480"/>
            <a:ext cx="3762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600200" y="135252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200" y="2266920"/>
            <a:ext cx="990720" cy="304920"/>
          </a:xfrm>
          <a:custGeom>
            <a:avLst/>
            <a:gdLst>
              <a:gd name="textAreaLeft" fmla="*/ 154800 w 990720"/>
              <a:gd name="textAreaRight" fmla="*/ 866880 w 99072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583240" y="19051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621400" y="20541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872320" y="2535120"/>
            <a:ext cx="63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5591160" y="2572920"/>
            <a:ext cx="110016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Document"/>
          <p:cNvSpPr/>
          <p:nvPr/>
        </p:nvSpPr>
        <p:spPr>
          <a:xfrm>
            <a:off x="4651200" y="41799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10160" y="419256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3822840" y="4446720"/>
            <a:ext cx="312480" cy="501480"/>
            <a:chOff x="3822840" y="4446720"/>
            <a:chExt cx="312480" cy="501480"/>
          </a:xfrm>
        </p:grpSpPr>
        <p:sp>
          <p:nvSpPr>
            <p:cNvPr id="61" name=""/>
            <p:cNvSpPr/>
            <p:nvPr/>
          </p:nvSpPr>
          <p:spPr>
            <a:xfrm>
              <a:off x="3900960" y="4446720"/>
              <a:ext cx="15588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979080" y="45900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 flipH="1">
              <a:off x="3861360" y="48049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979080" y="48049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822840" y="469728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"/>
          <p:cNvSpPr/>
          <p:nvPr/>
        </p:nvSpPr>
        <p:spPr>
          <a:xfrm flipH="1">
            <a:off x="4088880" y="4408560"/>
            <a:ext cx="5590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522432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467160" y="536112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24320" y="5905440"/>
            <a:ext cx="11383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538440" y="586908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75120" y="49291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7335720" y="203184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7467480" y="213372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6725880" y="22860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39680" y="201924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33520" y="471600"/>
            <a:ext cx="83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ergency KSK Roll-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3456000" y="1687680"/>
            <a:ext cx="295200" cy="58716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3693960" y="1847880"/>
            <a:ext cx="295560" cy="58752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3394080" y="1459080"/>
            <a:ext cx="636480" cy="10666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700440" y="237348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911320" y="153504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4721400" y="2144880"/>
            <a:ext cx="312480" cy="495000"/>
            <a:chOff x="4721400" y="2144880"/>
            <a:chExt cx="312480" cy="495000"/>
          </a:xfrm>
        </p:grpSpPr>
        <p:sp>
          <p:nvSpPr>
            <p:cNvPr id="83" name=""/>
            <p:cNvSpPr/>
            <p:nvPr/>
          </p:nvSpPr>
          <p:spPr>
            <a:xfrm>
              <a:off x="4799520" y="214488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877640" y="228636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flipH="1">
              <a:off x="4759920" y="24984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877640" y="24984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721400" y="23922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3886200" y="295596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5046840" y="2297160"/>
            <a:ext cx="533160" cy="6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8600" y="1763640"/>
            <a:ext cx="1828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967200" y="2144880"/>
            <a:ext cx="774720" cy="171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4191120" y="2436840"/>
            <a:ext cx="550800" cy="536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200400" y="325764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public ke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4686480" y="2673000"/>
            <a:ext cx="156960" cy="351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Document"/>
          <p:cNvSpPr/>
          <p:nvPr/>
        </p:nvSpPr>
        <p:spPr>
          <a:xfrm>
            <a:off x="4406760" y="3029040"/>
            <a:ext cx="56376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354560" y="306216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5054760" y="2743200"/>
            <a:ext cx="583920" cy="1411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654280" y="56656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664240" y="3441600"/>
            <a:ext cx="1295280" cy="1067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664240" y="42544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121440" y="425916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778360" y="3568680"/>
            <a:ext cx="106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cure Delegation – Parent Zone Activ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rot="5400000">
            <a:off x="6084000" y="2919960"/>
            <a:ext cx="406440" cy="249120"/>
          </a:xfrm>
          <a:custGeom>
            <a:avLst/>
            <a:gdLst>
              <a:gd name="textAreaLeft" fmla="*/ 63360 w 406440"/>
              <a:gd name="textAreaRight" fmla="*/ 355680 w 406440"/>
              <a:gd name="textAreaTop" fmla="*/ 62280 h 249120"/>
              <a:gd name="textAreaBottom" fmla="*/ 186840 h 249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587920" y="3314880"/>
            <a:ext cx="1447920" cy="1904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64240" y="46483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3:07Z</dcterms:modified>
  <cp:revision>154</cp:revision>
  <dc:subject/>
  <dc:title>Slide 1</dc:title>
</cp:coreProperties>
</file>