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815738"/>
        <c:axId val="3702856"/>
      </c:barChart>
      <c:catAx>
        <c:axId val="608157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02856"/>
        <c:crosses val="autoZero"/>
        <c:auto val="1"/>
        <c:lblAlgn val="ctr"/>
        <c:lblOffset val="100"/>
        <c:noMultiLvlLbl val="0"/>
      </c:catAx>
      <c:valAx>
        <c:axId val="37028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8157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307F-7352-4A8B-ABE1-DFA0E4F6F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6243-E966-4B8A-BCE8-FB26682E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94DB-95D2-431A-9C9D-59A8B8DE1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F513-4DEB-4F3B-94FE-489954136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7496-6F81-4495-8DFB-BD63B9A2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B6A6-291D-418E-89C1-2325E673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3F1F-D485-43A3-9DAB-E2FC7DBB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2E9C-DB89-4A6F-A166-777A3176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9027-0309-4D50-86AF-1E97FD9D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0A55-4339-4910-8539-6691BE4F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16A7-0633-4BA7-9AC5-42DE0B18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1399-7A32-4BAA-85D8-8FAAC599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09849D-F5B1-46AF-B193-766A0844D9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