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528752"/>
        <c:axId val="62608912"/>
      </c:barChart>
      <c:catAx>
        <c:axId val="26528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08912"/>
        <c:crosses val="autoZero"/>
        <c:auto val="1"/>
        <c:lblAlgn val="ctr"/>
        <c:lblOffset val="100"/>
        <c:noMultiLvlLbl val="0"/>
      </c:catAx>
      <c:valAx>
        <c:axId val="62608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28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770-5378-4529-ADD3-E25AE179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15E0-945E-4D80-B50C-BA5DEBC3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482-EF9C-401F-BED8-1CA7F1F4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B554-A90C-4891-86D4-42977229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643-9089-4E2F-AB40-68D6AB55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C0B-1AE1-4545-8B6B-9FEA351D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819-0331-407F-9BEC-0B949ECE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AD27-1024-4F43-AF82-791AB720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2A2-6DC8-4DDA-9F6E-F4333BE0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6D7-D7E7-4E9F-A1E9-3C4240E2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165-C437-46BB-A730-993493E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1DB-79FE-405F-8DA1-16C59438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53B6E-6AB9-45FB-B107-14A77A8C2E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