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30934"/>
        <c:axId val="65797019"/>
      </c:barChart>
      <c:catAx>
        <c:axId val="42930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97019"/>
        <c:crosses val="autoZero"/>
        <c:auto val="1"/>
        <c:lblAlgn val="ctr"/>
        <c:lblOffset val="100"/>
        <c:noMultiLvlLbl val="0"/>
      </c:catAx>
      <c:valAx>
        <c:axId val="65797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30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FD9-5FCB-430D-86DE-D167F5D3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27B-F39F-4786-9939-D346CA2F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BCD-43EB-4FCE-A5FA-5C70CB71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A26-ACFF-4314-B8E3-C576C15D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C88-055D-4702-994B-910450E7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34D-D815-4F68-926D-A5FDE4EC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35D-509F-49A3-A5AD-15DABE5E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95B-1FF8-459C-9668-47936483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D4F-FA14-429E-9C33-330BE476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3F7-8FA2-4040-B4CF-9E0E76BA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3AF-BEEC-4592-84CB-D48B5DB6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634-3C67-4170-B429-1663500C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6C323-799D-417E-88DC-5DFCB3F632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