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95698"/>
        <c:axId val="68466890"/>
      </c:barChart>
      <c:catAx>
        <c:axId val="24956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66890"/>
        <c:crosses val="autoZero"/>
        <c:auto val="1"/>
        <c:lblAlgn val="ctr"/>
        <c:lblOffset val="100"/>
        <c:noMultiLvlLbl val="0"/>
      </c:catAx>
      <c:valAx>
        <c:axId val="68466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56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5D1-1D41-40C9-A5FB-A86AD034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00B9-955C-4775-B6AD-12E3B4E8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6B4E-5DB2-4B7E-8951-414BF45E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C40A-AB6C-48D9-A4F5-389AA2696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8909-C2F8-4019-855C-10C53966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1AB-A7A2-4C18-9A3C-1505374A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B0C-48B3-454C-9A15-4315A8DF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0E2-F6A0-4128-B1C9-6AF3F78D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8C8-6898-40B0-8561-8FEEAB99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5C6-4BC6-4050-8507-D3A6F105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D19A-7A5E-4ADD-8719-2E0F5B35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4D7-463D-432B-AC87-9E7A2FAE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28517-DE29-42F4-86CA-1843C3A270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