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2648"/>
        <c:axId val="17758811"/>
      </c:barChart>
      <c:catAx>
        <c:axId val="9742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58811"/>
        <c:crosses val="autoZero"/>
        <c:auto val="1"/>
        <c:lblAlgn val="ctr"/>
        <c:lblOffset val="100"/>
        <c:noMultiLvlLbl val="0"/>
      </c:catAx>
      <c:valAx>
        <c:axId val="17758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2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3D4-C9C6-4615-A6EB-2F351586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2B7-7CD4-409B-B227-9C9D2008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2CE-9293-4E35-B393-3972D5FE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1D7-88AA-4AFD-90B2-898A099B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98F-455C-48D8-88A2-0A31C767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1E06-1B25-449B-9AD4-312D28E8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CCE9-70E2-46AB-9E56-19434654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62BB-5128-4651-8001-77BA8D66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D32-DA5A-439B-8E72-1C0276F8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DA4B-FBBF-429A-80BC-922AEEBF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CF0-7073-4113-A627-6979FBCE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A0C-E5A9-4E2D-87DC-9E4B1F2E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1E87B-B2A6-478F-B175-CE2B17551B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