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19504"/>
        <c:axId val="76975296"/>
      </c:barChart>
      <c:catAx>
        <c:axId val="81919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75296"/>
        <c:crosses val="autoZero"/>
        <c:auto val="1"/>
        <c:lblAlgn val="ctr"/>
        <c:lblOffset val="100"/>
        <c:noMultiLvlLbl val="0"/>
      </c:catAx>
      <c:valAx>
        <c:axId val="76975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19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20B-1E5F-4821-A282-A086ADD0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F17-3FCF-42AC-8034-1FD4222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570-C682-4876-99EC-D4CA2D60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2C6-5BE9-46EF-92A3-4DDF8669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189-57D9-4064-8C73-0903CAD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095-C775-4A96-A750-56B92982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92B-D63C-4067-BF87-6A941EED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782-D40A-4D5B-869E-6C2E541E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B15-9153-454F-989A-B3D4725A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A48-589D-4EFA-9A41-5B8FD35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0B9-2DB9-4304-8BFE-50E6A646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A47-EBB8-47F0-B4A2-ED8C33A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7362C-0ABB-4E4E-892F-3153776910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