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757953"/>
        <c:axId val="3808551"/>
      </c:barChart>
      <c:catAx>
        <c:axId val="377579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8551"/>
        <c:crosses val="autoZero"/>
        <c:auto val="1"/>
        <c:lblAlgn val="ctr"/>
        <c:lblOffset val="100"/>
        <c:noMultiLvlLbl val="0"/>
      </c:catAx>
      <c:valAx>
        <c:axId val="38085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7579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49B1-4926-4B95-8229-6F37E846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5209-B9E4-4C10-A13A-35C07F14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1BF2-39BF-41B4-8F64-EF0959AA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1C4A-619F-4206-B646-AAF61A691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B88E-FAAB-48C5-9D5C-99398C88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DFBA-5189-4F21-9B59-4490E2C2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3BA2-D28C-4F0B-BD2E-47DF514A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A4FA-E1BB-45F9-861F-1287A1F3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1814-28BD-4362-9F5C-7BDE805B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241B-5D08-4A04-886A-79232C31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7A19-C7ED-4233-8176-27AEE9B1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971F-595C-4DC5-871C-6837D2A2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92CCA-1BEF-4C92-A2F9-0012D9916B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