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8586893"/>
        <c:axId val="33876110"/>
      </c:barChart>
      <c:catAx>
        <c:axId val="9858689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876110"/>
        <c:crosses val="autoZero"/>
        <c:auto val="1"/>
        <c:lblAlgn val="ctr"/>
        <c:lblOffset val="100"/>
        <c:noMultiLvlLbl val="0"/>
      </c:catAx>
      <c:valAx>
        <c:axId val="3387611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58689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548B-9375-4CD1-A4C4-D9018F5BF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0EB3-FA6A-47E6-9D3D-6CEF13F76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42F8-1EE2-4892-B6A7-DF8789AB8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D7A3-40EB-4656-9A3D-16D348686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1F1A-F7A3-4C0F-ADA7-F1EF5C15B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8885-2F1A-4957-AD7C-310FA84B0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0063-AC19-4688-9388-FEC46439E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3DEA-57E5-450A-BE75-B47E124DD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7BA2-ECBF-4727-AFA8-997254DBA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8E07-CFB2-4E77-A21F-0E33A3D70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BD7A-FBFB-4C4D-88AE-17E5BDD83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FB7C-C5D3-4836-AFD3-0F7F2D283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255019-DB9D-430F-A395-BE2F937E819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