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98181"/>
        <c:axId val="24405990"/>
      </c:barChart>
      <c:catAx>
        <c:axId val="180981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05990"/>
        <c:crosses val="autoZero"/>
        <c:auto val="1"/>
        <c:lblAlgn val="ctr"/>
        <c:lblOffset val="100"/>
        <c:noMultiLvlLbl val="0"/>
      </c:catAx>
      <c:valAx>
        <c:axId val="24405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981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3F5-36D9-4713-8063-2D69474F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6D64-4534-4EAC-BC63-BF966DE0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49C-6FC0-4D07-8FD0-26537582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4B04-29A6-4060-8B84-BE011DE1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1A8-81CE-4A45-AAEA-F0F80DB6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8D7D-5668-42E7-91ED-F1390996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8FB-40D0-4717-80A0-69970B6C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6AF2-F02F-4369-967A-0640843A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B9D9-BEFF-4894-BE06-7D6D58EE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06C3-93A4-4646-BDE6-5C1BD185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51EE-086B-4B70-95A8-8371A87A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5509-6AD4-4B08-AE4A-8F8CCC5E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23959-9C20-4F3B-86D1-BFCFD8C09A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