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47832"/>
        <c:axId val="99533188"/>
      </c:barChart>
      <c:catAx>
        <c:axId val="99747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33188"/>
        <c:crosses val="autoZero"/>
        <c:auto val="1"/>
        <c:lblAlgn val="ctr"/>
        <c:lblOffset val="100"/>
        <c:noMultiLvlLbl val="0"/>
      </c:catAx>
      <c:valAx>
        <c:axId val="99533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7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29C-7DC1-420F-BDB6-4915C4B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1AA-7F9E-44AA-AFA4-CA7F6892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494-1D5F-4E0E-8A8E-22FB31CC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9A2-652D-4274-83BB-C967FDE8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11A-27FD-459E-8796-665DDED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A37-BCC9-43CE-BD86-051D2E3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6CB-D697-403F-AC25-1892AFF9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E33-57CD-4647-9223-1864292E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75B-144B-4E20-9D94-204677F4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3A3-350A-4E57-B016-EE5380F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15D-B1B0-4791-A4BE-FDA069A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83B-256C-4C8D-AE9C-401A0DB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8B7CA-9806-40BD-8D8B-E15972D3DE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