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29357"/>
        <c:axId val="16652535"/>
      </c:barChart>
      <c:catAx>
        <c:axId val="44429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52535"/>
        <c:crosses val="autoZero"/>
        <c:auto val="1"/>
        <c:lblAlgn val="ctr"/>
        <c:lblOffset val="100"/>
        <c:noMultiLvlLbl val="0"/>
      </c:catAx>
      <c:valAx>
        <c:axId val="16652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29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D0F-9402-4F10-84B5-AA805571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FC4-5A25-496E-9CE2-05E5757D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343-9D12-47C3-8860-1BED1005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7D7-ADB6-44BF-93D9-89B7CD3D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183-B6FE-4355-9B83-A3BCBE6D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472-FB97-44B3-B960-B4E7D119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600-0E42-453C-B887-CE39935B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2BB-9A87-4307-8C2C-19160CC9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2B9-0201-46F1-8F7B-F3B5E18B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B9C-9F9D-4CA1-BFFE-0BE57997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351-200A-4A3A-82BE-35EB4C14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9D6-E61B-4708-967C-9DEBB62F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98BEF-75A4-4178-9C80-259C52DA52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