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324484"/>
        <c:axId val="4970045"/>
      </c:barChart>
      <c:catAx>
        <c:axId val="383244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0045"/>
        <c:crosses val="autoZero"/>
        <c:auto val="1"/>
        <c:lblAlgn val="ctr"/>
        <c:lblOffset val="100"/>
        <c:noMultiLvlLbl val="0"/>
      </c:catAx>
      <c:valAx>
        <c:axId val="49700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244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7BF5-2889-4DFE-A734-2B79A0E8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F340-A09C-4AC9-84DF-3FAA4913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F14D-3C16-4168-BC37-5337F24A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50B5-97EB-47E8-8960-B3228458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8279-8E3E-4ED6-9163-7EE545CA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2E54-A9FD-42BF-ACAB-28AFE76C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D6C2-B4AF-4A0E-A02D-0F55D0E7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7E35-B46E-4574-99AA-98BEE50C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ED9B-6B0D-437E-B313-1151F10E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314D-CB38-412E-80C0-B591DE15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1699-AFC3-4BE8-8E7E-DBFC9B25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B5A2-041B-4EF3-A7AC-4D432949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18B71-8F8D-48FD-ABE7-15D0B26F01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