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504930"/>
        <c:axId val="43890069"/>
      </c:barChart>
      <c:catAx>
        <c:axId val="255049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90069"/>
        <c:crosses val="autoZero"/>
        <c:auto val="1"/>
        <c:lblAlgn val="ctr"/>
        <c:lblOffset val="100"/>
        <c:noMultiLvlLbl val="0"/>
      </c:catAx>
      <c:valAx>
        <c:axId val="43890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049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9438-756A-4902-9114-A4C113F3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379F-507F-468E-A594-93578D05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E3C9-391C-4E24-B6B3-7B82E85C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48C4-70D4-4075-9B86-7ED7214A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B820-0FF4-4941-B61B-F90AACA8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532D-32F5-484F-BCE7-031E2B12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83D1-B5CA-4A47-B48F-549847DA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2F28-B6D9-4B5C-AE9C-3AD8DEDA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E41A-B7B6-4C61-8F14-E7D76C19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CB53-AE9E-4E7E-9315-E0021E3D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365-2F7F-48F2-BC23-20D12D41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6DDD-119B-4A78-ABBB-4941D21B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DFB37-F33B-404E-BC11-5BA08A21F5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