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7468"/>
        <c:axId val="99465741"/>
      </c:barChart>
      <c:catAx>
        <c:axId val="3707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65741"/>
        <c:crosses val="autoZero"/>
        <c:auto val="1"/>
        <c:lblAlgn val="ctr"/>
        <c:lblOffset val="100"/>
        <c:noMultiLvlLbl val="0"/>
      </c:catAx>
      <c:valAx>
        <c:axId val="99465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7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189-9C48-458F-895D-88055D3E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1AE-6363-4641-AC22-F9D3B73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0FD-6378-46D4-A095-FBD749E3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429-C1D9-49D6-ADF5-20B76F01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CDC-7971-42F4-9991-BEB2224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2E9-B050-498D-802E-91001646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38D-CB8B-48FA-99F9-206CE71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8BD-2798-445D-933D-43DF6B98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965-B072-4EA9-8AF7-50D332F2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2DC-9EF8-41B9-85F0-E243E8D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1A9-087C-4090-9440-B0960E9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AB8-BA32-4C7E-9CDA-D541F04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DDA0A-3726-48BE-8CC2-30FEBEA751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