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48896"/>
        <c:axId val="53467398"/>
      </c:barChart>
      <c:catAx>
        <c:axId val="61348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7398"/>
        <c:crosses val="autoZero"/>
        <c:auto val="1"/>
        <c:lblAlgn val="ctr"/>
        <c:lblOffset val="100"/>
        <c:noMultiLvlLbl val="0"/>
      </c:catAx>
      <c:valAx>
        <c:axId val="53467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48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27B-D5EF-439B-80DC-7057EBC6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BFB-DE96-4CA9-9DAC-06491D4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400-6C07-49DF-A245-EF9B96C1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2FF-2401-4ED6-8240-943678B4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9E6-DC77-4A51-814C-6B04B5AA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ED4-922C-4688-B7C9-E9F26D58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3C4-DD6C-47AF-A8B1-1B6864F7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DED-FBC2-4835-B44F-A17AF0F0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53C-57AA-49D9-947D-DE439713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636-8776-4960-BF0A-5FC908C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E50-BDE7-4E14-9DD7-A9A5C06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F3E-B4AD-4010-B64B-2DFC31B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6FA8-8D30-4AF7-ACE5-F8BF2D9BCF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