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760405"/>
        <c:axId val="5407016"/>
      </c:barChart>
      <c:catAx>
        <c:axId val="377604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7016"/>
        <c:crosses val="autoZero"/>
        <c:auto val="1"/>
        <c:lblAlgn val="ctr"/>
        <c:lblOffset val="100"/>
        <c:noMultiLvlLbl val="0"/>
      </c:catAx>
      <c:valAx>
        <c:axId val="5407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604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8C64-F591-4097-97E9-A96B5C97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507F-02D7-4B64-A9EA-18CD8EDA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BB9-0D05-4E71-9143-6C6690531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462B-FD2A-4A5E-B0B2-74BC6A52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A64-B6B6-4E54-977E-483E9397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CE8F-0918-451A-920C-DF8D11B0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81C-69D4-4800-B160-BE0B1FF2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BE1-0F76-419D-86A5-7DEB8249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B57-03D5-478D-8294-7068FDCF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F6EA-072B-40FD-BFC8-44564301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8B3-52C3-4AC2-BEEB-71279D6D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6E5-7282-440D-B4C8-E42891B9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CB32D-656D-4D98-9111-304DFDCFA4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