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38414"/>
        <c:axId val="17835802"/>
      </c:barChart>
      <c:catAx>
        <c:axId val="420384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35802"/>
        <c:crosses val="autoZero"/>
        <c:auto val="1"/>
        <c:lblAlgn val="ctr"/>
        <c:lblOffset val="100"/>
        <c:noMultiLvlLbl val="0"/>
      </c:catAx>
      <c:valAx>
        <c:axId val="178358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384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9773-9797-4F97-9D11-4DD34612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184-C0EF-4A3E-9436-29ABFFB3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38B-9B01-4F3E-80D1-5CD48ADC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F24-D254-41D0-B413-46E1F52D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861-13A2-44E5-BC56-80A628B4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9957-BBBC-4236-846B-D0252B07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8135-682F-4DAF-B9FA-BDAD4CE4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058-CB96-4B3B-B8F6-42CA9F9D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64D-50E7-436D-B656-06790168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281-AE9E-436C-B361-F0342D6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713-554E-4920-85EA-0687DF7B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2CB-D497-4F83-BD3D-599643F0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563BB-8CC0-4E01-B94D-68046F5B8A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