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38615"/>
        <c:axId val="1496741"/>
      </c:barChart>
      <c:catAx>
        <c:axId val="22838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6741"/>
        <c:crosses val="autoZero"/>
        <c:auto val="1"/>
        <c:lblAlgn val="ctr"/>
        <c:lblOffset val="100"/>
        <c:noMultiLvlLbl val="0"/>
      </c:catAx>
      <c:valAx>
        <c:axId val="1496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38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78D-FEF3-4890-9976-D27E70E4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51A-093F-4657-A9C1-B81B70F3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241-A17F-43E4-ACFA-6BD4D7C6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EC7-F1E7-4739-8237-7DD435C5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763-7029-4C18-90CC-791D0970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50E-F828-449F-9017-235AEB6A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AE4-98F0-4780-B25D-D6A91F8A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C5C-BBFC-4AC4-86E7-2B4E1987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C9F-08CF-4882-BAC4-03A99616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EA6-0A0B-4710-9AE3-AA6F01B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E82-C944-42FF-B999-0D3B0A1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3E0-408E-4E9C-B528-D44D03F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C4FC6-0B74-48D2-87FD-3F1C999161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