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06034"/>
        <c:axId val="37787297"/>
      </c:barChart>
      <c:catAx>
        <c:axId val="17706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87297"/>
        <c:crosses val="autoZero"/>
        <c:auto val="1"/>
        <c:lblAlgn val="ctr"/>
        <c:lblOffset val="100"/>
        <c:noMultiLvlLbl val="0"/>
      </c:catAx>
      <c:valAx>
        <c:axId val="37787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06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CB78-BC35-4E2F-BFDF-12CDC2A2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B7B1-C253-439A-8B9F-F00AFF20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613-F4AD-4507-9F42-6EC30173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CA4-1262-4F7A-A4CB-A5ECD7E0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9F32-ACB7-48F9-9E8B-CEE5B16E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32F1-5BFE-4857-B548-C2ACA310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7C2-CA45-46A5-8E73-B3B1687A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C10-B7A2-46A9-9E34-E128540C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CE1-06FA-46D4-8FF2-CB78B0BD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D96-4FE2-4BC7-9A82-7F7E8E60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9B3-73CD-4300-9CDC-B6EB40B7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252-8A68-4328-99AB-461FBB33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85B95-5317-4111-8CE2-73E5F28D58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