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51787"/>
        <c:axId val="45415342"/>
      </c:barChart>
      <c:catAx>
        <c:axId val="41551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15342"/>
        <c:crosses val="autoZero"/>
        <c:auto val="1"/>
        <c:lblAlgn val="ctr"/>
        <c:lblOffset val="100"/>
        <c:noMultiLvlLbl val="0"/>
      </c:catAx>
      <c:valAx>
        <c:axId val="45415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51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C5B-9065-4230-AAB7-6DC290E1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4F7-F4A7-4D53-B440-8423A90F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DED-DC67-4450-AC76-3FEAE7D7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7EA-2B80-4755-A9CD-2EC04469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4A5-F822-4152-8A92-0C188354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708-BDE9-4FF3-BD4E-2A88157E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516-BD7F-458B-B5B3-ACD87F85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E86-6E1C-452C-A732-361588B3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286-FFE8-4A12-8271-63C86FBE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CD8-BB19-4CEC-AAD6-54A745E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D56-5A4F-4339-B64D-578D3728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4B3-61B1-4F12-B0AF-2D0A61D5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87C8F-6650-45C5-990D-1CC14509EB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