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727977"/>
        <c:axId val="76238572"/>
      </c:barChart>
      <c:catAx>
        <c:axId val="827279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238572"/>
        <c:crosses val="autoZero"/>
        <c:auto val="1"/>
        <c:lblAlgn val="ctr"/>
        <c:lblOffset val="100"/>
        <c:noMultiLvlLbl val="0"/>
      </c:catAx>
      <c:valAx>
        <c:axId val="762385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7279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3ED7-C462-453A-9500-A18AA6B1E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3ACA-527F-4916-9DC0-AF397C2C6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1E0B-0C62-457B-B673-4840EF0F4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58FA-6CFE-4AB3-A7C7-6D9C8CB8E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23C7-4890-4645-B0E2-6FAD70B3C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39A2-CB7F-4387-A051-9107A38AA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0715-D8AB-49AD-B447-E3CA952E7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27FB-33CA-48A4-BB17-FCE4D154A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7076-889A-4808-878D-1D5BC6D83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BBA5-C7C4-411B-A4A2-1E1F572C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71F6-6A0A-4D31-A013-3932EDB4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CDD7-C3BD-4FC2-B14A-19902BEB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560F5F-C38D-4BAE-9CCB-51CE5891EC8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